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4A83-CA25-4AD3-84DB-C9F99253F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2E1E-051E-48C0-A3B7-F72F5118F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8437-5BBA-4283-8155-7FB2C88B9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C491-5848-4AA0-81BF-D7A3390B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75A9-5081-4114-9638-0BEE5F41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97A8-555C-4E4D-865A-3FC43C71A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1193-E4CA-438C-A429-AF529B1D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FAC-6A49-4CB7-91CF-35D9D9374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CC5D-83A8-407A-B8BF-CA697A8B0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E369-4FFB-4D36-9F96-5BFF1943E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5325-5195-4159-9220-4EFD658A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491E-7616-47EB-8B89-743969DDF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1B69-A128-4C53-A365-630EC8F2C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CDB2-DCAE-4CC3-A38A-C8DB8E3D3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2B8D-1886-471B-AD69-552F50344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7033-AFB3-4901-9A62-9A9441E11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30FB-690A-417C-A4CA-D0BA7D436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C704-497F-49AA-B87C-98BDC791F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8B98-C22C-4096-94A2-A3B4042A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85B4-8593-4682-9A77-ABFB0E53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6581-43FE-4ABB-9A4F-1547D658F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DD9F-E30A-4003-8C87-AE811D3F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08C7-D4EF-4AD0-8F1F-F257F653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ORTHERN IR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DAY  AT  A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84 SITCOM STARRED BONNIE FRANKLIN, MACKENZIE PHILLIPS, AND VALERIE BERTINEL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-2004 SITCOM'S THEME SONG WAS "I'LL BE THERE FOR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IDAY  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09800" y="762120"/>
            <a:ext cx="7124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.S. HOTEL CHAIN, AFTER MARRI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ORTH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POLA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3434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QUIET  ON  THE  WESTERN  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29 WAR NOVEL WRITTEN BY ERICH MARIA REMAR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TWO LARGEST CITIES BOTH BEGIN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FREUD, IS IT THE ID, EGO, OR SUPER-EGO THAT INCLUDES JUDGMENT, TOLERANCE, AND PLA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84 SITCOM STARRED BONNIE FRANKLIN, MACKENZIE PHILLIPS, AND VALERIE BERTINEL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USSIAN PREMIER KHRUSHCHEV'S FIR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ORTHERN IR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ELTON  JOH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-2004 SITCOM'S THEME SONG WAS "I'LL BE THERE FOR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.S. HOTEL CHAIN, AFTER MARRI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POLA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29 WAR NOVEL WRITTEN BY ERICH MARIA REMAR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TWO LARGEST CITIES BOTH BEGIN WITH THE LETTER "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FREUD, IS IT THE ID, EGO, OR SUPER-EGO THAT INCLUDES JUDGMENT, TOLERANCE, AND PLA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USSIAN PREMIER KHRUSHCHEV'S FIR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38:54Z</dcterms:created>
  <dc:creator>Jennifer Budzinski</dc:creator>
  <dc:description/>
  <dc:language>en-US</dc:language>
  <cp:lastModifiedBy>Erich Friedman</cp:lastModifiedBy>
  <dcterms:modified xsi:type="dcterms:W3CDTF">2020-08-28T09:35:36Z</dcterms:modified>
  <cp:revision>417</cp:revision>
  <dc:subject/>
  <dc:title>Slide 1</dc:title>
</cp:coreProperties>
</file>