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94C3-BAB1-494B-A8C9-7D77A82DD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6B7B-6E3B-48BD-A600-E8F80F074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8C60-8785-414D-823B-2DCB7309C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E0E7-DFB2-4915-8681-A2FA91EC3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2774-9960-4B6E-8214-2E2CAFD40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3EB1-651C-4D5B-874E-1165E2A63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84A3-02A4-4349-B9F0-66CDFCD10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F293-0613-4E42-A96C-67E26DB15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2AA9-D622-4D4A-913E-75AE45681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7254-2057-4505-A5D2-31956ADC2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2BA7-3893-4203-868C-989F1CDC3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4457D-E80D-4113-940D-66375187E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B012-4BDA-4387-99C0-FEFA4DFA1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6854F-B0C6-4C2F-B7F6-23BDA33F5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70B4-C19A-4DA6-90F3-335CA2C4B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FBC6-5E9D-40DE-AC8A-A2E4520A8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72C1-D77D-4692-90E6-1D97CED74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8CED-314F-4FFC-8925-B9CFF6BD0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3B4C-75BE-42FC-A0C9-38D54D2B7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778F-6A0D-4016-A5DB-4D9EA29A4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6CE9-84AC-4E02-A59C-0E20C280A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11AE-6D20-4C66-BD57-7E5330E03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79DA-869B-4923-AF17-BE4C72BEF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ORTHERN IRE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DAY  AT  A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84 SITCOM STARRED BONNIE FRANKLIN, MACKENZIE PHILLIPS, AND VALERIE BERTINEL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-2004 SITCOM'S THEME SONG WAS "I'LL BE THERE FOR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LIDAY  I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09800" y="762120"/>
            <a:ext cx="7124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U.S. HOTEL CHAIN, AFTER MARRIO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ORTH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POLAR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3434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QUIET  ON  THE  WESTERN  FR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29 WAR NOVEL WRITTEN BY ERICH MARIA REMARQ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'S TWO LARGEST CITIES BOTH BEGIN WITH THE LETTER "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FREUD, IS IT THE ID, EGO, OR SUPER-EGO THAT INCLUDES JUDGMENT, TOLERANCE, AND PLA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84 SITCOM STARRED BONNIE FRANKLIN, MACKENZIE PHILLIPS, AND VALERIE BERTINELL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K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USSIAN PREMIER KHRUSHCHEV'S FIR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ORTHERN IRE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ELTON  JOHN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4-2004 SITCOM'S THEME SONG WAS "I'LL BE THERE FOR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U.S. HOTEL CHAIN, AFTER MARRIO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POLAR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1929 WAR NOVEL WRITTEN BY ERICH MARIA REMARQU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'S TWO LARGEST CITIES BOTH BEGIN WITH THE LETTER "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FREUD, IS IT THE ID, EGO, OR SUPER-EGO THAT INCLUDES JUDGMENT, TOLERANCE, AND PLAN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RUSSIAN PREMIER KHRUSHCHEV'S FIR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12:38:54Z</dcterms:created>
  <dc:creator>Jennifer Budzinski</dc:creator>
  <dc:description/>
  <dc:language>en-US</dc:language>
  <cp:lastModifiedBy>Erich Friedman</cp:lastModifiedBy>
  <dcterms:modified xsi:type="dcterms:W3CDTF">2020-08-28T09:35:36Z</dcterms:modified>
  <cp:revision>417</cp:revision>
  <dc:subject/>
  <dc:title>Slide 1</dc:title>
</cp:coreProperties>
</file>