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5C3B-2B3B-4421-971A-01F2D9B5F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EE48-7715-4977-AB04-869A843F9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8682-7487-4FCF-B21E-85BFA57EB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BC79-3F3B-4B0D-A0A7-2A3156451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09FE-39ED-4749-A969-A270E191F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E1AA-848F-4000-B42E-25CFFBFB8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44C6-3DB1-44FA-A432-ABC01459C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09FB-9596-4141-A734-420D18C92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7C2B-A338-40E1-8650-B8BD3F332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1BA0-DA96-4915-BB23-9A6A8E68C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E965-DCA0-49A7-A72A-B4F61CD1F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0EF1-5CD2-4564-9528-DB3EA59AD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AA57-AF10-413C-B93B-2CD467934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ABA8-6185-495C-A1B5-5CE8B810E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B38A-85B6-413D-82E7-8A2EF4EDB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7320-6D29-4EB0-AF05-0A1A418EB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9D38-E317-4265-80CC-20D515848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62CA-A51F-44AF-BA2C-C960D2A03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781F-D5E3-4153-B6B7-24C1D4927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E492-707A-451F-ABD6-07BB77DF6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2304-2DD7-4CBB-8D1E-BD032B66E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00CB-FF43-4E28-A426-EE09860E4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EA17-8A14-479B-9D4F-5B4C95087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NORTHERN IRE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DAY  AT  A 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-1984 SITCOM STARRED BONNIE FRANKLIN, MACKENZIE PHILLIPS, AND VALERIE BERTINELL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I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-2004 SITCOM'S THEME SONG WAS "I'LL BE THERE FOR YO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LIDAY  IN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09800" y="762120"/>
            <a:ext cx="7124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LARGEST U.S. HOTEL CHAIN, AFTER MARRIOT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NORTH  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MMON NAME FOR POLAR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34340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  QUIET  ON  THE  WESTERN  FR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1929 WAR NOVEL WRITTEN BY ERICH MARIA REMARQ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'S TWO LARGEST CITIES BOTH BEGIN WITH THE LETTER "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FREUD, IS IT THE ID, EGO, OR SUPER-EGO THAT INCLUDES JUDGMENT, TOLERANCE, AND PLAN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-1984 SITCOM STARRED BONNIE FRANKLIN, MACKENZIE PHILLIPS, AND VALERIE BERTINELL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K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RUSSIAN PREMIER KHRUSHCHEV'S FIRST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LF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NORTHERN IRE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ELTON  JOHN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-2004 SITCOM'S THEME SONG WAS "I'LL BE THERE FOR YO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71640" y="762120"/>
            <a:ext cx="7200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LARGEST U.S. HOTEL CHAIN, AFTER MARRIOT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MMON NAME FOR POLAR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1929 WAR NOVEL WRITTEN BY ERICH MARIA REMARQU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'S TWO LARGEST CITIES BOTH BEGIN WITH THE LETTER "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FREUD, IS IT THE ID, EGO, OR SUPER-EGO THAT INCLUDES JUDGMENT, TOLERANCE, AND PLANN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RUSSIAN PREMIER KHRUSHCHEV'S FIRST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5T12:38:54Z</dcterms:created>
  <dc:creator>Jennifer Budzinski</dc:creator>
  <dc:description/>
  <dc:language>en-US</dc:language>
  <cp:lastModifiedBy>Erich Friedman</cp:lastModifiedBy>
  <dcterms:modified xsi:type="dcterms:W3CDTF">2020-08-28T09:35:36Z</dcterms:modified>
  <cp:revision>417</cp:revision>
  <dc:subject/>
  <dc:title>Slide 1</dc:title>
</cp:coreProperties>
</file>