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E4E9-6B2A-4AD1-B719-DC6668201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38A4-7B57-473F-A777-CF011B188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69FA-44E2-44AF-9519-78BFE8AAA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45CE-58E1-4866-B584-E6704F5D1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E276-E05C-4843-8669-DBE8EABD1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E573-B253-409E-91AA-00C8AEF4A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C0F8-5827-47A2-98E4-A74BD95B4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A005-B4B6-4C3E-9C95-BF2F3A87F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84E0-9430-49ED-8D35-207419CA0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7279-0386-4DB6-84C4-C9A00AB22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7AE9-F455-4073-BC21-24E9E1738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CA66-51EB-44AC-A545-F3454EDFB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5B57-75DC-4142-9095-877AAC445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9C59-7F36-4243-B530-1AC886BF3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FFD6-8ECF-46E9-9783-B49DCFF1F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B75E-559F-419F-8FC1-5FA28C897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DCEC-68D7-449F-8E81-1964A0BCB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1EF4-72ED-4163-BA78-64424D083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D138-C977-462E-BAF5-56DD05019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9C78-547D-4FFB-B95B-39C41AB54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2F82-46D4-46D4-9A12-2547D586F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2BE7-B710-4004-8686-ACF7EDF1C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5ECC-E516-434D-AFE7-A43A63B12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FOR A MALE ANTELOPE, CARIBOU, HAMSTER, OR SQUIRR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CK)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"SHALLOW HAL" AND "SCHOOL OF R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ILM ABOUT RETIRED CIA OPERATIVES STARRED BRUCE WILLIS, MORGAN FREEMAN, AND HELEN MIR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AISE YOUR GLASS", "TRY", AND "GET THE PARTY STAR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006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CARTOON MASCOTS FOR RICE KRISPIES, WHICH ONE IS ALWAYS MENTIONED L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RANK IN THE U.S. AR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 MORNING DURING THE WEEK OF JULY 7-14 IN PAMPLONA, THERE IS A RUNNING OF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L  (KNIEV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STUNT PERFORMER WHO ATTEMPTED MORE THAN 75 RAMP-TO-RAMP MOTORCYCLE JUM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"SHALLOW HAL" AND "SCHOOL OF R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ICTURED ON THE BACK OF THE U.S. QUARTER FROM 1932 TO 197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FOR A MALE ANTELOPE, CARIBOU, HAMSTER, OR SQUIRR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52480" y="4343400"/>
            <a:ext cx="5639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EY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ILM ABOUT RETIRED CIA OPERATIVES STARRED BRUCE WILLIS, MORGAN FREEMAN, AND HELEN MIRR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AISE YOUR GLASS", "TRY", AND "GET THE PARTY STAR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CARTOON MASCOTS FOR RICE KRISPIES, WHICH ONE IS ALWAYS MENTIONED L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RANK IN THE U.S. ARM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 MORNING DURING THE WEEK OF JULY 7-14 IN PAMPLONA, THERE IS A RUNNING OF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STUNT PERFORMER WHO ATTEMPTED MORE THAN 75 RAMP-TO-RAMP MOTORCYCLE JUM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ICTURED ON THE BACK OF THE U.S. QUARTER FROM 1932 TO 197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3T12:28:15Z</dcterms:created>
  <dc:creator>Jennifer Budzinski</dc:creator>
  <dc:description/>
  <dc:language>en-US</dc:language>
  <cp:lastModifiedBy>Erich Friedman</cp:lastModifiedBy>
  <dcterms:modified xsi:type="dcterms:W3CDTF">2020-08-28T09:36:35Z</dcterms:modified>
  <cp:revision>402</cp:revision>
  <dc:subject/>
  <dc:title>Slide 1</dc:title>
</cp:coreProperties>
</file>