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2F62-C428-45A2-80A2-10D17B1A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9724-695B-47B3-B906-BD755E30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F9B-B1E5-44FC-B32D-DEEAD3C1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5053-5949-4ABC-8401-CB27A4BEF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06C3-0901-4D65-A865-1E3D44543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E758-A22B-43AE-ADFA-D76BA13C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E3C9-7F7E-4086-A68C-D6F17983F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5718-56CF-4961-B4E5-800FF3D38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8A77-0D85-4C59-A3AE-153B56C6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8C1B-F876-4511-ACE6-B5DC49D4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39B-307B-4211-B8A1-000CA9B0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33E5-AF70-4338-A5D1-08534EAED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E642-FD51-4B8C-BCD1-6EDEAAA9A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1DA-58BF-4853-9BC9-C1244998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F36A-7966-4B05-BAB7-44CAB680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704B-1302-4601-86F6-82B8610E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096-DAF7-4D25-8A50-487DEFC0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02B-98D2-46E2-BCBD-B82C5EF7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49D8-1AE5-4664-AC22-F837F08C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C5CD-AE0F-49C0-BF5F-3BA1B35E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6FB9-7BF0-4395-96C8-5B9816F4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35D3-1CD0-4FCA-BA4B-129EF706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E8B3-8D28-44DE-8A88-365CA5E4E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  (KNIEV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SHALLOW HAL" AND "SCHOOL OF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MALE ANTELOPE, CARIBOU, HAMSTER, OR SQUIRR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34340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ABOUT RETIRED CIA OPERATIVES STARRED BRUCE WILLIS, MORGAN FREEMAN, AND HELEN MIR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SE YOUR GLASS", "TRY", AND "GET THE PARTY ST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CARTOON MASCOTS FOR RICE KRISPIES, WHICH ONE IS ALWAYS MENTIONED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U.S.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Y MORNING DURING THE WEEK OF JULY 7-14 IN PAMPLONA, THERE IS A RUNNING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STUNT PERFORMER WHO ATTEMPTED MORE THAN 75 RAMP-TO-RAMP MOTORCYCLE JU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BACK OF THE U.S. QUARTER FROM 1932 TO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2:28:15Z</dcterms:created>
  <dc:creator>Jennifer Budzinski</dc:creator>
  <dc:description/>
  <dc:language>en-US</dc:language>
  <cp:lastModifiedBy>Erich Friedman</cp:lastModifiedBy>
  <dcterms:modified xsi:type="dcterms:W3CDTF">2020-08-28T09:36:35Z</dcterms:modified>
  <cp:revision>402</cp:revision>
  <dc:subject/>
  <dc:title>Slide 1</dc:title>
</cp:coreProperties>
</file>