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A066-FA05-4CB2-BD2A-6A6FE6618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3F96-D766-48C7-A44E-66467ABE3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58A0-40AE-4806-9AD2-EAE9F9757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E88E-497F-4617-BDAD-EB10A800B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68B3-68CB-42D3-AD94-383721718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E92D-DDCE-45AB-84E1-6242FAD24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1CB0-F18C-4C78-A713-D3B7B6844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B6A8-F140-4DF7-A6CA-9AEBA03AA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2BE4-D349-450A-9584-C25CDC580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4163-33A6-487B-8FCB-24FAE1092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F246-E57A-4AF2-B99F-DBD45C555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1CD1-46AA-466F-9527-DEF747326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3D50-2C8D-4095-8C2A-C80D3D1DF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7B48-F0EC-4B63-9708-D6728F0E4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67A3-CCE7-4F48-AE14-35A240FB8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DA4C-0F0C-4CBE-99D7-3E46E4505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B69E-542C-45ED-9EEA-4748CFDDF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825E-A777-480F-AC20-A9C515E76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0C9E-D2EC-4B72-B7A9-FCDB99D0D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4F7A-32F6-4327-BE90-951FA5264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1FFD-3FA3-4C0B-AA35-4E8273A29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448F-77EE-42CB-97EC-5CAD7EDF7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BF75-2737-4A68-B8C8-F99A58BBC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FOR A MALE ANTELOPE, CARIBOU, HAMSTER, OR SQUIRR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ACK)  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STARRED IN "SHALLOW HAL" AND "SCHOOL OF R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FILM ABOUT RETIRED CIA OPERATIVES STARRED BRUCE WILLIS, MORGAN FREEMAN, AND HELEN MIR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AISE YOUR GLASS", "TRY", AND "GET THE PARTY START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0068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CARTOON MASCOTS FOR RICE KRISPIES, WHICH ONE IS ALWAYS MENTIONED L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ST RANK IN THE U.S. AR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 MORNING DURING THE WEEK OF JULY 7-14 IN PAMPLONA, THERE IS A RUNNING OF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EL  (KNIEV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STUNT PERFORMER WHO ATTEMPTED MORE THAN 75 RAMP-TO-RAMP MOTORCYCLE JUM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STARRED IN "SHALLOW HAL" AND "SCHOOL OF RO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ICTURED ON THE BACK OF THE U.S. QUARTER FROM 1932 TO 197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81200" y="762120"/>
            <a:ext cx="7581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FOR A MALE ANTELOPE, CARIBOU, HAMSTER, OR SQUIRR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52480" y="4343400"/>
            <a:ext cx="5639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EY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FILM ABOUT RETIRED CIA OPERATIVES STARRED BRUCE WILLIS, MORGAN FREEMAN, AND HELEN MIRR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AISE YOUR GLASS", "TRY", AND "GET THE PARTY START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CARTOON MASCOTS FOR RICE KRISPIES, WHICH ONE IS ALWAYS MENTIONED L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ST RANK IN THE U.S. ARM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 MORNING DURING THE WEEK OF JULY 7-14 IN PAMPLONA, THERE IS A RUNNING OF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STUNT PERFORMER WHO ATTEMPTED MORE THAN 75 RAMP-TO-RAMP MOTORCYCLE JUMP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ICTURED ON THE BACK OF THE U.S. QUARTER FROM 1932 TO 197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3T12:28:15Z</dcterms:created>
  <dc:creator>Jennifer Budzinski</dc:creator>
  <dc:description/>
  <dc:language>en-US</dc:language>
  <cp:lastModifiedBy>Erich Friedman</cp:lastModifiedBy>
  <dcterms:modified xsi:type="dcterms:W3CDTF">2020-08-28T09:36:35Z</dcterms:modified>
  <cp:revision>402</cp:revision>
  <dc:subject/>
  <dc:title>Slide 1</dc:title>
</cp:coreProperties>
</file>