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165D-C881-40CA-A155-0BD4BC94B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C77F-2F17-49AA-8B67-51679B70F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0353-110C-4ACF-B162-2641DFEC3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3EEC-B42A-43E3-94EB-52EE41A46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0586-62C6-495D-B184-546062B33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AE06-CFE4-45BF-A9CD-82244656A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E70D-5A15-4B14-BE6C-0DA7941B7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3806-1820-46A7-AEE2-EBDBF2011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E648-1937-446A-AE89-DB2E01F63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93B1-DBBE-486A-BEBA-BEDDE3D3E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E951-D3A9-4AA2-924E-E9FFBFE6B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0962-B92D-4ACA-9343-AC15DDABB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7617-B81E-41BD-817E-AC1BD7D87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3951-7EE0-43F1-9B67-155171120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005E-3E1F-4787-9CAB-1C069B5EF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111D-0A19-49D9-9CA6-34710D080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994E-EE90-4C11-B634-D184670BE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086B-8FAB-44F1-A0DD-8EB4DA44E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0BD9-BBE3-4375-B317-14CB3C4F0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E5DD-670A-4E7C-8593-0B73D99E1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00ED-7E9D-45B1-91F0-8132D9518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F808-8C92-423D-A6DE-481C1128C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9CA1-3894-4376-B779-92CE2CD69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LARGEST ENGLISH ENCYCLOPEDIAS WERE KNOWN AS THE ABC'S: AMERICANA, BRITANNICA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28-1961 CHRYSLER MODEL WAS NAMED AFTER THE SPANISH EXPLORER WHO WAS THE FIRST EUROPEAN TO CROSS THE MISSISSIPPI RI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DEE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ST-FOOD BURGER RESTAURANT MERGED WITH CARL'S JR. IN 199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A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MAMMAL IS SOMETIMES CALLED A "SEA C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ROBERT  E.)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  OF THE GENERAL WHO SURRENDERED TO ULYSSES S. GRANT AT APPOMATTO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 PART OF SCOTLAND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O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CITY IN NORTH CAROL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28-1961 CHRYSLER MODEL WAS NAMED AFTER THE SPANISH EXPLORER WHO WAS THE FIRST EUROPEAN TO CROSS THE MISSISSIPPI RIV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TEVE)  MA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COMEDIAN WHO IS ALSO A WORLD-CLASS BANJO PL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LIER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LARGEST ENGLISH ENCYCLOPEDIAS WERE KNOWN AS THE ABC'S: AMERICANA, BRITANNICA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IES  IN  SOUTHERN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ST-FOOD BURGER RESTAURANT MERGED WITH CARL'S JR. IN 199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57480" y="762120"/>
            <a:ext cx="6629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MAMMAL IS SOMETIMES CALLED A "SEA C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  OF THE GENERAL WHO SURRENDERED TO ULYSSES S. GRANT AT APPOMATTO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 PART OF SCOTLAND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CITY IN NORTH CAROL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COMEDIAN WHO IS ALSO A WORLD-CLASS BANJO P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28T09:37:20Z</dcterms:modified>
  <cp:revision>429</cp:revision>
  <dc:subject/>
  <dc:title>Slide 1</dc:title>
</cp:coreProperties>
</file>