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139-1C6C-41E4-9F1A-73EB4BD7F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BECF-35B7-4BD9-A772-68DA6F7C9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133B-56B5-429F-8F82-03444DC28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63B6-0068-4832-8C7F-1AD1B850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8540-A764-41F3-9AEC-E177AB5D0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5DC7-678B-4DE1-8B9B-A46071E9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E922-0D7B-4B9D-91A7-DE6DA5B0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774F-5B86-4445-B6E6-F9EF7E6C9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898E-3FBD-4DC5-B720-E1F9F260C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FB46-8821-4CD5-A949-6FCE9E33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6284-2132-4554-A00D-DBC071BE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0183-C80F-4C21-8BD3-5A68DFA5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588B-27F2-4CC6-9B96-82C6B0A9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537E-B68C-4CC8-B8E5-D9B2DB760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3ED6-E33E-4880-A39D-A694A8433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7C9E-8250-467B-98AC-809831A94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992C-3322-4717-8DB9-F65B9404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9220-9D17-421D-B8FF-8467FD1FA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AC16-98C3-48B7-B718-D2C34CE1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1B8-C432-452F-BFB0-ABB065823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4BFF-3E95-4043-AFA5-6FAD9046C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5D45-5213-4241-BF2C-200A3124C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4CCD-E5A6-4007-BDC7-B9F7E3457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LARGEST ENGLISH ENCYCLOPEDIAS WERE KNOWN AS THE ABC'S: AMERICANA, BRITANNICA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28-1961 CHRYSLER MODEL WAS NAMED AFTER THE SPANISH EXPLORER WHO WAS THE FIRST EUROPEAN TO CROSS THE MISSISSIPPI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DEE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BURGER RESTAURANT MERGED WITH CARL'S JR. IN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A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MAMMAL IS SOMETIMES CALLED A "SEA C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  E.)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OF THE GENERAL WHO SURRENDERED TO ULYSSES S. GRANT AT APPOMATT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 PART OF SCOTLAND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CITY IN NOR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28-1961 CHRYSLER MODEL WAS NAMED AFTER THE SPANISH EXPLORER WHO WAS THE FIRST EUROPEAN TO CROSS THE MISSISSIPPI RI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E)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OMEDIAN WHO IS ALSO A WORLD-CLASS BANJO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IER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LARGEST ENGLISH ENCYCLOPEDIAS WERE KNOWN AS THE ABC'S: AMERICANA, BRITANNICA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IES  IN  SOUTHER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BURGER RESTAURANT MERGED WITH CARL'S JR. IN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MAMMAL IS SOMETIMES CALLED A "SEA C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OF THE GENERAL WHO SURRENDERED TO ULYSSES S. GRANT AT APPOMATT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 PART OF SCOTLAND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CITY IN NOR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OMEDIAN WHO IS ALSO A WORLD-CLASS BANJO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09:37:20Z</dcterms:modified>
  <cp:revision>429</cp:revision>
  <dc:subject/>
  <dc:title>Slide 1</dc:title>
</cp:coreProperties>
</file>