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D8CB-9591-45F0-AE6E-BC7E7F680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4D54-43A1-425B-9BA8-55C8EF09F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817A-76F0-4B4A-B649-749345D22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746F-F25E-43AA-8BAF-6075020E0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692D-81D8-40A5-B3ED-05168689B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F3CF-21B3-4FFD-AA66-0C9E4CF24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6FD0-13FC-4E3F-BDEF-842DEB128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8C0A-1814-45D2-AFC0-D66598633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4AE0-960A-4961-B21F-47D400ECE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41EC-C40A-48E3-BA74-8DCF4D437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0B08-89BC-401F-8C6D-47D485D1A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9C65-F6DC-42BB-B41F-664B427BB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3558-1FF6-4F83-9858-423094B9D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6E41-DBF1-48DF-AAEE-C91395738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05A9-48DE-4590-B1D6-F68F2EE0C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2DB5-DB0F-43B3-B716-E44240972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691B-8FC8-4E6C-B351-E6C58DE70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971C-1314-4CD1-B544-DC9B33EF6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3A64-30D0-48BD-8F24-BEE0FC0D0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092F-8C64-4FA4-B7D6-106A3433C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4494-0781-48EA-A4BB-F59B64419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2E3C-D4AD-4148-A6DE-E7AA431AD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7A04-A27B-48BA-8B22-E3964D545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3 LARGEST ENGLISH ENCYCLOPEDIAS WERE KNOWN AS THE ABC'S: AMERICANA, BRITANNICA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SO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1928-1961 CHRYSLER MODEL WAS NAMED AFTER THE SPANISH EXPLORER WHO WAS THE FIRST EUROPEAN TO CROSS THE MISSISSIPPI RIV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DEE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ST-FOOD BURGER RESTAURANT MERGED WITH CARL'S JR. IN 199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AT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95280" y="762120"/>
            <a:ext cx="6553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INE MAMMAL IS SOMETIMES CALLED A "SEA C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ROBERT  E.)  L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      OF THE GENERAL WHO SURRENDERED TO ULYSSES S. GRANT AT APPOMATTO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GHL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ORTHERN PART OF SCOTLAND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AMES)  MONR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28880" y="762120"/>
            <a:ext cx="7086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O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57480" y="762120"/>
            <a:ext cx="6629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OUS CITY IN NORTH CAROL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1928-1961 CHRYSLER MODEL WAS NAMED AFTER THE SPANISH EXPLORER WHO WAS THE FIRST EUROPEAN TO CROSS THE MISSISSIPPI RIV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TEVE)  MAR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COMEDIAN WHO IS ALSO A WORLD-CLASS BANJO PLAY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LIER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3 LARGEST ENGLISH ENCYCLOPEDIAS WERE KNOWN AS THE ABC'S: AMERICANA, BRITANNICA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NTIES  IN  SOUTHERN  FLO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ST-FOOD BURGER RESTAURANT MERGED WITH CARL'S JR. IN 199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57480" y="762120"/>
            <a:ext cx="6629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INE MAMMAL IS SOMETIMES CALLED A "SEA C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      OF THE GENERAL WHO SURRENDERED TO ULYSSES S. GRANT AT APPOMATTO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ORTHERN PART OF SCOTLAND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OUS CITY IN NORTH CAROLI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COMEDIAN WHO IS ALSO A WORLD-CLASS BANJO PLAY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08-28T09:37:20Z</dcterms:modified>
  <cp:revision>429</cp:revision>
  <dc:subject/>
  <dc:title>Slide 1</dc:title>
</cp:coreProperties>
</file>