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8265B-989C-43D9-AC11-6317118319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507D8-7156-4BAF-A78C-1439CFEBCF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A0905-2A86-4F8D-93D3-B11F2FF277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A4212-6423-496F-AE2B-5A31DD4317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A85C6-F782-4C57-85C1-114EADD30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19995-BF8A-4045-A6BB-1173A15D94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3825E-88B4-4E43-85C7-707EDC1154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FBFCC-789B-4E6D-A59B-592286108E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87CAE-08DA-4B15-85FD-902D326941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D6D4E-0A37-4BAB-AC28-443F0B6129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035A6-4D6C-4724-90EC-F6ECBA9EB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A0EA0-B75D-4AF9-9F6B-C220001492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CA2A2-BF56-4AE7-A70D-E9C3A312DB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245E2-F097-458A-944E-FF551B34D8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21869-A945-48D8-8A51-0EC8C7AA06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0772C-D250-4465-99AB-9F7E46C7D5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1ADB1-0D64-4218-B855-26B610F24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75615-1356-4873-BC48-9466A0D71F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0EDAF-6581-4BE7-8B98-83E755E426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E9318-4D6C-4112-B26F-99FB0FD805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E211B-85AB-4370-950B-5566A89158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94901-DDF7-4107-AD08-21D5FCCB33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E4D8A-3716-4CE7-AF71-4ED4C2D97E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314360" y="1066680"/>
            <a:ext cx="65152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OTBALL 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QUARTERBACK FOR THE TENNESSEE TITANS 2015-2019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838080"/>
            <a:ext cx="82296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533520" y="487692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IS  WINS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361800" y="762120"/>
            <a:ext cx="8420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QUARTERBACK FOR THE TAMPA BAY BUCCANEERS 2015-201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K  INGRAM  J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343080" y="762120"/>
            <a:ext cx="8458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2017, THE SAINTS HAD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RUNNING BACK DUO TO BOTH GAIN 1500 SCRIMMAGE YARDS: ALVIN KAMARA AND WH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19040" y="48769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M  TEB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9536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LY QUARTERBACK UNDER 30 WHO WON A PLAYOFF GAME AND THEN NEVER STARTED ANOTHER NFL G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RRY  SAND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RUNNING BACK FOR THE DETROIT LIONS 1989-1998 AND THE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LAYER TO RUSH FOR 2000 YARDS IN A SEA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914400" y="4876920"/>
            <a:ext cx="7315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M  NEW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14440" y="762120"/>
            <a:ext cx="81151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QUARTERBACK FOR THE CAROLINA PANTHERS 2011-201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295280" y="4876920"/>
            <a:ext cx="6477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. J.  SIMP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380880" y="762120"/>
            <a:ext cx="8382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R RUNNING BACK FOR THE BILLS SERVED 9 YEARS IN PRISON FOR ARMED ROBBERY AND KIDNAPP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38360" y="48769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SON  PALM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QUARTERBACK FOR THE BENGALS, RAIDERS, AND CARDINALS, BUT RETIRED IN 201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QUARTERBACK FOR THE TAMPA BAY BUCCANEERS 2015-2019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GER  STAUB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00280" y="76212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QUARTERBACK OF THE DALLAS COWBOYS 1969-1979 AND LED THE TEAM TO 5 SUPER BOWLS, INCLUDING 2 WI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CUS  MARIO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QUARTERBACK FOR THE TENNESSEE TITANS 2015-2019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0" y="48769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N  THE  HEISMAN  TR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2017, THE SAINTS HAD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RUNNING BACK DUO TO BOTH GAIN 1500 SCRIMMAGE YARDS: ALVIN KAMARA AND WH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LY QUARTERBACK UNDER 30 WHO WON A PLAYOFF GAME AND THEN NEVER STARTED ANOTHER NFL G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RUNNING BACK FOR THE DETROIT LIONS 1989-1998 AND THE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LAYER TO RUSH FOR 2000 YARDS IN A SEAS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QUARTERBACK FOR THE CAROLINA PANTHERS 2011-2019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266760" y="761760"/>
            <a:ext cx="8610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R RUNNING BACK FOR THE BILLS SERVED 9 YEARS IN PRISON FOR ARMED ROBBERY AND KIDNAPP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QUARTERBACK FOR THE BENGALS, RAIDERS, AND CARDINALS, BUT RETIRED IN 2017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QUARTERBACK OF THE DALLAS COWBOYS 1969-1979 AND LED THE TEAM TO 5 SUPER BOWLS, INCLUDING 2 WI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8T16:25:00Z</dcterms:created>
  <dc:creator>Jennifer Budzinski</dc:creator>
  <dc:description/>
  <dc:language>en-US</dc:language>
  <cp:lastModifiedBy>Erich Friedman</cp:lastModifiedBy>
  <dcterms:modified xsi:type="dcterms:W3CDTF">2020-08-28T09:43:02Z</dcterms:modified>
  <cp:revision>469</cp:revision>
  <dc:subject/>
  <dc:title>Slide 1</dc:title>
</cp:coreProperties>
</file>