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384-F49D-4EF7-832C-C06B3D1C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3B3-2F60-413F-B593-D3DC0B07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6B4D-C548-4F68-A772-8ED132E5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D7E-DBF8-4E7E-93D5-7A5216BE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85B8-7655-4B50-8143-A07B2EEA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63DB-690D-431A-A456-15F20EA6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16D-D98C-45C9-A88C-C74CB0EE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7D3-821C-4DC5-ACA5-D7D29DC7B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1B55-C958-46B6-86D2-FD16A1AAB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AC8D-E04F-4958-AC8E-B69C912D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B05-3E3B-43BA-82F7-7D81F75A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B02-6D93-4C7F-82B3-90D8A60C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A493-ED12-40B9-A347-0AD2D31AF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C78-A5F5-408B-8638-D080CD60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CE4-A464-4BA7-B057-A5DB7F2A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F39A-B5C2-4681-8C4C-3248543E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B32-2C75-4553-92CE-E59A7EB8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FBB-99D4-4FC5-BB92-74372FD7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9C7-77B2-42FB-ADD8-41695543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0B4-B211-4A7B-9DA5-4752F625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A6BA-DB47-4CEC-986E-1A815891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C2E-9D57-4A7C-8199-953581D3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79E-0E31-4EAB-8039-C9EAB738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14360" y="1066680"/>
            <a:ext cx="65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IS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INGRAM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TE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MAR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THE  HEISMAN  TR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16:25:00Z</dcterms:created>
  <dc:creator>Jennifer Budzinski</dc:creator>
  <dc:description/>
  <dc:language>en-US</dc:language>
  <cp:lastModifiedBy>Erich Friedman</cp:lastModifiedBy>
  <dcterms:modified xsi:type="dcterms:W3CDTF">2020-08-28T09:43:02Z</dcterms:modified>
  <cp:revision>469</cp:revision>
  <dc:subject/>
  <dc:title>Slide 1</dc:title>
</cp:coreProperties>
</file>