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76C1-33E4-44B1-BF45-E10874901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C80-520B-47B4-8DE4-C2399BAFF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97C8-4196-4A44-A706-F14D3B1BA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839D-D8F7-4DB4-B23B-D17D9B415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64F3-381C-4183-B5FD-C08458467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DDC2-173F-4581-AE57-0754B1CA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C7C4-F09B-401E-9036-F720BC75C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0958-3598-4B06-A587-FB26EB9C7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FD66-BEFF-4983-BF7E-C469BEB1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CE08-B54F-4D08-994F-A83F0B742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311D-878C-4EB1-BBBD-3BAE66D5D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D570-CD5F-4979-AC4C-F5C1695F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643-B59F-42AF-A5A4-FE308F414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36E9-43D4-4248-B49F-B1CB93490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9F93-E0A9-4870-BB35-F43E9AE1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B287-5A86-4CF3-BA1D-66BDB01D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A49A-BF68-4276-A4D0-A3CDD3A12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513B-8E29-431A-9B33-951D06257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511A-6D02-430C-BA76-63F3F742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BB8E-212E-4DF7-8B59-0B0B7C12E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A1C1-CF8C-4EF9-9B0A-37072B8BD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1E4-0B06-446C-BF73-C0263B6B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CD81-F41A-4EF0-AD5C-3E9A2CA2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14360" y="1066680"/>
            <a:ext cx="65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BAL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ENNESSEE TITANS 2015-2019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IS  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INGRAM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THE SAINTS HA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UNNING BACK DUO TO BOTH GAIN 1500 SCRIMMAGE YARDS: ALVIN KAMARA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TE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QUARTERBACK UNDER 30 WHO WON A PLAYOFF GAME AND THEN NEVER STARTED ANOTHER NF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NNING BACK FOR THE DETROIT LIONS 1989-1998 AN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ER TO RUSH FOR 2000 YARDS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RUNNING BACK FOR THE BILLS SERVED 9 YEARS IN PRISON FOR ARMED ROBBERY AND KIDNAPP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FOR THE BENGALS, RAIDERS, AND CARDINALS, BUT RETIRED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STAU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OF THE DALLAS COWBOYS 1969-1979 AND LED THE TEAM TO 5 SUPER BOWLS, INCLUDING 2 W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MARI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ENNESSEE TITANS 2015-2019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  THE  HEISMAN  TR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THE SAINTS HA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UNNING BACK DUO TO BOTH GAIN 1500 SCRIMMAGE YARDS: ALVIN KAMARA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QUARTERBACK UNDER 30 WHO WON A PLAYOFF GAME AND THEN NEVER STARTED ANOTHER NFL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NNING BACK FOR THE DETROIT LIONS 1989-1998 AN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ER TO RUSH FOR 2000 YARDS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AROLINA PANTHERS 2011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RUNNING BACK FOR THE BILLS SERVED 9 YEARS IN PRISON FOR ARMED ROBBERY AND KIDNAPP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FOR THE BENGALS, RAIDERS, AND CARDINALS, BUT RETIRED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QUARTERBACK OF THE DALLAS COWBOYS 1969-1979 AND LED THE TEAM TO 5 SUPER BOWLS, INCLUDING 2 W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8T16:25:00Z</dcterms:created>
  <dc:creator>Jennifer Budzinski</dc:creator>
  <dc:description/>
  <dc:language>en-US</dc:language>
  <cp:lastModifiedBy>Erich Friedman</cp:lastModifiedBy>
  <dcterms:modified xsi:type="dcterms:W3CDTF">2020-08-28T09:43:02Z</dcterms:modified>
  <cp:revision>469</cp:revision>
  <dc:subject/>
  <dc:title>Slide 1</dc:title>
</cp:coreProperties>
</file>