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6EC3-C0DA-41B0-A79B-D9249DBF8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7B36-E429-48E0-A311-1E94D4F96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226D-4921-4B4A-994F-5F13D0BC3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7FEF-5230-4DA5-9AC3-493AB5291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5773-E649-486E-B873-435AD3406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CDC8-6981-4408-AD00-624142F93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05E1-01D3-4945-B45A-8250EFFFB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12F7-97BF-466A-80C9-F715DA4FD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5C44-E56C-4927-B6AF-063E5601E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4A06-23D0-45A7-A174-C6CF92F12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4EF4-BD6D-4D3C-8B44-F2BB7C19C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F757-8DBC-4C25-942F-2E49DE75E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1149-686D-4F64-923F-B4C521B9F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D9EC-BE8A-4D4A-AEE2-E7D1F11BF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3978-16F4-4092-8CCE-3A945818C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B368-4CC9-450D-B3EE-28960D7FB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FB96-9E3D-4441-A0BB-5E5E7E87C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14DF-234E-4012-ACC6-8B6CBBC33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AAC7-FFBB-420C-A63B-C9657CFEC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CEC5-49F6-4A97-8DF9-E74D6C5E1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E10D-2F42-4FD3-8EDF-E0B7EA556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504D-898D-42B3-84EA-C2628E138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701E-98E1-4F3E-BB3F-70FD5183C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066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THE MIDDLE-SIZED GREAT LAKE, IN TERMS OF AREA OR AVERAGE DEP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STON  WHA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BOAT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whaler.jpg"/>
          <p:cNvPicPr/>
          <p:nvPr/>
        </p:nvPicPr>
        <p:blipFill>
          <a:blip r:embed="rId1"/>
          <a:stretch/>
        </p:blipFill>
        <p:spPr>
          <a:xfrm>
            <a:off x="2057400" y="1978200"/>
            <a:ext cx="5029200" cy="272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UND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RICKET, WHAT IS THE EDGE OF THE PLAYING FIELD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NE  MOUN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RGIA MEMORIAL HAS GARNERED RECENT CONTROVERS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Y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58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DE THE ROADRUNNER AND DUSTER PERFORMANCE C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A  BA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AMERICAN RED CRO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 CO-STARS JON AND HIS DOG OD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UCL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HE FOUNDER OF GEOME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BOAT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whaler.jpg"/>
          <p:cNvPicPr/>
          <p:nvPr/>
        </p:nvPicPr>
        <p:blipFill>
          <a:blip r:embed="rId1"/>
          <a:stretch/>
        </p:blipFill>
        <p:spPr>
          <a:xfrm>
            <a:off x="1760400" y="2057400"/>
            <a:ext cx="5623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LIA  EAR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APPEARED NEAR HOWLAND ISLAND IN 193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I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THE MIDDLE-SIZED GREAT LAKE, IN TERMS OF AREA OR AVERAGE DEP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409760" y="4343400"/>
            <a:ext cx="6324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MAJOR  STREET  NAMES  IN  D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RICKET, WHAT IS THE EDGE OF THE PLAYING FIELD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RGIA MEMORIAL HAS GARNERED RECENT CONTROVERS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DE THE ROADRUNNER AND DUSTER PERFORMANCE C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AMERICAN RED CRO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 CO-STARS JON AND HIS DOG OD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HE FOUNDER OF GEOME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APPEARED NEAR HOWLAND ISLAND IN 193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5T23:42:00Z</dcterms:created>
  <dc:creator>Jennifer Budzinski</dc:creator>
  <dc:description/>
  <dc:language>en-US</dc:language>
  <cp:lastModifiedBy>Erich Friedman</cp:lastModifiedBy>
  <dcterms:modified xsi:type="dcterms:W3CDTF">2020-08-28T09:44:03Z</dcterms:modified>
  <cp:revision>423</cp:revision>
  <dc:subject/>
  <dc:title>Slide 1</dc:title>
</cp:coreProperties>
</file>