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085B-3A65-4645-B73D-A31A9769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0ECA-2D8B-4129-B98C-7B7A77387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2947-D6F1-4F53-9615-4197D938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E28-03E3-4CE4-B96B-465807F3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144-C063-4E7C-8C9A-D47A5466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A5FF-39FE-4293-9340-87411EFF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752-B2C8-41EB-B7D7-67F676868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9DF-6270-49A4-9F49-6BB1DF17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846-5FF7-46F3-A454-057B2E7C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D6DC-50FB-402E-9F14-FC75E7E3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1F4-EAB8-49BA-9517-197FD99B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861D-8CBA-4150-9AC2-C2FC2EE7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8A70-1122-4794-86B6-BDF8DC20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5609-1A8B-44A5-8A9E-957D0C56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4D6-957C-4E22-80DA-2F9267AB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6880-EFD8-4CAE-AAF3-059290B8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06F-EAFB-419D-AA87-310AC747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B8AB-6CFB-4DD9-816D-3C2C744A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CCFA-5560-41B2-AAE3-14A1DF42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F6D-EF1D-48E0-A964-49B8B6D2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F77F-C97B-49A4-AD8B-A3EC9FA4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9B4-348D-4A2A-8D3A-5AD7A07C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08BC-F113-4107-8FA6-B0BABD7DB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MIDDLE-SIZED GREAT LAKE, IN TERMS OF AREA OR AVERAGE DEP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  WH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BO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whaler.jpg"/>
          <p:cNvPicPr/>
          <p:nvPr/>
        </p:nvPicPr>
        <p:blipFill>
          <a:blip r:embed="rId1"/>
          <a:stretch/>
        </p:blipFill>
        <p:spPr>
          <a:xfrm>
            <a:off x="2057400" y="1978200"/>
            <a:ext cx="5029200" cy="27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RICKET, WHAT IS THE EDGE OF THE PLAYING FIEL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IA MEMORIAL HAS GARNERED RECENT CONTROVER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ROADRUNNER AND DUSTER PERFORMANCE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CO-STARS JON AND HIS DOG O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C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OM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BO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whaler.jpg"/>
          <p:cNvPicPr/>
          <p:nvPr/>
        </p:nvPicPr>
        <p:blipFill>
          <a:blip r:embed="rId1"/>
          <a:stretch/>
        </p:blipFill>
        <p:spPr>
          <a:xfrm>
            <a:off x="1760400" y="2057400"/>
            <a:ext cx="562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EAR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APPEARED NEAR HOWLAND ISLAND IN 193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MIDDLE-SIZED GREAT LAKE, IN TERMS OF AREA OR AVERAGE DEP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MAJOR  STREET  NAMES  IN  D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RICKET, WHAT IS THE EDGE OF THE PLAYING FIEL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IA MEMORIAL HAS GARNERED RECENT CONTROVER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ROADRUNNER AND DUSTER PERFORMANCE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CO-STARS JON AND HIS DOG O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OM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APPEARED NEAR HOWLAND ISLAND IN 193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23:42:00Z</dcterms:created>
  <dc:creator>Jennifer Budzinski</dc:creator>
  <dc:description/>
  <dc:language>en-US</dc:language>
  <cp:lastModifiedBy>Erich Friedman</cp:lastModifiedBy>
  <dcterms:modified xsi:type="dcterms:W3CDTF">2020-08-28T09:44:03Z</dcterms:modified>
  <cp:revision>423</cp:revision>
  <dc:subject/>
  <dc:title>Slide 1</dc:title>
</cp:coreProperties>
</file>