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06A-D8F6-407F-BF2A-25C13A88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72B3-ED5E-43D3-BF8B-53A9AE8D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24D-6E09-45FF-877E-E6DBF957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614-184F-46A1-908D-56B5695F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B7F-BCBF-4853-992B-F1C70191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3B7-DC72-4D7B-815C-528BE0BA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18CD-25B2-49AA-A1C1-6BAD08F64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BD61-B008-47BA-948A-C1EC8BF4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85D6-3FB6-47B4-ACD9-77132ED6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ED9D-ED1B-4DA5-859F-26558797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B9D9-C871-4704-9E68-B187E5C1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317-D6B0-41F4-907E-6F8B5E08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717-16DF-41FE-92C8-6C638C08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C28E-7B55-4E7F-B799-2CE74A89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A05-0AA4-4B4C-B37F-716BBFD7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4232-0B85-4D6B-8B64-BAAA6752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487-8B53-4691-B951-47B9CB6D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83B-9EA0-437A-A211-4FB73B7C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F4FB-5581-49A2-B105-949C8141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412-C8AC-4590-8432-9314320E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48E0-65F0-447B-B541-729DE134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EA0-D5D3-4412-A896-37D7AB210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D76-A3BE-47F6-B449-CB5F9264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WH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whaler.jpg"/>
          <p:cNvPicPr/>
          <p:nvPr/>
        </p:nvPicPr>
        <p:blipFill>
          <a:blip r:embed="rId1"/>
          <a:stretch/>
        </p:blipFill>
        <p:spPr>
          <a:xfrm>
            <a:off x="2057400" y="1978200"/>
            <a:ext cx="5029200" cy="27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C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haler.jpg"/>
          <p:cNvPicPr/>
          <p:nvPr/>
        </p:nvPicPr>
        <p:blipFill>
          <a:blip r:embed="rId1"/>
          <a:stretch/>
        </p:blipFill>
        <p:spPr>
          <a:xfrm>
            <a:off x="1760400" y="2057400"/>
            <a:ext cx="562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MAJOR  STREET  NAMES  IN  D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42:00Z</dcterms:created>
  <dc:creator>Jennifer Budzinski</dc:creator>
  <dc:description/>
  <dc:language>en-US</dc:language>
  <cp:lastModifiedBy>Erich Friedman</cp:lastModifiedBy>
  <dcterms:modified xsi:type="dcterms:W3CDTF">2020-08-28T09:44:03Z</dcterms:modified>
  <cp:revision>423</cp:revision>
  <dc:subject/>
  <dc:title>Slide 1</dc:title>
</cp:coreProperties>
</file>