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DDC-03BA-4CA5-8342-CE93D5BC1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03B3-7596-4D8D-8E0B-18BEF1DB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6225-961A-42F6-B73B-AC92D1850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C459-3157-4305-A28F-A4704AF19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1EA3-34FD-469A-8F30-11EB8FF0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AA76-E839-402C-9ACF-AFB896FED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4BAB-2936-4C6F-B3B2-3C9C2BA2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224A-376A-4A31-801A-0135500AA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68B6-40AB-4B65-96B6-48BFF6D01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8CB-9C73-4295-82BA-F8ED6D9D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76DC-73B0-4E36-ADED-B7891C2CA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041-4FBD-4066-8831-611E0270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D42-01C4-4569-8660-B3FA2ED63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6070-7CB8-4048-9228-C46CB158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392A-C540-485B-983D-2712866A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4E6E-257E-421E-9D2F-8F55D7A99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5BDA-E6AC-46CD-BA7A-C599A4620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352A-4BE8-40C6-865A-3CED40C4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DD15-8A4B-45F1-BD62-FAE38DC37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B309-2017-4533-AEAF-FA04A4FA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FC1F-9E5B-42D2-91E9-3E059486B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9D5D-C385-4282-AA22-F9C8677D5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FA5-E456-4B23-A33A-7129E23C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NIE GET IN 1950, 1957, 1967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NUS CARLSEN DEFENDED HIS WORLD CHAMPIONSHIP OF WHAT IN NOVEMBER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STIC ITEM ARE SOME RESTAURANTS REPLACING WITH PA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ITY IS KNOWN FOR ITS ROMAN-BUILT HYGIENE FACIL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VERSE HAS NO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NAME FOR THE LAST PART OF AN IF-THEN STAT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BUY AT KATHRYN'S IN DOWNTOWN DELAND BESIDES A BAU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D ROCK &amp; SHERYL CROW DUET WAS NOMINATED FOR COUNTRY MUSIC SONG OF THE YEAR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28T09:45:34Z</dcterms:modified>
  <cp:revision>433</cp:revision>
  <dc:subject/>
  <dc:title>Slide 1</dc:title>
</cp:coreProperties>
</file>