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687-AD32-4038-B680-ADAAE897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3EA-90DD-4B95-B5C4-6819884D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7402-A3AF-4924-B00A-19E8BCC4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C8F-33B5-4EA0-8D65-3183827C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E63-B74C-4256-B163-0DA4637C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F1B-741A-437C-AB02-A14D5A77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E78E-BD25-4BF6-B948-F6C54EB3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164-D01A-46C7-8076-B74C7516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EAE0-D5AD-4AF3-915D-C6CEF696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CE9-2E9D-4336-B4DD-B482B0D9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2F9-CBFE-4ADD-9735-893CD7DB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E95-4512-4C4A-9592-7EF3BB31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6962-F0B5-4CA5-9B5F-6A42ADFA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7DA-67CE-4720-930C-CC1B8AFA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19E-1AAD-4019-BC80-DB2F480E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F9EB-88AB-4783-9BC0-B77BE319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C34-9AF6-4592-9D72-140FA5BC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7A06-75A7-4014-B3A0-C3390140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72F-A214-4612-A5BF-D4FE89C0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C56C-E7F7-40E4-A716-B6FFF567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1CE7-6C85-422C-A5EE-63DEC4CF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8D1-0887-41D1-AED7-DE39E87C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DCD-2C25-44C9-9C6C-0885D1333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28T09:45:34Z</dcterms:modified>
  <cp:revision>433</cp:revision>
  <dc:subject/>
  <dc:title>Slide 1</dc:title>
</cp:coreProperties>
</file>