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D85E-FC60-4E3C-8FAA-000EE9123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C948-10CC-446C-9282-A67A13192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458F-4703-440F-BB4D-3BEAC4B73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AFF5-010B-4EDF-AE3F-43F8E81B1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A462-B733-45B3-B550-50D2A99C6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9EC1-2814-44B1-A765-4C74D71D4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5A59-3779-4B70-8641-AD1849548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AB85-039E-4E95-9935-4957EC1F3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43CC-1204-4985-9F36-BBF871C7C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32A8-D66C-4C32-AF4C-402F835A5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29AA-3A31-447D-9E3C-E79172026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59AC-AFF3-4F04-AA3C-DFB7073B3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8AC7-44CE-4C21-8ECB-EA83008F4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4478-9564-498B-BC70-ECC638354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2799-130A-48DB-8DFA-ED09BA8A6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B032-B8A6-4052-9FDB-32BC21065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DA23-9660-46EC-AA8E-1241A2365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3ADE-72FE-49F1-B372-3BA3D0C5C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84C7-4C5C-438B-8804-9CC01D173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CC66-9767-4892-956B-67FF3A53D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9317-5CAC-4479-9189-D1702B5A0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D4FB-C7E0-4339-A5A4-AB4E86D68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3130-3B7C-4C8B-8D8C-BB15B5A2E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NUS CARLSEN DEFENDED HIS WORLD CHAMPIONSHIP OF WHAT IN NOVEMBER OF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  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NNIE GET IN 1950, 1957, 1967, AND 2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STIC ITEM ARE SOME RESTAURANTS REPLACING WITH PA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CITY IS KNOWN FOR ITS ROMAN-BUILT HYGIENE FACIL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8808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57480" y="76212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VERSE HAS NO RHY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AL NAME FOR THE LAST PART OF AN IF-THEN STAT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B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0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BUY AT KATHRYN'S IN DOWNTOWN DELAND BESIDES A BAU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D ROCK &amp; SHERYL CROW DUET WAS NOMINATED FOR COUNTRY MUSIC SONG OF THE YEAR IN 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NNIE GET IN 1950, 1957, 1967, AND 2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RSON  SCOTT)  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ENDER'S GAME" AND ITS SEQUEL "SPEAKER FOR THE DEAD", BOTH OF WHICH WON HUGO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85760" y="762120"/>
            <a:ext cx="6972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NUS CARLSEN DEFENDED HIS WORLD CHAMPIONSHIP OF WHAT IN NOVEMBER OF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86080" y="487692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D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STIC ITEM ARE SOME RESTAURANTS REPLACING WITH PA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CITY IS KNOWN FOR ITS ROMAN-BUILT HYGIENE FACIL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600200" y="762120"/>
            <a:ext cx="5943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VERSE HAS NO RHY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AL NAME FOR THE LAST PART OF AN IF-THEN STAT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BUY AT KATHRYN'S IN DOWNTOWN DELAND BESIDES A BAU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D ROCK &amp; SHERYL CROW DUET WAS NOMINATED FOR COUNTRY MUSIC SONG OF THE YEAR IN 200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ENDER'S GAME" AND ITS SEQUEL "SPEAKER FOR THE DEAD", BOTH OF WHICH WON HUGO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28T09:45:34Z</dcterms:modified>
  <cp:revision>433</cp:revision>
  <dc:subject/>
  <dc:title>Slide 1</dc:title>
</cp:coreProperties>
</file>