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8625-699A-4831-8BD3-96D8DE47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7B9-588E-4E98-A909-756B003C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CB3-4A03-4FDA-B32B-BA30102E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FECF-1094-479F-897B-D81ED71C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F02-2CD6-45E2-8DFF-65A4A99D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602-147F-48DA-BDF4-5E1F841E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4888-637B-44BD-8A49-D5723D84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3EED-E30C-48E6-9642-D475B36B5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245-B89B-482B-92EE-8DADCCB3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4388-75F0-4771-9667-910C480C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3163-1556-4DD5-87CB-DB38E667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4F9D-E21E-42B8-AD9E-B66640A4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5AF-36F5-4F19-9B05-3AE124F4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DF32-287E-432B-B95B-D45149C1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6B3C-AD36-419D-80C2-FACA7AE8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52FA-6464-4897-BE56-E061DC25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DA1-8C80-4FA4-9B55-3AFD50D4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030-8511-427A-8AB5-03AAC422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BC7A-CC17-4166-A53F-81D6CDFC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6D4-D420-4035-8498-4001A227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C790-7938-4C75-86D9-D3A5F5BD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FB29-997C-4AD0-B07C-B1BF4BDB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618-C885-41D5-A32D-A964D92E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&amp;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–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828800" y="762120"/>
            <a:ext cx="548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S  OR 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6:55:55Z</dcterms:created>
  <dc:creator>Jennifer Budzinski</dc:creator>
  <dc:description/>
  <dc:language>en-US</dc:language>
  <cp:lastModifiedBy>Erich Friedman</cp:lastModifiedBy>
  <dcterms:modified xsi:type="dcterms:W3CDTF">2020-08-24T01:49:57Z</dcterms:modified>
  <cp:revision>379</cp:revision>
  <dc:subject/>
  <dc:title>Slide 1</dc:title>
</cp:coreProperties>
</file>