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CD7A-CFC5-49BC-84B6-24674DE33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9070-AB0B-4FAD-92D0-D7DAA58F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D048-17DB-4AA2-80C0-00893767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0E4-89E3-4B87-9699-7A6A3C5B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B7E4-9AD2-48DC-ABDF-228FF20A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ED9B-061B-46E4-A843-D7CD88F5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EBD-16BB-409E-B4C5-EBFE924D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E644-8289-4F2C-A721-3C240693E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CF11-6C7C-4088-B306-CC6EDB19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76A7-34EB-4276-A6B4-68011247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3B9F-A40E-4FBF-9D45-E94B0AB2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E45-B57F-4BBA-B79E-FA7FA550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6EAF-98DC-49A8-9786-3A9152178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EC7-3394-4C51-8E45-5CCA636F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569-5473-4676-88BA-D21EC205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FC0-68F5-4FCC-AB05-46A4869D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B01-9B58-46CE-9ECA-B13BE91B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2EC5-BEDD-440A-B64B-BC787E3B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531E-C548-4B08-A9B0-A2FE6B8F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687-BA0A-4E5D-9E9C-FD3C5EA3E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0890-7CBF-4775-9F28-4B5AB617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6627-A12C-4F6A-974B-C4079AFE9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B3B0-11C8-4F56-95E1-34F2DCA0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HAT MANUFACTURER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OHN WAYNE'S NICKNA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OOD EATEN IN THE WORLD, BY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B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EEN THE BEST-SELLING CIGARETTE BRAND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&amp;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JEFFERSON COMMISSION TO EXPLORE THE LOUISIANA PURCH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COND SPACE SHUTTLE THAT EXPLO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–D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CATHEDRAL IN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828800" y="762120"/>
            <a:ext cx="548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UPS TRU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OHN WAYNE'S NICKNAM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OF CREST AND SENSODY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HAT MANUFACTURER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34340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LLEGES  OR 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OOD EATEN IN THE WORLD, BY F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EEN THE BEST-SELLING CIGARETTE BRAND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JEFFERSON COMMISSION TO EXPLORE THE LOUISIANA PURCH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COND SPACE SHUTTLE THAT EXPLO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CATHEDRAL IN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UPS TRU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OF CREST AND SENSODY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16:55:55Z</dcterms:created>
  <dc:creator>Jennifer Budzinski</dc:creator>
  <dc:description/>
  <dc:language>en-US</dc:language>
  <cp:lastModifiedBy>Erich Friedman</cp:lastModifiedBy>
  <dcterms:modified xsi:type="dcterms:W3CDTF">2020-08-24T01:49:57Z</dcterms:modified>
  <cp:revision>379</cp:revision>
  <dc:subject/>
  <dc:title>Slide 1</dc:title>
</cp:coreProperties>
</file>