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8D1C8-9886-4AE9-B0C3-9B1AB0AC6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6E1E-4A70-44E8-A8BB-251DA5D0E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C15B-A43E-4718-90E8-2C53220A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D2DD-C341-4D67-9CED-EADAD5E75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EAF9-29EE-47C1-BC37-17AF774D6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4A28-C1B3-4322-8C3C-1F462CC66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A09D-0A3C-4D62-AC8B-D2739132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CA21-A8A6-4AB2-8CC3-562C9A2D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E571-B378-42A1-9222-26D31945B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D8B6-7E46-4D26-B7F9-4F22FE871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D7B3-9997-471B-8116-6E628155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FBDA-FC3D-4AB3-90A3-CFC2B9C3E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7175-B810-489F-B4C3-24AB73035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305-E5DD-49E9-9F56-3732CCFAF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24A7-D6FD-44E8-A8F7-413D15FF1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3DEE-A9F2-429C-A00B-512467063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5ACA-AD31-4EC8-9EB1-7301E1301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60DD-C4E5-4AFE-92C1-A83750521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15A3-2067-4235-9772-B4D35AC96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EB06-5EA5-4B96-96F0-2D84A0A4E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FE15-EF15-4EE3-8832-1D485256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56FD-E7EC-428C-B4BA-BC1B46B2D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1417-55D6-4E64-8FB6-C9CC8206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HAT MANUFACTURER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OHN WAYNE'S NICKNA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OOD EATEN IN THE WORLD, BY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B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EEN THE BEST-SELLING CIGARETTE BRAND SINCE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WIS  &amp;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JEFFERSON COMMISSION TO EXPLORE THE LOUISIANA PURCH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COND SPACE SHUTTLE THAT EXPLO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–D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CATHEDRAL IN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828800" y="762120"/>
            <a:ext cx="548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UPS TRU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OHN WAYNE'S NICKNAM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OF CREST AND SENSODY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HAT MANUFACTURER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343400"/>
            <a:ext cx="5715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LLEGES  OR  UNIVERS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OOD EATEN IN THE WORLD, BY F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EEN THE BEST-SELLING CIGARETTE BRAND SINCE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JEFFERSON COMMISSION TO EXPLORE THE LOUISIANA PURCH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COND SPACE SHUTTLE THAT EXPLOD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CATHEDRAL IN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UPS TRU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COMPETITOR OF CREST AND SENSODY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3T16:55:55Z</dcterms:created>
  <dc:creator>Jennifer Budzinski</dc:creator>
  <dc:description/>
  <dc:language>en-US</dc:language>
  <cp:lastModifiedBy>Erich Friedman</cp:lastModifiedBy>
  <dcterms:modified xsi:type="dcterms:W3CDTF">2020-08-24T01:49:57Z</dcterms:modified>
  <cp:revision>379</cp:revision>
  <dc:subject/>
  <dc:title>Slide 1</dc:title>
</cp:coreProperties>
</file>