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8A58-AD9D-49D1-A0CA-F5DFB7E24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CF0B-CD77-44EB-9533-992E2A192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CFEC-3A69-4151-9F10-D45189DFD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602A-992C-419C-8524-33CFF5360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0580-37DB-4B46-9349-50F19D4AE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874A-5182-48A2-945A-10080DFD0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60D7-878D-4A08-BCC3-F72969709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DD7A-099E-4212-B737-6D46CA36E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A486-8813-4E5D-8195-B12A1AE8D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56D7-3458-4ED2-A6B6-CDDBE6373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A935-008B-4387-9FA8-834826753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CCC9-5192-4339-B330-B8DCB0576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80BC-0FEF-4F47-B379-A3D0A68D0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502C-3964-4584-B92F-BC712FD97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45E9-B47D-4FF7-B700-409799E47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BBC6-13FA-4417-AA38-FDAA0B2DE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9D2B-CC44-40DA-8C01-6950D4D34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6C6F-451D-49A7-B35E-28C8FC696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2B10-06E8-4424-8092-5DE70C095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53E1-46BE-4CA3-B09C-2642C432F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6688-77A6-466B-9B97-B7A8DB0D6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48C2-61FE-486D-BC43-A7FA4380A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AA23-488F-4D7E-89A3-8F3286291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N TV'S "REMINGTON STEELE" AND IN 4 JAMES BOND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HONY  RIZ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BASEMAN FOR THE CHICAGO CUBS PLAYED IN THE MLB ALL-STAR GAME 2014-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TON  FRIE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NER OF THE 1976 NOBEL PRIZE FOR ECONOMICS IS THE MOST INFLUENTIAL ECONOMIST OF THE LAST 75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O'REI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"THE BIGGEST STAR OF FOX NEWS" UNTIL HE WAS FIRED IN 2017 FOR SEXUAL HARASS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90680" y="762120"/>
            <a:ext cx="6362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OD IN "OH, GOD!" AND LIVED TO BE 100 YEARS 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CH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SUPERNATURAL HORROR FILM STARRED HELEN MIRREN AND JASON CLARK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BA  MCENT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'M A SURVIVOR", "DOES HE LOVE YOU", AND "WHOEVER'S IN NEW ENG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447920" y="48769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PO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OTAGONIST OF THE ONLY BOOK SERIES THAT HAS SOLD OVER HALF A BILLION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BASEMAN FOR THE CHICAGO CUBS PLAYED IN THE MLB ALL-STAR GAME 2014-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KE  SHE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SINGER HAS BEEN A JUDGE ON "CLASH OF THE CHOIRS", "NASHVILLE STAR", AND ALL 14 SEASONS OF "THE VO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CE  BROS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N TV'S "REMINGTON STEELE" AND IN 4 JAMES BOND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086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LAST  NAMES  OF  "M*A*S*H"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NER OF THE 1976 NOBEL PRIZE FOR ECONOMICS IS THE MOST INFLUENTIAL ECONOMIST OF THE LAST 75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"THE BIGGEST STAR OF FOX NEWS" UNTIL HE WAS FIRED IN 2017 FOR SEXUAL HARASS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OD IN "OH, GOD!" AND LIVED TO BE 100 YEARS 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SUPERNATURAL HORROR FILM STARRED HELEN MIRREN AND JASON CLARK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'M A SURVIVOR", "DOES HE LOVE YOU", AND "WHOEVER'S IN NEW ENG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OTAGONIST OF THE ONLY BOOK SERIES THAT HAS SOLD OVER HALF A BILLION B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SINGER HAS BEEN A JUDGE ON "CLASH OF THE CHOIRS", "NASHVILLE STAR", AND ALL 14 SEASONS OF "THE VO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9T13:15:40Z</dcterms:created>
  <dc:creator>Jennifer Budzinski</dc:creator>
  <dc:description/>
  <dc:language>en-US</dc:language>
  <cp:lastModifiedBy>Erich Friedman</cp:lastModifiedBy>
  <dcterms:modified xsi:type="dcterms:W3CDTF">2020-08-28T10:47:28Z</dcterms:modified>
  <cp:revision>367</cp:revision>
  <dc:subject/>
  <dc:title>Slide 1</dc:title>
</cp:coreProperties>
</file>