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848-511E-4A15-8E45-821C11D3E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3600-E5C9-40CA-9155-84077FEF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55C-0A58-46CE-A1DD-ED315C4E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5B9-4BE0-48E5-AEBC-B84A1D952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0D09-1126-43E6-B622-D621F117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031-F335-4134-8634-1A843E40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5C9-384D-4DC1-965D-51C2CEEC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7C8A-BF9F-4B63-AC5B-7C6C8AB2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64D-25F3-4794-9099-227E62C74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86CF-0DEA-4096-86BD-9F5BE757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05BA-EA7E-4A70-8EBD-40F5B06B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A6C-F2A1-4E8F-AB70-3D2E0D4A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FAC-64DB-4899-90CB-D72BA293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AC2A-7353-4AA1-B76A-E5B6E9BB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F94F-FB35-48BC-BFF3-89BAE9C1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C79-D81A-42E9-9975-8C6AF9274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4F2-02FF-4111-82A7-F8A1CDA3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4B0-DEE8-4604-B53D-FC3CFDD5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EDAC-6C1B-4C5C-8417-4CAC7F35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14DB-2738-4D1F-81C4-ABACA7523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172B-E679-4342-BCDB-6AFD7909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9949-909C-42D6-895B-53B59CE9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9505-A243-4A7D-89F0-4A8397D1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TV'S "REMINGTON STEELE" AND IN 4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RIZ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BASEMAN FOR THE CHICAGO CUBS PLAYED IN THE MLB ALL-STAR GAME 2014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TON  FRIE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1976 NOBEL PRIZE FOR ECONOMICS IS THE MOST INFLUENTIAL ECONOMIST OF THE LAST 7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O'RE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BIGGEST STAR OF FOX NEWS" UNTIL HE WAS FIRED IN 2017 FOR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90680" y="762120"/>
            <a:ext cx="6362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OD IN "OH, GOD!" AND LIVED TO BE 100 YEARS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UPERNATURAL HORROR FILM STARRED HELEN MIRREN AND JASON CLAR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A  MCENT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'M A SURVIVOR", "DOES HE LOVE YOU", AND "WHOEVER'S IN NEW ENG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4792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PO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THE ONLY BOOK SERIES THAT HAS SOLD OVER HALF A BILLION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BASEMAN FOR THE CHICAGO CUBS PLAYED IN THE MLB ALL-STAR GAME 2014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SINGER HAS BEEN A JUDGE ON "CLASH OF THE CHOIRS", "NASHVILLE STAR", AND ALL 14 SEASONS OF "THE VO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TV'S "REMINGTON STEELE" AND IN 4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LAST  NAMES  OF  "M*A*S*H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1976 NOBEL PRIZE FOR ECONOMICS IS THE MOST INFLUENTIAL ECONOMIST OF THE LAST 7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BIGGEST STAR OF FOX NEWS" UNTIL HE WAS FIRED IN 2017 FOR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OD IN "OH, GOD!" AND LIVED TO BE 100 YEARS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UPERNATURAL HORROR FILM STARRED HELEN MIRREN AND JASON CLARK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'M A SURVIVOR", "DOES HE LOVE YOU", AND "WHOEVER'S IN NEW ENG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THE ONLY BOOK SERIES THAT HAS SOLD OVER HALF A BILLION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SINGER HAS BEEN A JUDGE ON "CLASH OF THE CHOIRS", "NASHVILLE STAR", AND ALL 14 SEASONS OF "THE VO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3:15:40Z</dcterms:created>
  <dc:creator>Jennifer Budzinski</dc:creator>
  <dc:description/>
  <dc:language>en-US</dc:language>
  <cp:lastModifiedBy>Erich Friedman</cp:lastModifiedBy>
  <dcterms:modified xsi:type="dcterms:W3CDTF">2020-08-28T10:47:28Z</dcterms:modified>
  <cp:revision>367</cp:revision>
  <dc:subject/>
  <dc:title>Slide 1</dc:title>
</cp:coreProperties>
</file>