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50B0-E5B8-43B8-9CA9-1566397E1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47F8-8C3C-4C1B-82AD-4979712DC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9338-31D7-4438-B269-F2530F642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C40F-670F-4E38-9CB5-648CCFE20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B0EF-2E79-4412-AB93-76D2C3FB2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C8DE-F7DE-42F2-89BF-331FCA626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C93E-4BD9-4899-95F0-894138285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394A-C32C-4B2C-961A-2961D49E6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56CE-4E15-4525-ADC4-1489D010F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7E96-94A2-45E6-8240-C51124D8B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2659-3EBF-4FBE-8110-55810CAE2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20A5-ACAD-4740-99AA-7479A6E53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E49D-5F23-455F-80A5-C9F9F5E8D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D59D-C606-4A63-B2D7-275CB30FC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4244-161D-4C24-B920-E92219C17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2FA4-E0B5-463F-91B9-4AD99FD71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4976-CF0A-4A3A-B995-18E590912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1E68-8340-4975-B576-6C8B29F6F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B380-1125-47F7-B4D9-415D0227A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974C-AA78-474A-98BD-549BAC306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E3C9-537F-47BA-85D1-0996390B0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EB5A-0AE7-4584-B8EB-9BD769B2B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BEE9-A4F9-4973-98BB-6B594E9D0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N TV'S "REMINGTON STEELE" AND IN 4 JAMES BOND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HONY  RIZ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BASEMAN FOR THE CHICAGO CUBS PLAYED IN THE MLB ALL-STAR GAME 2014-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TON  FRIED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NER OF THE 1976 NOBEL PRIZE FOR ECONOMICS IS THE MOST INFLUENTIAL ECONOMIST OF THE LAST 75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O'REI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"THE BIGGEST STAR OF FOX NEWS" UNTIL HE WAS FIRED IN 2017 FOR SEXUAL HARASS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90680" y="762120"/>
            <a:ext cx="6362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GOD IN "OH, GOD!" AND LIVED TO BE 100 YEARS 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CHE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SUPERNATURAL HORROR FILM STARRED HELEN MIRREN AND JASON CLARK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BA  MCENT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'M A SURVIVOR", "DOES HE LOVE YOU", AND "WHOEVER'S IN NEW ENG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447920" y="48769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PO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OTAGONIST OF THE ONLY BOOK SERIES THAT HAS SOLD OVER HALF A BILLION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BASEMAN FOR THE CHICAGO CUBS PLAYED IN THE MLB ALL-STAR GAME 2014-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KE  SHE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SINGER HAS BEEN A JUDGE ON "CLASH OF THE CHOIRS", "NASHVILLE STAR", AND ALL 14 SEASONS OF "THE VO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CE  BROS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N TV'S "REMINGTON STEELE" AND IN 4 JAMES BOND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343400"/>
            <a:ext cx="7086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LAST  NAMES  OF  "M*A*S*H" 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NER OF THE 1976 NOBEL PRIZE FOR ECONOMICS IS THE MOST INFLUENTIAL ECONOMIST OF THE LAST 75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"THE BIGGEST STAR OF FOX NEWS" UNTIL HE WAS FIRED IN 2017 FOR SEXUAL HARASS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GOD IN "OH, GOD!" AND LIVED TO BE 100 YEARS O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SUPERNATURAL HORROR FILM STARRED HELEN MIRREN AND JASON CLARK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'M A SURVIVOR", "DOES HE LOVE YOU", AND "WHOEVER'S IN NEW ENG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OTAGONIST OF THE ONLY BOOK SERIES THAT HAS SOLD OVER HALF A BILLION BOO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SINGER HAS BEEN A JUDGE ON "CLASH OF THE CHOIRS", "NASHVILLE STAR", AND ALL 14 SEASONS OF "THE VO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9T13:15:40Z</dcterms:created>
  <dc:creator>Jennifer Budzinski</dc:creator>
  <dc:description/>
  <dc:language>en-US</dc:language>
  <cp:lastModifiedBy>Erich Friedman</cp:lastModifiedBy>
  <dcterms:modified xsi:type="dcterms:W3CDTF">2020-08-28T10:47:28Z</dcterms:modified>
  <cp:revision>367</cp:revision>
  <dc:subject/>
  <dc:title>Slide 1</dc:title>
</cp:coreProperties>
</file>