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00595-5E03-4A18-8AEA-82AC1A173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EF0ED-500C-4BA3-A730-AE223946F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3FB3B-6D99-4FB1-B52F-5A5F26578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76339-42A3-41B6-8F91-54F82CE71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DB167-1BC5-4F48-9F12-1987DAA4E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FB43-86E7-480A-B231-457BBB2DC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E0FB-CCE6-466A-8834-A0B9A199F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6CB2-A162-455B-B7EE-38350E7E2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BB5B9-250F-481C-8F5D-2E06D1E8A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679F-1FD6-497B-B286-DF2DEF4C7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0019B-1998-4BBC-9059-E23FBD832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6D6C8-6898-4710-AD28-63930DD6C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23B00-8635-4F82-9348-A5F6AB02A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C9412-FC9C-48A4-A4FC-9D1FC48EC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BB782-151C-423C-8FA5-FBD89E8FC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2FCD5-1C24-41A5-BF44-D99C01629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986C-36D3-4CDB-9663-EEDA6E013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95354-0095-4516-937E-76DD32502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D4545-1C84-484D-89F7-BF8C6F863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6458B-13EB-4AB3-9E93-5FD8E1033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29BAE-819E-46B8-A350-FA3A820D1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963C7-F9FB-49EA-8F0B-4C70BD3E3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2906A-B5F2-455F-86E3-6A5ED7649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733400" y="1066680"/>
            <a:ext cx="5677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OS ANGELES LAKER WAS A STARTER FOR A RECORD 18 CONSECUTIVE NBA ALL-STAR GAM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UILLERMO  DEL  TO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63680" y="762120"/>
            <a:ext cx="8215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RECTED THE FILMS "PAN'S LABYRINTH", "PACIFIC RIM", AND "HELLBO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9800"/>
            <a:ext cx="82296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RY  OLD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46200" y="762120"/>
            <a:ext cx="7850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LEE HARVEY OSWALD IN "JFK" AND COUNT DRACULA IN "BRAM STOKER'S DRACUL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CES  MCDORM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ARGE GUNDERSON IN "FARG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M  ROCKW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43040" y="762120"/>
            <a:ext cx="7657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MOON" AND "THE HITCHHIKER'S GUIDE TO THE GALAX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LISON  JAN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62120"/>
            <a:ext cx="76197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BEEN NOMINATED 5 STRAIGHT YEARS FOR PRIMETIME EMMYS FOR HER ROLE ON "MOM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838080" y="4876920"/>
            <a:ext cx="7467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RISTEN  ANDERSON – LOP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47600" y="762120"/>
            <a:ext cx="7048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SONG "LET IT GO" FROM THE FILM "FROZEN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RDAN  PEE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06480" y="762120"/>
            <a:ext cx="7331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KEEGAN-MICHAEL KEY IN A 5-YEAR SKETCH SE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74760" y="762120"/>
            <a:ext cx="8394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RECTED THE FILMS "PAN'S LABYRINTH", "PACIFIC RIM", AND "HELLBO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NALD  SUTHER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54200" y="762120"/>
            <a:ext cx="7634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THE FILMS "M*A*S*H", "INVASION OF THE BODY SNATCHERS" AND "ORDINARY PEOPL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OBE  BRY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47640" y="762120"/>
            <a:ext cx="78487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OS ANGELES LAKER WAS A STARTER FOR A RECORD 18 CONSECUTIVE NBA ALL-STAR GA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4000"/>
          </a:bodyPr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WON  OSCARS  IN  20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09480" y="762120"/>
            <a:ext cx="80773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25040" y="761760"/>
            <a:ext cx="7691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LEE HARVEY OSWALD IN "JFK" AND COUNT DRACULA IN "BRAM STOKER'S DRACUL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ARGE GUNDERSON IN "FARG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43040" y="762120"/>
            <a:ext cx="7657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MOON" AND "THE HITCHHIKER'S GUIDE TO THE GALAX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24040" y="761760"/>
            <a:ext cx="749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BEEN NOMINATED 5 STRAIGHT YEARS FOR PRIMETIME EMMYS FOR HER ROLE ON "MOM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98640" y="761760"/>
            <a:ext cx="7146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SONG "LET IT GO" FROM THE FILM "FROZE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95320" y="761760"/>
            <a:ext cx="73533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KEEGAN-MICHAEL KEY IN A 5-YEAR SKETCH SER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66800" y="762120"/>
            <a:ext cx="7610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THE FILMS "M*A*S*H", "INVASION OF THE BODY SNATCHERS" AND "ORDINARY PEOPL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2T18:03:49Z</dcterms:created>
  <dc:creator>Jennifer Budzinski</dc:creator>
  <dc:description/>
  <dc:language>en-US</dc:language>
  <cp:lastModifiedBy>Erich Friedman</cp:lastModifiedBy>
  <dcterms:modified xsi:type="dcterms:W3CDTF">2020-08-28T10:48:18Z</dcterms:modified>
  <cp:revision>359</cp:revision>
  <dc:subject/>
  <dc:title>Slide 1</dc:title>
</cp:coreProperties>
</file>