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1559-7B0C-40A5-B94B-C244B6B4C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E516-0B00-43D9-A37F-DE5ACADE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A0C2-76D6-49C6-9673-F36248D6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3F1-990E-491D-B78A-04B243B31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C85E-D770-4AC8-8969-33FE495B7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4317-119A-4C89-82F1-2180476A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22F6-FDC1-4107-912D-B78DFF9F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4895-C187-4899-8B71-A444422AF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6A22-EF5A-4977-9951-E7E36CC2C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342A3-76EE-4678-A7AA-52792275B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97D9-D89E-4059-A0A6-B740EEE4E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458-D1ED-49F6-B2E0-29AEB41A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C0BB-E6B0-42B5-AC7A-E459BD15A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9F11-371A-4CCA-B6F5-5FDB276C5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945F-4C93-4FE3-BDC6-2F8001A9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75A9-0B41-45D3-A1A2-6750BCF31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EF87-C34A-4F68-8E84-C2A0DED5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8CE0-9360-49B1-977D-30D495EC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DFD1-B386-454A-9531-952B3FFF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9C67-4A91-495D-A0E2-9B840695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8D4-5EDE-43AD-9D24-4F99039D2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4819-E915-4A4F-816F-41D9E2DC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3C16-B947-4D22-89B9-92BECF7F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33400" y="1066680"/>
            <a:ext cx="5677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OL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6200" y="762120"/>
            <a:ext cx="785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SON  JA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ANDERSON –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FILMS "PAN'S LABYRINTH", "PACIFIC RIM", AND "HELL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ALD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4200" y="762120"/>
            <a:ext cx="76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WAS A STARTER FOR A RECORD 18 CONSECUTIVE NBA ALL-STAR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ON  OSCARS  IN  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5040" y="761760"/>
            <a:ext cx="7691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E HARVEY OSWALD IN "JFK" AND COUNT DRACULA IN "BRAM STOKER'S DRAC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 GUNDERSON IN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OON" AND "THE HITCHHIKER'S GUIDE TO THE GALAX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5 STRAIGHT YEARS FOR PRIMETIME EMMYS FOR HER ROLE ON "M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8640" y="761760"/>
            <a:ext cx="7146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SONG "LET IT GO" FROM THE FILM "FROZ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KEEGAN-MICHAEL KEY IN A 5-YEAR SKETCH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M*A*S*H", "INVASION OF THE BODY SNATCHERS" AND "ORDINAR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28T10:48:18Z</dcterms:modified>
  <cp:revision>359</cp:revision>
  <dc:subject/>
  <dc:title>Slide 1</dc:title>
</cp:coreProperties>
</file>