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C71C-E387-4BCE-9212-4B19D9C06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31EC-A759-417E-A053-DA91D195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43C7-0CFA-46FD-B7E4-286698C0F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E3DF-23CA-40AB-93F8-B866B00AA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65C3-2FBA-4775-B576-418C56D22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98CD-E007-4974-83ED-99D88F03E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7332-A5F0-4C55-ACDA-BB386C77D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3697-C0D3-4684-B40C-2D0F1AD44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9229-1B7A-48F2-BA94-0C97FE8C6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B6D9-7F01-4CB2-8660-00F6172C1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3506-5683-4A6D-BBD0-C87884B05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64C5-A59E-47D2-BA33-D6DF13ED1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AC44-6771-4A4A-A500-19BDEF5F2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0BBB-BD0E-42F1-B4CB-F64872EE0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EB5D-2F38-4A72-BED1-250650BE4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F44E-320D-4189-BB30-D01AC45E7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ADA0-7E7A-4CDC-8B1C-F121A205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B988-968B-447E-AA62-ACFC1983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F17C-A102-421D-B374-D5AD4FAA2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98E6-0F53-4CBC-8C37-40D88DEC5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AC08-CCC6-47FB-8F8F-1CD08F612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B8E7-7D64-4A8F-9D79-055D958EA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E23A-7213-464A-98B8-18249DC24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33400" y="1066680"/>
            <a:ext cx="5677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S ANGELES LAKER WAS A STARTER FOR A RECORD 18 CONSECUTIVE NBA ALL-STAR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LLERMO  DEL  T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3680" y="762120"/>
            <a:ext cx="82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FILMS "PAN'S LABYRINTH", "PACIFIC RIM", AND "HELLBO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OL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6200" y="762120"/>
            <a:ext cx="785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E HARVEY OSWALD IN "JFK" AND COUNT DRACULA IN "BRAM STOKER'S DRACU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S  MCDOR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GE GUNDERSON IN "F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ROCK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MOON" AND "THE HITCHHIKER'S GUIDE TO THE GALAX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ISON  JAN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5 STRAIGHT YEARS FOR PRIMETIME EMMYS FOR HER ROLE ON "MOM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838080" y="48769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ANDERSON –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47600" y="762120"/>
            <a:ext cx="704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SONG "LET IT GO" FROM THE FILM "FROZE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  P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6480" y="762120"/>
            <a:ext cx="733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KEEGAN-MICHAEL KEY IN A 5-YEAR SKETCH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74760" y="762120"/>
            <a:ext cx="839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FILMS "PAN'S LABYRINTH", "PACIFIC RIM", AND "HELLBO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ALD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54200" y="762120"/>
            <a:ext cx="76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M*A*S*H", "INVASION OF THE BODY SNATCHERS" AND "ORDINARY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BE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S ANGELES LAKER WAS A STARTER FOR A RECORD 18 CONSECUTIVE NBA ALL-STAR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ON  OSCARS  IN  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E HARVEY OSWALD IN "JFK" AND COUNT DRACULA IN "BRAM STOKER'S DRACUL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GE GUNDERSON IN "F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MOON" AND "THE HITCHHIKER'S GUIDE TO THE GALAX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5 STRAIGHT YEARS FOR PRIMETIME EMMYS FOR HER ROLE ON "MOM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8640" y="761760"/>
            <a:ext cx="7146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SONG "LET IT GO" FROM THE FILM "FROZ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KEEGAN-MICHAEL KEY IN A 5-YEAR SKETCH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6800" y="762120"/>
            <a:ext cx="76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M*A*S*H", "INVASION OF THE BODY SNATCHERS" AND "ORDINARY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28T10:48:18Z</dcterms:modified>
  <cp:revision>359</cp:revision>
  <dc:subject/>
  <dc:title>Slide 1</dc:title>
</cp:coreProperties>
</file>