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B568-A518-4F1F-8A32-6C660A702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EC75-ECB9-4598-816D-601A71B67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02BD-9ABC-4BBF-AECC-C52EA3527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4D40-E2BD-45FF-90A2-7786A9A13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E668-6EC3-4313-85AF-0C6E3A58B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0CA3-9AD2-412E-97B8-B9CE37ECA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98B2C-E263-413A-B5AF-9723E35D8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FB7E-67BE-4671-99AE-5F9F0D010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8C8B-BEC2-45BA-AC6F-266ADD75A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6D57-A8BC-4A83-AF44-ECA651DC7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3BBE-95B8-4216-937F-78419EA2B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9590-BB15-497E-ACFA-1E3E51C13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EC97-A08E-4A98-B411-123D54DE5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688E-F0D7-4508-9145-8481A2381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0C3D-36D6-4F35-B47F-FFCDEBDA0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B060-F803-4AA8-8E61-5B5CD0790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3181-4A50-4CF7-8522-49AE9A381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7897-CEE6-4BE5-9FD2-F193BE808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FDB6-A746-4B12-83EB-D884E85E0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A365-C359-4D3F-A9D2-80E3357E5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D2BA-6A42-4D64-883F-52A8555D8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AE22-4FB4-4534-AD13-477256A23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F125-DDB8-4F44-84D2-07ACF6A10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409760" y="761760"/>
            <a:ext cx="6324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UPAL CASING SPUN BY MOTH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ENTH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-2015 TV SERIES ABOUT THE BRAVERMANS STARRED PETER KRAUSE AND LAUREN GRAH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NS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09480" y="77328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TV SHOW IN ITS SECOND SEASON STARS LUKE ROBERTS AS A HOSTAGE NEGOTIA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71680" y="75096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XANADU" AND "THE SPIRIT OF RADI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F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 PART OF DANTE ALIGHIERTI'S "DIVINE COMEDY"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THEFT  AU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ABOUT STEALING CARS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 SELLING VIDEO GAME FRANCHISE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LLO  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90720" y="77796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UNAR MISSION IN 1970 WAS INTENDED TO LAND ON THE MOON BUT HAD TO BE ABORT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04840" y="480060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380880" y="1066680"/>
            <a:ext cx="44197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MAKES THESE UBIQUITOUS RED CU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31US9T6yXdL._SL500_AC_SS350_.jpg"/>
          <p:cNvPicPr/>
          <p:nvPr/>
        </p:nvPicPr>
        <p:blipFill>
          <a:blip r:embed="rId1"/>
          <a:stretch/>
        </p:blipFill>
        <p:spPr>
          <a:xfrm>
            <a:off x="5257800" y="609480"/>
            <a:ext cx="3365640" cy="4496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-2015 TV SERIES ABOUT THE BRAVERMANS STARRED PETER KRAUSE AND LAUREN GRAH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IGHT 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-2017 TV SERIES WAS ABOUT EARLY MORNINGS AT A SAN ANTONIO HOS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523880" y="762120"/>
            <a:ext cx="6096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PUPAL CASING SPUN BY MO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876240" y="434340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ILMS  DIRECTED  BY  RON 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TV SHOW IN ITS SECOND SEASON STARS LUKE ROBERTS AS A HOSTAGE NEGOTIA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XANADU" AND "THE SPIRIT OF RADI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KNOWN  PART OF DANTE ALIGHIERTI'S "DIVINE COMEDY"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RIES ABOUT STEALING CARS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IGHEST SELLING VIDEO GAME FRANCHISE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LUNAR MISSION IN 1970 WAS INTENDED TO LAND ON THE MOON BUT HAD TO BE ABORT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495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PANY MAKES THESE UBIQUITOUS RED CU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31US9T6yXdL._SL500_AC_SS350_.jpg"/>
          <p:cNvPicPr/>
          <p:nvPr/>
        </p:nvPicPr>
        <p:blipFill>
          <a:blip r:embed="rId1"/>
          <a:stretch/>
        </p:blipFill>
        <p:spPr>
          <a:xfrm>
            <a:off x="5257800" y="609480"/>
            <a:ext cx="336564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-2017 TV SERIES WAS ABOUT EARLY MORNINGS AT A SAN ANTONIO HOS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0T12:00:59Z</dcterms:created>
  <dc:creator>Jennifer Budzinski</dc:creator>
  <dc:description/>
  <dc:language>en-US</dc:language>
  <cp:lastModifiedBy>Erich Friedman</cp:lastModifiedBy>
  <dcterms:modified xsi:type="dcterms:W3CDTF">2020-08-28T10:49:14Z</dcterms:modified>
  <cp:revision>336</cp:revision>
  <dc:subject/>
  <dc:title>Slide 1</dc:title>
</cp:coreProperties>
</file>