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D055-16CD-43D4-A271-5BBC6FF53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2217-84CE-468E-B146-66FEBB43F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68EC-D681-4ED3-8002-817E97590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CB0C-30CC-49D2-9752-C0CEBD7FC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EDE8-66E5-4D7D-B0F0-A76DB8EC7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EBF6-971E-492A-B012-B1EB628C0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5DA6-7455-4F4A-9C1A-5EA6E6D53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A0E6-5236-4836-82E5-FF25CF3A3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C6F1-2C9C-493D-988D-1007B42CC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7F11-1158-466C-8130-42F5A6F7B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F6B2-06BE-46EE-AF52-5728640B4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6F0D-6362-4262-978F-E16F1E2A7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B632-BD8A-4EE6-8743-08D5F3868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4C85-F08B-4A52-AD6D-879674476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C854-6F02-4D79-8866-CB1735544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0E78-26C6-44FC-B72D-4BD28A836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5028-AFF9-42B7-B2A6-641074167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A6FC-65AC-4825-AF14-4E798FAA7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E44B-31F1-4F38-9F5E-CF84497DD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BA96-29E0-4D8B-B2AB-7F1D6E61B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D318-EA4B-4B68-9283-6BAAB25DA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0203-BB8B-46F3-9821-48F3A564B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B1AB-31DE-4A75-8478-5EAA5B7D0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409760" y="7617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UPAL CASING SPUN BY MOTH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ENTH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762120" y="762120"/>
            <a:ext cx="7619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-2015 TV SERIES ABOUT THE BRAVERMANS STARRED PETER KRAUSE AND LAUREN GRAH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NS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09480" y="77328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TV SHOW IN ITS SECOND SEASON STARS LUKE ROBERTS AS A HOSTAGE NEGOTIA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571680" y="75096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XANADU" AND "THE SPIRIT OF RADI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FE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KNOWN  PART OF DANTE ALIGHIERTI'S "DIVINE COMEDY"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D  THEFT  AU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ES ABOUT STEALING CARS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GHEST SELLING VIDEO GAME FRANCHISE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OLLO  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990720" y="777960"/>
            <a:ext cx="71625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LUNAR MISSION IN 1970 WAS INTENDED TO LAND ON THE MOON BUT HAD TO BE ABORT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04840" y="4800600"/>
            <a:ext cx="297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380880" y="1066680"/>
            <a:ext cx="44197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MAKES THESE UBIQUITOUS RED CU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31US9T6yXdL._SL500_AC_SS350_.jpg"/>
          <p:cNvPicPr/>
          <p:nvPr/>
        </p:nvPicPr>
        <p:blipFill>
          <a:blip r:embed="rId1"/>
          <a:stretch/>
        </p:blipFill>
        <p:spPr>
          <a:xfrm>
            <a:off x="5257800" y="609480"/>
            <a:ext cx="336564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-2015 TV SERIES ABOUT THE BRAVERMANS STARRED PETER KRAUSE AND LAUREN GRAH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IGHT 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-2017 TV SERIES WAS ABOUT EARLY MORNINGS AT A SAN ANTONIO HOSPI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C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523880" y="762120"/>
            <a:ext cx="6096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UPAL CASING SPUN BY MOTH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876240" y="434340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FILMS  DIRECTED  BY  RON  HO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TV SHOW IN ITS SECOND SEASON STARS LUKE ROBERTS AS A HOSTAGE NEGOTIA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XANADU" AND "THE SPIRIT OF RADI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KNOWN  PART OF DANTE ALIGHIERTI'S "DIVINE COMEDY"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ES ABOUT STEALING CARS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GHEST SELLING VIDEO GAME FRANCHISE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LUNAR MISSION IN 1970 WAS INTENDED TO LAND ON THE MOON BUT HAD TO BE ABORTE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495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MAKES THESE UBIQUITOUS RED CUP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31US9T6yXdL._SL500_AC_SS350_.jpg"/>
          <p:cNvPicPr/>
          <p:nvPr/>
        </p:nvPicPr>
        <p:blipFill>
          <a:blip r:embed="rId1"/>
          <a:stretch/>
        </p:blipFill>
        <p:spPr>
          <a:xfrm>
            <a:off x="5257800" y="609480"/>
            <a:ext cx="336564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-2017 TV SERIES WAS ABOUT EARLY MORNINGS AT A SAN ANTONIO HOSPI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0T12:00:59Z</dcterms:created>
  <dc:creator>Jennifer Budzinski</dc:creator>
  <dc:description/>
  <dc:language>en-US</dc:language>
  <cp:lastModifiedBy>Erich Friedman</cp:lastModifiedBy>
  <dcterms:modified xsi:type="dcterms:W3CDTF">2020-08-28T10:49:14Z</dcterms:modified>
  <cp:revision>336</cp:revision>
  <dc:subject/>
  <dc:title>Slide 1</dc:title>
</cp:coreProperties>
</file>