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A7D-2F6C-4897-81EE-81AA1AAB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C687-AE3C-44E2-B949-E5FDE47B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93A-4913-4B28-988B-ED1EC58B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5059-8CCE-4D66-A06D-5ACFDEAD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3B0-A64F-4889-B0C3-373B746E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D74E-D82F-4BF6-96B7-76630CFA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98FB-7CB1-4E3B-A07F-E60BB34D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1563-F51F-4799-B7D8-2938087CC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0B3-7F1A-41A2-B641-7504EFEA7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B12-583E-4265-B0A9-E431D91C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AF98-70DD-427E-8CCD-5A862EA37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253A-FBEF-46BA-A6AF-D2956DBF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1C5-059F-448A-A05B-26531081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E21C-D4DA-41BE-A914-0A5B9444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6838-0836-431F-9B70-6CD69B5D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96A-E4A4-408D-9858-10FC2E29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99DC-B0A8-4F5A-AF3B-178EDDA7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DCC7-9780-4CDB-8472-15E77924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296C-0CA6-40E5-ADE8-F2199CF2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76E-532A-4A9D-816D-239C96B7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9693-2110-4923-BBB8-5DA03288A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E4A6-59D4-471B-BC53-85453A527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1A27-E853-4498-BE96-B0717CB6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PAL CASING SPUN BY MOT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ABOUT THE BRAVERMANS STARRED PETER KRAUSE AND LAUREN GRAH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S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7328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N ITS SECOND SEASON STARS LUKE ROBERTS AS A HOSTAGE NEGOTI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71680" y="7509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XANADU" AND "THE SPIRIT OF 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 PART OF DANTE ALIGHIERTI'S "DIVINE COMEDY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THEFT  A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ABOUT STEALING CARS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VIDEO GAME FRANCHIS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7796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UNAR MISSION IN 1970 WAS INTENDED TO LAND ON THE MOON BUT HAD TO BE ABOR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006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80880" y="1066680"/>
            <a:ext cx="4419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UBIQUITOUS RED CU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31US9T6yXdL._SL500_AC_SS350_.jpg"/>
          <p:cNvPicPr/>
          <p:nvPr/>
        </p:nvPicPr>
        <p:blipFill>
          <a:blip r:embed="rId1"/>
          <a:stretch/>
        </p:blipFill>
        <p:spPr>
          <a:xfrm>
            <a:off x="5257800" y="609480"/>
            <a:ext cx="33656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ABOUT THE BRAVERMANS STARRED PETER KRAUSE AND LAUREN GRAH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IGHT 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7 TV SERIES WAS ABOUT EARLY MORNINGS AT A SAN ANTONIO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23880" y="762120"/>
            <a:ext cx="6096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PAL CASING SPUN BY MO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76240" y="43434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DIRECTED  BY  RON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N ITS SECOND SEASON STARS LUKE ROBERTS AS A HOSTAGE NEGOTI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XANADU" AND "THE SPIRIT OF 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 PART OF DANTE ALIGHIERTI'S "DIVINE COMEDY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ABOUT STEALING CARS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VIDEO GAME FRANCHIS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UNAR MISSION IN 1970 WAS INTENDED TO LAND ON THE MOON BUT HAD TO BE ABORT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495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UBIQUITOUS RED CU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31US9T6yXdL._SL500_AC_SS350_.jpg"/>
          <p:cNvPicPr/>
          <p:nvPr/>
        </p:nvPicPr>
        <p:blipFill>
          <a:blip r:embed="rId1"/>
          <a:stretch/>
        </p:blipFill>
        <p:spPr>
          <a:xfrm>
            <a:off x="5257800" y="609480"/>
            <a:ext cx="3365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7 TV SERIES WAS ABOUT EARLY MORNINGS AT A SAN ANTONIO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2:00:59Z</dcterms:created>
  <dc:creator>Jennifer Budzinski</dc:creator>
  <dc:description/>
  <dc:language>en-US</dc:language>
  <cp:lastModifiedBy>Erich Friedman</cp:lastModifiedBy>
  <dcterms:modified xsi:type="dcterms:W3CDTF">2020-08-28T10:49:14Z</dcterms:modified>
  <cp:revision>336</cp:revision>
  <dc:subject/>
  <dc:title>Slide 1</dc:title>
</cp:coreProperties>
</file>