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6C32-A8C9-47EF-B750-D2A9B8C98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49B1-7F2C-42F5-B9BC-82CB64EDD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801B-C2F7-4F52-A8F1-1950BDBB1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AE04-B282-46AE-BC41-69F96627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720C-6B92-4D55-A932-BC035EEA8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B9B8-E079-4D85-AAA3-1BA9ED921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33A7E-1B1C-4A73-957D-EE51E02B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D3A1-7579-440A-9921-5A950429F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8C43-5FC8-4A61-A278-9E49EACD0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5B76-2517-4173-B283-3960CAAC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A21D-7D0B-4259-A195-CBF5F7F00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B87E-4A0C-4B9C-8FF1-A718BD30B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9714-10F6-4652-AEC8-029D9CD0A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3F0C-EEE5-45F5-9BFC-D0966BACC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CBE1-6B42-4038-9A96-C41D7EF89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B566-74F8-40DA-AFB4-80E2BCBBD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0FC7-2D13-4C7B-AC6F-EB14869D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B49F-E0DC-4A67-929B-93893718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F2EBC-51F9-43B3-A5C5-07696CC8C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E480-C18D-4904-9706-B4809474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618D-00EF-46A7-BA1D-530AD26C9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4DF9-192C-4620-909A-8495B727F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2CF3-A2CD-4AD2-922F-9B4C3EA15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BILLY CRYSTAL PLAY IN THE WOODY ALLEN FILM "DECONSTRUCTING HAR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MPE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RETURN OF THE JEDI", WHAT CHARACTER'S LAST WORDS ARE "NOW, YOUNG SKYWALKER, YOU WILL D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EL  OF  FOR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EST RUNNING, AFTER "THE PRICE IS RIGHT" AND "JEOPARDY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S OF TRANQUILITY, SHOWERS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333440" y="75420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ANIMATED NATIVITY FILM MADE $62 MILLION AT THE BOX OFF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"JISEI" IS AN ANCIENT JAPANESE POEM WRITTEN IMMEDIATELY BEFOR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333440" y="48006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S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914400"/>
            <a:ext cx="502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IS THIS A STATU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41ERv1-c2-L._SL500_AC_SS350_.jpg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499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BEATLES SONG, WHO LIVES ON A HILL WHERE HE SEES THE WORLD SPINNING 'R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RETURN OF THE JEDI", WHAT CHARACTER'S LAST WORDS ARE "NOW, YOUNG SKYWALKER, YOU WILL D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28880" y="48099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5000"/>
            <a:ext cx="746784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NGEONS &amp; DRAGONS, CHARACTERS ARE RATED ON 6 ATTRIBUTES WITH INITIALS SIWDCC.  WHAT DOES THE "S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LE DID BILLY CRYSTAL PLAY IN THE WOODY ALLEN FILM "DECONSTRUCTING HAR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219320" y="480060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TAROT  C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ME SHOW IS THE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ONGEST RUNNING, AFTER "THE PRICE IS RIGHT" AND "JEOPARDY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85800" y="76212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WOULD YOU FIND THE SEAS OF TRANQUILITY, SHOWERS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7 ANIMATED NATIVITY FILM MADE $62 MILLION AT THE BOX OFF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"JISEI" IS AN ANCIENT JAPANESE POEM WRITTEN IMMEDIATELY BEFOR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181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DY IS THIS A STATU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41ERv1-c2-L._SL500_AC_SS350_.jpg"/>
          <p:cNvPicPr/>
          <p:nvPr/>
        </p:nvPicPr>
        <p:blipFill>
          <a:blip r:embed="rId1"/>
          <a:stretch/>
        </p:blipFill>
        <p:spPr>
          <a:xfrm>
            <a:off x="6019920" y="457200"/>
            <a:ext cx="259056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BEATLES SONG, WHO LIVES ON A HILL WHERE HE SEES THE WORLD SPINNING 'R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DUNGEONS &amp; DRAGONS, CHARACTERS ARE RATED ON 6 ATTRIBUTES WITH INITIALS SIWDCC.  WHAT DOES THE "S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20:05:38Z</dcterms:created>
  <dc:creator>Jennifer Budzinski</dc:creator>
  <dc:description/>
  <dc:language>en-US</dc:language>
  <cp:lastModifiedBy>Erich Friedman</cp:lastModifiedBy>
  <dcterms:modified xsi:type="dcterms:W3CDTF">2020-08-28T10:49:59Z</dcterms:modified>
  <cp:revision>425</cp:revision>
  <dc:subject/>
  <dc:title>Slide 1</dc:title>
</cp:coreProperties>
</file>