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802C-569A-4D6C-A33E-EE16E0A7E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1A0C-BBB5-41A0-9488-6E75D030C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697D-303A-47C6-98DF-E2D8D3231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3579-6DD2-43DD-9D36-BF5A19BE4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4788-9903-4D84-ABE5-5F6BA7264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54BF-F23E-47D2-8D90-6A9C5FC98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6D96-6C8A-488D-B07C-3654D01DC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88B5-1723-460E-91A9-561B86B10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B833-A806-40A4-845B-5BA43BE28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9F29-6EC4-40B8-A3BE-62F99341C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5763-4E61-4F40-9FE4-1A5F1A880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B479-9326-4FE7-A4B8-8631742C8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B06C-936F-43AC-A67C-A6313967A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4E54-2EEA-455C-ADA4-231BC008C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7D29-9EA3-42B4-9AA6-A78258245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294D-E442-4B0F-9BF2-29757F4BE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D66E-B0D3-4D54-9D99-49A403578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6A50-17B4-40D7-993A-37C1C8540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6E30-01E2-457E-A416-F0B3D25CA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4C0B-DEAF-4C1C-9BE6-FB07C4048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5C80-3393-4C68-9FF3-DB0F92357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306E-9A78-439B-8B3D-D5E65ACF7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D891-9FB4-497A-873F-BB22423D4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LE DID BILLY CRYSTAL PLAY IN THE WOODY ALLEN FILM "DECONSTRUCTING HAR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0060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EMPER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RETURN OF THE JEDI", WHAT CHARACTER'S LAST WORDS ARE "NOW, YOUNG SKYWALKER, YOU WILL DI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523880" y="480060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EEL  OF  FORTU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ME SHOW IS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ONGEST RUNNING, AFTER "THE PRICE IS RIGHT" AND "JEOPARDY!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0060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647640" y="762120"/>
            <a:ext cx="7848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OULD YOU FIND THE SEAS OF TRANQUILITY, SHOWERS, AND FERTIL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0060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333440" y="754200"/>
            <a:ext cx="64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7 ANIMATED NATIVITY FILM MADE $62 MILLION AT THE BOX OFF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00600"/>
            <a:ext cx="6858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"JISEI" IS AN ANCIENT JAPANESE POEM WRITTEN IMMEDIATELY BEFOR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333440" y="4800600"/>
            <a:ext cx="3429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S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533520" y="914400"/>
            <a:ext cx="5029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DY IS THIS A STATUE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3" descr="41ERv1-c2-L._SL500_AC_SS350_.jpg"/>
          <p:cNvPicPr/>
          <p:nvPr/>
        </p:nvPicPr>
        <p:blipFill>
          <a:blip r:embed="rId1"/>
          <a:stretch/>
        </p:blipFill>
        <p:spPr>
          <a:xfrm>
            <a:off x="6019920" y="457200"/>
            <a:ext cx="2590560" cy="499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00200" y="480060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BEATLES SONG, WHO LIVES ON A HILL WHERE HE SEES THE WORLD SPINNING 'ROU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RETURN OF THE JEDI", WHAT CHARACTER'S LAST WORDS ARE "NOW, YOUNG SKYWALKER, YOU WILL DI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028880" y="480996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5000"/>
            <a:ext cx="746784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DUNGEONS &amp; DRAGONS, CHARACTERS ARE RATED ON 6 ATTRIBUTES WITH INITIALS SIWDCC.  WHAT DOES THE "S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DEV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LE DID BILLY CRYSTAL PLAY IN THE WOODY ALLEN FILM "DECONSTRUCTING HAR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219320" y="4800600"/>
            <a:ext cx="6705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TAROT  C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ME SHOW IS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ONGEST RUNNING, AFTER "THE PRICE IS RIGHT" AND "JEOPARDY!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OULD YOU FIND THE SEAS OF TRANQUILITY, SHOWERS, AND FERTIL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7 ANIMATED NATIVITY FILM MADE $62 MILLION AT THE BOX OFF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"JISEI" IS AN ANCIENT JAPANESE POEM WRITTEN IMMEDIATELY BEFOR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5181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DY IS THIS A STATUE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2" descr="41ERv1-c2-L._SL500_AC_SS350_.jpg"/>
          <p:cNvPicPr/>
          <p:nvPr/>
        </p:nvPicPr>
        <p:blipFill>
          <a:blip r:embed="rId1"/>
          <a:stretch/>
        </p:blipFill>
        <p:spPr>
          <a:xfrm>
            <a:off x="6019920" y="457200"/>
            <a:ext cx="2590560" cy="49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BEATLES SONG, WHO LIVES ON A HILL WHERE HE SEES THE WORLD SPINNING 'ROU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DUNGEONS &amp; DRAGONS, CHARACTERS ARE RATED ON 6 ATTRIBUTES WITH INITIALS SIWDCC.  WHAT DOES THE "S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7T20:05:38Z</dcterms:created>
  <dc:creator>Jennifer Budzinski</dc:creator>
  <dc:description/>
  <dc:language>en-US</dc:language>
  <cp:lastModifiedBy>Erich Friedman</cp:lastModifiedBy>
  <dcterms:modified xsi:type="dcterms:W3CDTF">2020-08-28T10:49:59Z</dcterms:modified>
  <cp:revision>425</cp:revision>
  <dc:subject/>
  <dc:title>Slide 1</dc:title>
</cp:coreProperties>
</file>