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B32-21C2-4C1F-95A7-78452523A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6918-FA50-467B-88C1-120B5422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4EC-F9E8-442E-8242-B62509D4F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C21-F06D-4C11-BEFA-414D4878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E880-3536-42D4-B7DF-10A81946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3D7-C974-4497-BA5B-1DC3CCB2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06B4-AC75-46AF-91FE-2AB35C96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98AB-4D9F-4D96-96A3-2C3D4678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C0D-FC3E-49F2-85D9-F5860412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EC8-B1CB-436B-821C-79F85AF6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4A8-30F2-4EC6-A681-902817A2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E67A-B916-4065-83BA-33DC8C2ED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1DC-0F91-4580-B788-39684336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BEF-21AA-4639-B9FC-4767D3DA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9E69-2E06-428F-9E81-4333AF86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0375-62C5-4B6A-817B-D6B93B400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45B1-EC92-4FDC-BBCE-99F6207DB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CBE-C3AB-4971-9372-5270A6BB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2E3-412C-46DC-84A7-831E6966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7DF-56CB-4BFD-92BF-301E3185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3693-1734-40F7-856A-8717BD2C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5BC-2533-4E1E-A19C-86D36E2AF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FC4-4906-4C9A-AD06-2CDBF6C3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E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EL  OF  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333440" y="7542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914400"/>
            <a:ext cx="50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099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5000"/>
            <a:ext cx="74678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80060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AROT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20:05:38Z</dcterms:created>
  <dc:creator>Jennifer Budzinski</dc:creator>
  <dc:description/>
  <dc:language>en-US</dc:language>
  <cp:lastModifiedBy>Erich Friedman</cp:lastModifiedBy>
  <dcterms:modified xsi:type="dcterms:W3CDTF">2020-08-28T10:49:59Z</dcterms:modified>
  <cp:revision>425</cp:revision>
  <dc:subject/>
  <dc:title>Slide 1</dc:title>
</cp:coreProperties>
</file>