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3F8C-DC15-4D51-A3F5-A1A7081B0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CC6D-D316-466E-B70A-A3ADA82F9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17C3-9177-490F-9873-4B55808CD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6464-B891-4049-AF62-4E7C24773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99BD-DB05-4401-BE40-07CC823E4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9109-3B79-4955-80BC-6C8AFE78E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8DF3-4C06-49DB-95A9-25A7B17C7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1374-DE07-47F4-B7E6-399317CC2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279A-C6C3-460F-846A-21CA41A19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6D26-E419-492B-A3F0-6AE3B4975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E4BA-CAA0-4D0E-B215-985F5624D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0DA0-1200-4700-A336-18CA9A07C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2759-380D-45D3-A757-81A7F8AA8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E956-791C-4527-AE33-1105C4501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3D75-4E38-4BAC-B426-6417B8B33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D366-4ADF-4F80-A3CD-DB5271195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FAC2-E5BA-47B0-BC21-93D3D0CFB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1871-E307-4780-8126-B9B11C44D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2038-06C3-4399-B671-8164AA907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7465-1345-444B-A630-1B5A5CBA8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433D-669C-4900-BF8B-5AF593216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6CDA-D311-48FA-8187-FDA5AE70E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D34B-D81C-45B9-9330-33EA860FC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PERCUSSION INSTRU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80'S ELECTRO-POP DUO HAD THE #1 SONG "DON'T DISTURB THIS GROO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ZODIAC SIGN ARE YOU IF YOU WERE BORN ON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JU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371600" y="762120"/>
            <a:ext cx="6400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PINK FLOYD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EST SELLING ALBUM, AFTER "DARK SIDE OF THE MO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R  SP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LATION CAN USUALLY NOT BE FORCED TO TESTIFY AGAINST 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STEPHEN KING NOVEL IS ABOUT A CLOWN TERRORIZING CHILDR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REALITY HIP-HOP COMPETITION TV SERIES FOR 4 SEASONS ON THE LIFETIME NETWORK: "___ ___ GA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H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523880" y="762120"/>
            <a:ext cx="6096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MIAMI'S PRO BASKETBALL TEAM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80'S ELECTRO-POP DUO HAD THE #1 SONG "DON'T DISTURB THIS GROO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ROCKY BALBOA'S MORNING ME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U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PERCUSSION INSTRU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YOU  CAN  B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ZODIAC SIGN ARE YOU IF YOU WERE BORN ON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JU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PINK FLOYD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EST SELLING ALBUM, AFTER "DARK SIDE OF THE MO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LATION CAN USUALLY NOT BE FORCED TO TESTIFY AGAINST YOU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STEPHEN KING NOVEL IS ABOUT A CLOWN TERRORIZING CHILDR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REALITY HIP-HOP COMPETITION TV SERIES FOR 4 SEASONS ON THE LIFETIME NETWORK: "___ ___ GA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428840" y="762120"/>
            <a:ext cx="6286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MIAMI'S PRO BASKETBALL TEAM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ROCKY BALBOA'S MORNING ME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12:41:22Z</dcterms:created>
  <dc:creator>Jennifer Budzinski</dc:creator>
  <dc:description/>
  <dc:language>en-US</dc:language>
  <cp:lastModifiedBy>Erich Friedman</cp:lastModifiedBy>
  <dcterms:modified xsi:type="dcterms:W3CDTF">2020-08-28T10:50:51Z</dcterms:modified>
  <cp:revision>419</cp:revision>
  <dc:subject/>
  <dc:title>Slide 1</dc:title>
</cp:coreProperties>
</file>