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F7D-E465-407C-8EF8-8BCE1B4C5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2948-B922-40D3-A107-C5777880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44A3-CB34-4C19-B29E-B60E5CEA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90A-55C8-4C2D-8DE5-05B117F1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2CC-1423-4AD9-A4EB-01C209CB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0604-DF10-4763-BE56-0DD07B3C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1861-3817-4E75-8004-D45265875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BE8-1953-491A-9C1E-546ED48F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D3E6-8DFB-42DF-9C3C-B6D9C3349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939A-C85E-4DD3-AA3E-67977171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0007-AFAC-4A3D-838D-D714DD249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3572-8690-4CD5-9330-EEB3586A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F290-A43A-46FC-8803-D1BCBED0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14BE-6CDB-4F1B-A1E5-5B17F70D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77B2-EB2C-4FFD-8445-85073717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596-9763-417D-8273-2F66DE59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A79A-B223-41BE-BD4D-F9438792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9FA8-0A68-4C59-AD2C-6D989032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DF1-F4E5-475C-8C56-2BE780F26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6313-8C71-4A7F-9832-F88D6A33A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7129-4740-4694-BD68-E3CEBD88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6AB-4A91-4B94-9DDE-7E41019F8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8BB7-B5BE-4B0C-B472-A376D0BE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ERCUSSION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0'S ELECTRO-POP DUO HAD THE #1 SONG "DON'T DISTURB THIS GRO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ARE YOU IF YOU WERE BORN O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JU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NK FLOYD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SELLING ALBUM, AFTER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SP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 CAN USUALLY NOT BE FORCED TO TESTIFY AGAINST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TEPHEN KING NOVEL IS ABOUT A CLOWN TERRORIZING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ALITY HIP-HOP COMPETITION TV SERIES FOR 4 SEASONS ON THE LIFETIME NETWORK: "___ ___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AMI'S PRO BASKETBALL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0'S ELECTRO-POP DUO HAD THE #1 SONG "DON'T DISTURB THIS GRO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CKY BALBOA'S MORNING M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ERCUSSION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B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ARE YOU IF YOU WERE BORN O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JU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NK FLOYD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SELLING ALBUM, AFTER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 CAN USUALLY NOT BE FORCED TO TESTIFY AGAINST YO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TEPHEN KING NOVEL IS ABOUT A CLOWN TERRORIZING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ALITY HIP-HOP COMPETITION TV SERIES FOR 4 SEASONS ON THE LIFETIME NETWORK: "___ ___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AMI'S PRO BASKETBALL TEAM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CKY BALBOA'S MORNING M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2:41:22Z</dcterms:created>
  <dc:creator>Jennifer Budzinski</dc:creator>
  <dc:description/>
  <dc:language>en-US</dc:language>
  <cp:lastModifiedBy>Erich Friedman</cp:lastModifiedBy>
  <dcterms:modified xsi:type="dcterms:W3CDTF">2020-08-28T10:50:51Z</dcterms:modified>
  <cp:revision>419</cp:revision>
  <dc:subject/>
  <dc:title>Slide 1</dc:title>
</cp:coreProperties>
</file>