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AA9A-7B43-4BED-A016-104CD1873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D5D6-25A3-4AD6-A623-BDC8D8638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A763-C737-412A-80F3-43262A94D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CCB2-9AC3-41B0-8DA6-7C1F6F93D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E889-FEAC-48A3-83BA-65CB475F1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0A99-EF87-4457-B631-18B3D53A9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B479-87EF-4BF0-BF4A-3FE6231A8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412F-BD67-4717-8368-54DDD6522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2337-5FD2-41CA-B35A-4119EB79C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8114-F7BA-44D1-B74E-351AFB64F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5E98-20EF-43B9-A736-7D5960FC5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12A7-5A96-4A3F-98D5-93295B35A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1FFF-4496-4B95-90E1-54B5A4F44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390B-D05E-4AD6-BA5C-9F3445183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8B54-2D7B-49BC-A4D3-27A9E959C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463D-D579-412A-B446-A57D8C16D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431A-7DFF-487B-9E66-4F2579FB6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440B-3392-4DA0-B284-D1681C21C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E923-3744-4C4F-84A0-9EF976EBA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2758-42AA-4ABC-B91D-4E82AD4DF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1E7C-1B2E-41B9-A842-41E8D0236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C54E-5E10-4568-B458-A986B7FE0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12E7-4153-48A1-BE3B-22746083B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PERCUSSION INSTRU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80'S ELECTRO-POP DUO HAD THE #1 SONG "DON'T DISTURB THIS GROO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ZODIAC SIGN ARE YOU IF YOU WERE BORN ON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JU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371600" y="762120"/>
            <a:ext cx="6400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PINK FLOYD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ST SELLING ALBUM, AFTER "DARK SIDE OF THE MO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R  SP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ATION CAN USUALLY NOT BE FORCED TO TESTIFY AGAINST YO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STEPHEN KING NOVEL IS ABOUT A CLOWN TERRORIZING CHILDR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REALITY HIP-HOP COMPETITION TV SERIES FOR 4 SEASONS ON THE LIFETIME NETWORK: "___ ___ GA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523880" y="762120"/>
            <a:ext cx="6096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IAMI'S PRO BASKETBALL TEAM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80'S ELECTRO-POP DUO HAD THE #1 SONG "DON'T DISTURB THIS GROO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ROCKY BALBOA'S MORNING ME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PERCUSSION INSTRU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YOU  CAN  B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ZODIAC SIGN ARE YOU IF YOU WERE BORN ON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JU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PINK FLOYD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ST SELLING ALBUM, AFTER "DARK SIDE OF THE MO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ATION CAN USUALLY NOT BE FORCED TO TESTIFY AGAINST YOU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STEPHEN KING NOVEL IS ABOUT A CLOWN TERRORIZING CHILDR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REALITY HIP-HOP COMPETITION TV SERIES FOR 4 SEASONS ON THE LIFETIME NETWORK: "___ ___ GA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428840" y="762120"/>
            <a:ext cx="6286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IAMI'S PRO BASKETBALL TEAM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ROCKY BALBOA'S MORNING ME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12:41:22Z</dcterms:created>
  <dc:creator>Jennifer Budzinski</dc:creator>
  <dc:description/>
  <dc:language>en-US</dc:language>
  <cp:lastModifiedBy>Erich Friedman</cp:lastModifiedBy>
  <dcterms:modified xsi:type="dcterms:W3CDTF">2020-08-28T10:50:51Z</dcterms:modified>
  <cp:revision>419</cp:revision>
  <dc:subject/>
  <dc:title>Slide 1</dc:title>
</cp:coreProperties>
</file>