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DDB3-712A-4214-B70F-07E9E8DE1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F785-B153-418A-A2BA-F7883659D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660C-5187-49AC-A4FA-66AA4AB68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E057-F52A-4F16-9026-F25CD1C9D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4D46-4803-4BFB-AEE6-183875C96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2450-5817-4E00-BC31-05AD80DF9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51C0-71F5-4904-936C-75D159B80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4FF7-138D-4E35-BEB9-DBD9C75AC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C30F-584A-4BF0-98B7-B7BA1CA2E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221E-4722-483E-9BDB-9C45CC275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D3C3-9904-4304-906B-2672253DD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70AE-ACF6-4CA9-B5E4-48BAAD351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7659-8182-4DF4-83D3-A1F668DF8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C2F5-26AE-4DC3-B270-ECD80312D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2C1D-B9F3-415A-B4B9-D05BD38FE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4278-4956-489D-9AD7-EE20B1F28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764E-16BD-4ADA-A6E2-EBCD89DD1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F051-6ADF-4462-8EB4-27992686C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C8AC-B206-4884-9132-23A60743D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DCF2-9C29-4ADA-AB7A-5699B2DC2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1082-861C-4FB4-B237-BC27314FD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B1D6-A0A9-4D9F-B386-EEBDF4087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46DA-8B4B-49EB-89B5-24EEAC675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ROCKER WHO SANG   "I LOVE ROCK 'N RO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FLOWER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330px-Lilium_candidum_1.jpg"/>
          <p:cNvPicPr/>
          <p:nvPr/>
        </p:nvPicPr>
        <p:blipFill>
          <a:blip r:embed="rId1"/>
          <a:stretch/>
        </p:blipFill>
        <p:spPr>
          <a:xfrm>
            <a:off x="2610000" y="1905120"/>
            <a:ext cx="3924000" cy="292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TH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JOEL COEN'S YOUNGER BROTHER, WHO TAKES PRODUCING CREDIT ON ALL THEIR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F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, WHICH ASKS A COCKNEY WOMANIZER "WHAT'S IT ALL ABOUT?" WAS A HIT FOR BOTH CILLA BLACK AND DIONNE WARWI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C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58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VE-BEDROOM MANSION ON THE EAST RIVER IS THE OFFICIAL RESIDENCE OF THE MAYOR OF NEW YORK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HERIFF IN "TOY STORY" VOICED BY TOM HAN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295280" y="4892760"/>
            <a:ext cx="655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BIOGRAPHY OF A BLIND MUSICIAN STARRED WON JAMIE FOXX AN OSCAR FOR BEST AC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0" y="762120"/>
            <a:ext cx="9144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9 FILM STARRING MEL GIBSON AS A DEVELOPMENTALLY IMPAIRED WORKMAN IS BASED ON A NOVEL BY COLLEEN MCCULLOUG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FLOWER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330px-Lilium_candidum_1.jpg"/>
          <p:cNvPicPr/>
          <p:nvPr/>
        </p:nvPicPr>
        <p:blipFill>
          <a:blip r:embed="rId1"/>
          <a:stretch/>
        </p:blipFill>
        <p:spPr>
          <a:xfrm>
            <a:off x="2514600" y="2057400"/>
            <a:ext cx="4114800" cy="30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FILM STARRED SIMON PEGG AND NICK FROST AND AN ALIEN VOICED BY SETH ROG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AN  (JET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ROCKER WHO SANG     "I LOVE ROCK 'N RO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52280" y="4876920"/>
            <a:ext cx="8839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OPLE  WITH  LAST  NAME  "ALLE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JOEL COEN'S YOUNGER BROTHER, WHO TAKES PRODUCING CREDIT ON ALL THEIR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571680" y="762120"/>
            <a:ext cx="800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, WHICH ASKS A COCKNEY WOMANIZER "WHAT'S IT ALL ABOUT?" WAS A HIT FOR BOTH CILLA BLACK AND DIONNE WARWI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VE-BEDROOM MANSION ON THE EAST RIVER IS THE OFFICIAL RESIDENCE OF THE MAYOR OF NEW YORK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HERIFF IN "TOY STORY" VOICED BY TOM HAN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BIOGRAPHY OF A BLIND MUSICIAN STARRED WON JAMIE FOXX AN OSCAR FOR BEST AC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9 FILM STARRING MEL GIBSON AS A DEVELOPMENTALLY IMPAIRED WORKMAN IS BASED ON A NOVEL BY COLLEEN MCCULLOUG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FILM STARRED SIMON PEGG AND NICK FROST AND AN ALIEN VOICED BY SETH ROG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8T14:53:31Z</dcterms:created>
  <dc:creator>Jennifer Budzinski</dc:creator>
  <dc:description/>
  <dc:language>en-US</dc:language>
  <cp:lastModifiedBy>Erich Friedman</cp:lastModifiedBy>
  <dcterms:modified xsi:type="dcterms:W3CDTF">2020-08-28T10:51:28Z</dcterms:modified>
  <cp:revision>428</cp:revision>
  <dc:subject/>
  <dc:title>Slide 1</dc:title>
</cp:coreProperties>
</file>