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C65-D1CB-45E1-95BF-D3F235D73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9B6-F26F-4BCB-BB6E-B506EA2C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552A-23FE-4EA2-AD8E-C4CAFE90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CA2C-38B8-4968-81C9-F711F18F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68E-8BEC-43C5-94C2-5C05AC50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4B0-4BFC-4464-9658-8DC74A00D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67F0-2D25-42B0-ADCA-13AE1EC6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106-0A7C-411E-AABC-0349ABD2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35A-9FBC-4798-9F4E-4FE1EB94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E78-BF77-4DDB-BC21-06F300E6E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BD5D-F971-42A0-A5EC-FC509857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589E-CE92-4418-BFD4-0E2F5E50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AB4A-0D80-4147-8F70-A17E9570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4C85-44C5-49CD-84DC-FC57852CC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E672-1133-47D0-BAAE-B510C6AB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A08E-53E0-431F-ADDB-7D3A16B4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2E9-D302-4C07-9AF3-B32AEB35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A79-FA8D-49E4-BD1C-4666248B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7ED-2EE1-43CE-9215-9EF22F2E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337-111D-4D3F-A6A9-9DB392E2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0C57-5FF4-4A5F-8599-5574358AC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AF6-9E53-4E38-9BCA-F45997C2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D90B-ED4A-48C6-86A0-3094490A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"I LOVE ROCK 'N RO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330px-Lilium_candidum_1.jpg"/>
          <p:cNvPicPr/>
          <p:nvPr/>
        </p:nvPicPr>
        <p:blipFill>
          <a:blip r:embed="rId1"/>
          <a:stretch/>
        </p:blipFill>
        <p:spPr>
          <a:xfrm>
            <a:off x="2610000" y="1905120"/>
            <a:ext cx="39240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27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7621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330px-Lilium_candidum_1.jpg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(JE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  "I LOVE ROCK 'N RO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"ALL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4:53:31Z</dcterms:created>
  <dc:creator>Jennifer Budzinski</dc:creator>
  <dc:description/>
  <dc:language>en-US</dc:language>
  <cp:lastModifiedBy>Erich Friedman</cp:lastModifiedBy>
  <dcterms:modified xsi:type="dcterms:W3CDTF">2020-08-28T10:51:28Z</dcterms:modified>
  <cp:revision>428</cp:revision>
  <dc:subject/>
  <dc:title>Slide 1</dc:title>
</cp:coreProperties>
</file>