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E54B-F95B-470E-A76C-D10533BC9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F030-EA15-4F72-8391-EDD75E596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CCB7C-F52C-470E-8E21-C6F4F04F7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1FB2-7F36-4F5E-8A47-8B2AA26E0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09F0-4B07-49AC-8591-CBAF06F2A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50BE-5DA9-4B59-B29C-BE3B84E8B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47B2-67DF-4A1A-B83C-C3A1255D2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72AD-C81A-4E16-AD23-5A3DB544B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DA1F-EDAD-498B-A82F-6C9D99EA6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24C7-52F0-4738-B787-DB4E9C8B1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2FB8-C91D-4419-992A-CDFFBEC81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AA98-C7B6-4BBA-BFC6-64DC98C33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ED09-91B6-4751-B9BC-47FAAF151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01C7-CF48-4531-B1E5-DD316EF38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9770-0430-4D1E-B440-A29F48EE1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913D-A91C-47C1-99E4-38BE7CC61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EE8F-B8FA-44A3-8D08-D2ED4EECA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EA1E-CCCE-469A-9931-0173392FF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26D2-771D-45DB-A273-D0A925D83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7750-2336-4144-BEF4-32950FA6A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FB54-5592-4621-8C2D-FB18024A9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CB6A-1952-4F9E-8C2E-AA20ED019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A478-A848-4283-96EF-2E54238D6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ROCKER WHO SANG   "I LOVE ROCK 'N RO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LOWER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330px-Lilium_candidum_1.jpg"/>
          <p:cNvPicPr/>
          <p:nvPr/>
        </p:nvPicPr>
        <p:blipFill>
          <a:blip r:embed="rId1"/>
          <a:stretch/>
        </p:blipFill>
        <p:spPr>
          <a:xfrm>
            <a:off x="2610000" y="1905120"/>
            <a:ext cx="392400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OEL COEN'S YOUNGER BROTHER, WHO TAKES PRODUCING CREDIT ON ALL THEIR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WHICH ASKS A COCKNEY WOMANIZER "WHAT'S IT ALL ABOUT?" WAS A HIT FOR BOTH CILLA BLACK AND DIONNE WARW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C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58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VE-BEDROOM MANSION ON THE EAST RIVER IS THE OFFICIAL RESIDENCE OF THE MAYOR OF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HERIFF IN "TOY STORY" VOICED BY TOM HA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9276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BIOGRAPHY OF A BLIND MUSICIAN STARRED WON JAMIE FOXX AN OSCAR FOR BEST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0" y="762120"/>
            <a:ext cx="9144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FILM STARRING MEL GIBSON AS A DEVELOPMENTALLY IMPAIRED WORKMAN IS BASED ON A NOVEL BY COLLEEN MCCULLOU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LOWER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330px-Lilium_candidum_1.jpg"/>
          <p:cNvPicPr/>
          <p:nvPr/>
        </p:nvPicPr>
        <p:blipFill>
          <a:blip r:embed="rId1"/>
          <a:stretch/>
        </p:blipFill>
        <p:spPr>
          <a:xfrm>
            <a:off x="2514600" y="2057400"/>
            <a:ext cx="411480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RED SIMON PEGG AND NICK FROST AND AN ALIEN VOICED BY SETH RO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(JET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ROCKER WHO SANG     "I LOVE ROCK 'N RO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2280" y="4876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OPLE  WITH  LAST  NAME  "ALL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OEL COEN'S YOUNGER BROTHER, WHO TAKES PRODUCING CREDIT ON ALL THEIR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WHICH ASKS A COCKNEY WOMANIZER "WHAT'S IT ALL ABOUT?" WAS A HIT FOR BOTH CILLA BLACK AND DIONNE WARW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VE-BEDROOM MANSION ON THE EAST RIVER IS THE OFFICIAL RESIDENCE OF THE MAYOR OF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HERIFF IN "TOY STORY" VOICED BY TOM HAN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BIOGRAPHY OF A BLIND MUSICIAN STARRED WON JAMIE FOXX AN OSCAR FOR BEST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FILM STARRING MEL GIBSON AS A DEVELOPMENTALLY IMPAIRED WORKMAN IS BASED ON A NOVEL BY COLLEEN MCCULLOU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RED SIMON PEGG AND NICK FROST AND AN ALIEN VOICED BY SETH RO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8T14:53:31Z</dcterms:created>
  <dc:creator>Jennifer Budzinski</dc:creator>
  <dc:description/>
  <dc:language>en-US</dc:language>
  <cp:lastModifiedBy>Erich Friedman</cp:lastModifiedBy>
  <dcterms:modified xsi:type="dcterms:W3CDTF">2020-08-28T10:51:28Z</dcterms:modified>
  <cp:revision>428</cp:revision>
  <dc:subject/>
  <dc:title>Slide 1</dc:title>
</cp:coreProperties>
</file>