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2C1B-C25B-4A17-B137-2AB6C57FC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5893-F3FB-40A8-A396-0A27FC91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B09D-467E-453C-8B97-1EE883605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A21C-9B36-4E5B-8991-63D87146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D42C-06FF-452C-A79C-9F8FF936C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0D05-CE2E-4227-90A1-23C6A555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50FC-4BF8-4DF3-87ED-F28C3681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FF84-7D2A-4BA8-AA6A-D4FA08A6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F17B-FE69-4B94-8A26-EB16BBC42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4826-8171-4093-BD38-6845A60AA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A021-A949-4DF7-81B2-3F0C4467E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3B68-7001-4435-B3D7-C4F67E40A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FE38-1AFF-4A7A-B412-D026EB25F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CEB3-A58F-472E-A39E-898A5FE2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ECF9-B1BF-4B38-B897-30022B7D1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371-4104-4D4A-8366-10BCA980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6AA4-08BB-4F18-A2F3-EEBE23D9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1E33-026C-4BC0-AB41-7564E995B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F183-C493-4BCA-9120-71C7D0870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691A-4134-4745-9D37-0AB24470B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48F2-AA98-4323-B97E-3A864369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BF35-7A3E-4BAA-92CE-B116B5BD1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CC82-6A87-44E1-AAD9-D8728A368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5-1992 ABC SIT-COM ABOUT A PSYCHIATRIST,       A REPORTER, AND THEIR 4 CHILDREN: "GROWING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THESE ANSWERS BE ANAGRAMM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CRUISE AND DUSTIN HOFFMAN FILM: "____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FILM: "SNAKES ON A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8484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THA FRANKLIN SONG: "____ OF FOO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096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G RYAN AND TOM HANKS FILM: "YOU'VE GO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CAL GROUP THAT SANG "AMIE": ____ PRAIRIE LEA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0720" y="762120"/>
            <a:ext cx="71625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FILM: "LAST ____ IN PAR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FESSIONAL FEMALE SOCCER TEAM: "SEATTLE ____ F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CRUISE AND DUSTIN HOFFMAN FILM: "____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AND CHRISTINA RICCI FILM: "BLACK SNAK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5-1992 ABC SIT-COM  ABOUT A PSYCHIATRIST,        A REPORTER, AND THEIR 4 CHILDREN: "GROWING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36576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I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RAN, NEPAL, CHINA, MALI, PERU, TONGA, NIGER, OMAN, SPAIN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5320" y="762120"/>
            <a:ext cx="7353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THESE ANSWERS BE ANAGRAMM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FILM: "SNAKES ON A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THA FRANKLIN SONG: "____ OF FOO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G RYAN AND TOM HANKS FILM: "YOU'VE GO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CAL GROUP THAT SANG "AMIE": ____ PRAIRIE LEAG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FILM: "LAST ____ IN PAR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FESSIONAL FEMALE SOCCER TEAM: "SEATTLE ____ F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AND CHRISTINA RICCI FILM: "BLACK SNAK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20:29:39Z</dcterms:created>
  <dc:creator>Jennifer Budzinski</dc:creator>
  <dc:description/>
  <dc:language>en-US</dc:language>
  <cp:lastModifiedBy>Erich Friedman</cp:lastModifiedBy>
  <dcterms:modified xsi:type="dcterms:W3CDTF">2020-08-28T10:52:32Z</dcterms:modified>
  <cp:revision>399</cp:revision>
  <dc:subject/>
  <dc:title>Slide 1</dc:title>
</cp:coreProperties>
</file>