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45DE-5C79-4006-8484-0B6292EE6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4EB3-C401-4F7B-84C5-C2EB3048D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29E0-860F-472D-8455-B841211F7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C074-89E1-4312-BA16-B38F87504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9603-8248-41C8-947C-31E35E1BB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8E50-A153-47DD-96BD-05D2B83D5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F486-C9D3-4DEF-B65C-3C4CA4A47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76AA-12E1-41E1-945D-12B078CBA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7AAB-6F14-4E67-8C10-D4854FA51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3724-4A43-4594-AE1A-FF52388EB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F813-CDAA-4490-9487-92C988B62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EFDB-811E-4B39-B68E-120816AC7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3E99-ADA2-43E2-8C94-3926019B0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8C12-2F9C-45D2-B702-196FDA17D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D987-E142-42F9-8E82-50F303D69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69B7-B95D-4293-A6B9-09C49461A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4D94-9FA9-4770-8434-7FA3A5D8F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ABEE-5ECA-4C47-AF28-A2E4349DF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CAA6-8AAC-4D30-AEE5-472371163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96BE-A4E1-4224-8717-80209FEFF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3D7A-6B7C-4DD2-B230-C52DDB061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61BE-F9EB-4A06-AEFE-DE26AE583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184F-98D9-4751-8230-BE0BA0C65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85-1992 ABC SIT-COM ABOUT A PSYCHIATRIST,       A REPORTER, AND THEIR 4 CHILDREN: "GROWING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THESE ANSWERS BE ANAGRAMMED I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CRUISE AND DUSTIN HOFFMAN FILM: "____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 FILM: "SNAKES ON A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8484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THA FRANKLIN SONG: "____ OF FOO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096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G RYAN AND TOM HANKS FILM: "YOU'VE GOT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ICAL GROUP THAT SANG "AMIE": ____ PRAIRIE LEAG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90720" y="762120"/>
            <a:ext cx="71625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LON BRANDO FILM: "LAST ____ IN PAR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FESSIONAL FEMALE SOCCER TEAM: "SEATTLE ____ F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CRUISE AND DUSTIN HOFFMAN FILM: "____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 AND CHRISTINA RICCI FILM: "BLACK SNAK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85-1992 ABC SIT-COM  ABOUT A PSYCHIATRIST,        A REPORTER, AND THEIR 4 CHILDREN: "GROWING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36576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RI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RAN, NEPAL, CHINA, MALI, PERU, TONGA, NIGER, OMAN, SPAIN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95320" y="762120"/>
            <a:ext cx="7353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THESE ANSWERS BE ANAGRAMMED I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 FILM: "SNAKES ON A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THA FRANKLIN SONG: "____ OF FOO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G RYAN AND TOM HANKS FILM: "YOU'VE GOT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ICAL GROUP THAT SANG "AMIE": ____ PRAIRIE LEAG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LON BRANDO FILM: "LAST ____ IN PAR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FESSIONAL FEMALE SOCCER TEAM: "SEATTLE ____ F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 AND CHRISTINA RICCI FILM: "BLACK SNAK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20:29:39Z</dcterms:created>
  <dc:creator>Jennifer Budzinski</dc:creator>
  <dc:description/>
  <dc:language>en-US</dc:language>
  <cp:lastModifiedBy>Erich Friedman</cp:lastModifiedBy>
  <dcterms:modified xsi:type="dcterms:W3CDTF">2020-08-28T10:52:32Z</dcterms:modified>
  <cp:revision>399</cp:revision>
  <dc:subject/>
  <dc:title>Slide 1</dc:title>
</cp:coreProperties>
</file>