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49F4-8EE7-4DD4-9A2C-04942521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5C5A-7AA6-405B-842A-A4DFD5249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1C2-23E3-42F0-9F10-831DDE567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2A18-246E-495D-86BE-69563EBCB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960A-9B89-4319-93CD-D92B3118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65ED-7609-437F-AF52-9AB98E7D7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2A64-6C49-4D7A-B7EA-6B605355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A423-21C8-45D9-A8A4-38F63080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0ACC-4094-439B-AFA9-22BF5035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DB8A-63A1-4BDA-A38F-406A1EF7C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895E-9A25-4889-AF98-878FBF909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BC09-0E8E-4DB3-807D-AD9CD601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FE5B-4395-427E-AD5D-7B5192235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CDCE-393F-40D8-959D-17C381D2D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57FE-61FB-4B24-8A91-3D896041F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63B-19A1-4914-969E-D1965EA0B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A9E0-9577-462A-B070-ACCFF2BC7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925-B0B9-480F-9F4B-C89B5136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C028-C0E5-4652-B1E3-8A69216F7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A379-95CA-4911-8AC4-FF879B8C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FB1C-5033-4048-8EB8-B6FE7E29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507B-BAD2-4D3A-B454-0C2B61247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3D12-7CAA-4A45-BD95-7AA857AC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5-1992 ABC SIT-COM ABOUT A PSYCHIATRIST,       A REPORTER, AND THEIR 4 CHILDREN: "GROWING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THESE ANSWERS BE ANAGRAMM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CRUISE AND DUSTIN HOFFMAN FILM: "____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FILM: "SNAKES ON A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8484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SONG: "____ OF FOO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096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 RYAN AND TOM HANKS FILM: "YOU'VE GO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GROUP THAT SANG "AMIE": ____ PRAIRIE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0720" y="762120"/>
            <a:ext cx="71625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FILM: "LAST ____ IN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FESSIONAL FEMALE SOCCER TEAM: "SEATTLE ____ F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CRUISE AND DUSTIN HOFFMAN FILM: "____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AND CHRISTINA RICCI FILM: "BLACK SNAK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85-1992 ABC SIT-COM  ABOUT A PSYCHIATRIST,        A REPORTER, AND THEIR 4 CHILDREN: "GROWING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36576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I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RAN, NEPAL, CHINA, MALI, PERU, TONGA, NIGER, OMAN, SPAIN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THESE ANSWERS BE ANAGRAMM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FILM: "SNAKES ON A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SONG: "____ OF FOO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G RYAN AND TOM HANKS FILM: "YOU'VE GO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CAL GROUP THAT SANG "AMIE": ____ PRAIRIE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FILM: "LAST ____ IN PAR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FESSIONAL FEMALE SOCCER TEAM: "SEATTLE ____ F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 AND CHRISTINA RICCI FILM: "BLACK SNAK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20:29:39Z</dcterms:created>
  <dc:creator>Jennifer Budzinski</dc:creator>
  <dc:description/>
  <dc:language>en-US</dc:language>
  <cp:lastModifiedBy>Erich Friedman</cp:lastModifiedBy>
  <dcterms:modified xsi:type="dcterms:W3CDTF">2020-08-28T10:52:32Z</dcterms:modified>
  <cp:revision>399</cp:revision>
  <dc:subject/>
  <dc:title>Slide 1</dc:title>
</cp:coreProperties>
</file>