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97A6-AD5E-49A1-A007-10D23691F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E16F-91E4-408C-9DC9-9537B6B98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1B54-D4D4-46A1-8480-A673DB7A4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7854-4FA6-429B-9A52-E79D140C9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C88A-79BA-445D-BA1F-3403683AF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5967-0737-429E-BF88-5675153B8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4A9D-3AB4-4262-AEB5-5E2B48100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ED06-B91C-4C5E-8B4D-CCA7D0711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A968-B20D-4F08-9F68-FC76B15E4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8B27-041A-4233-8632-64AE37ED0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95E8-15A8-4628-A3D7-11BF922F5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447C-6EBB-445B-BB55-CC57CE0C6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FC32-A9FF-49DD-83E7-C1B8EE63B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12F9-EEB3-40E9-A047-F6ECE6298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0DEA-3F4E-44AB-AF1E-929FAF301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E42C-1557-48E9-A6A1-CD490598A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F9E9-2B14-4554-BB30-B42658ECE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21D0-627F-4FC2-93F4-FED4D02AE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78D3-9970-45B5-A67B-F7677BFC2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7F99-E6FF-4305-B92B-E238758B8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87E4-7C9C-4067-BA4A-54D25F4FA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B4EC-94A2-4AE8-B7D2-8BB01C4FE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FDCC-1AB4-44B2-8C32-8FF247895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NICKNAME IS USED FOR SOMEONE ATTENDING YALE UNIVERS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JUICE IS USED TO MAKE A MOJI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RIVER THAT STARTS IN THE ALPS AND FLOWS TOWARDS THE NORTH S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MUSICAL FILM WAS BASED ON THE PLAY WHICH WAS BASED ON A CHARLES DICKENS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HAS THE SMALLEST ENDOWMENT, LESS THAN A TENTH OF HARVARD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TOWN'S WATER SUPPLY WAS CONTAMINATED IN 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523880" y="4800600"/>
            <a:ext cx="6096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6-LETTER WORD STARTING WITH "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C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FILM WAS BASED ON THE NOVEL "PUSH" BY SAPPHI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JUICE IS USED TO MAKE A MOJI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28880" y="480528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GAN FILTERS BLOOD TO PRODUCE UR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NICKNAME IS USED FOR SOMEONE ATTENDING YALE UNIVERS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26708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STON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RIVER THAT STARTS IN THE ALPS AND FLOWS TOWARDS THE NORTH S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MUSICAL FILM WAS BASED ON THE PLAY WHICH WAS BASED ON A CHARLES DICKENS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HAS THE SMALLEST ENDOWMENT, LESS THAN A TENTH OF HARVARD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TOWN'S WATER SUPPLY WAS CONTAMINATED IN 20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6-LETTER WORD STARTING WITH "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FILM WAS BASED ON THE NOVEL "PUSH" BY SAPPHIR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GAN FILTERS BLOOD TO PRODUCE UR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7T19:42:07Z</dcterms:created>
  <dc:creator>Jennifer Budzinski</dc:creator>
  <dc:description/>
  <dc:language>en-US</dc:language>
  <cp:lastModifiedBy>Erich Friedman</cp:lastModifiedBy>
  <dcterms:modified xsi:type="dcterms:W3CDTF">2020-08-28T10:53:36Z</dcterms:modified>
  <cp:revision>425</cp:revision>
  <dc:subject/>
  <dc:title>Slide 1</dc:title>
</cp:coreProperties>
</file>