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0C55-0E92-4B94-AF15-7E286F68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97C3-3066-4072-A585-B5A632CF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A05-3297-4C37-B134-2E2B03635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DAC-DE2C-4B4C-87A9-6D76CECE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B4BC-A1CA-41C0-AE33-9A4F4153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2BE2-D592-41C6-9B60-9CB8964C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E84E-BB29-4041-BA58-A394D5D7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788C-05B3-457E-BBFA-59C56C12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07EA-AE5C-4CE6-8B0B-6D23FC11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D7E0-9878-47B6-8B0A-8A25FC750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439F-5F49-4C7F-A870-39D064B3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02F8-85DC-4A85-B630-62312F43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A5E-990C-4154-8948-923AA4F6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E5E-667F-429C-9E9D-FDEEB358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8A3-3D29-4CB5-85E5-EEB08CE1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A425-8232-4EE2-BE75-84ED47C68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57B2-2CFE-412F-94FE-7EA5B91A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2560-C57C-405D-8EE4-0EC53693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5F78-48FD-4323-9F17-5A13DF82B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3EC-039B-44BE-A101-03EF3C2C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E852-57FD-4833-834D-2A4D2745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A86-6BCD-4E98-BF71-0FCC8BE7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30F9-C5C1-4A8E-83D4-B3B49B91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NICKNAME IS USED FOR SOMEONE ATTENDING YALE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JUICE IS USED TO MAKE A MOJ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THAT STARTS IN THE ALPS AND FLOWS TOWARDS THE NORTH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MUSICAL FILM WAS BASED ON THE PLAY WHICH WAS BASED ON A CHARLES DICKEN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SMALLEST ENDOWMENT, LESS THAN A TENTH OF HARVARD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TOWN'S WATER SUPPLY WAS CONTAMINATED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0060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6-LETTER WORD STARTING WITH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BASED ON THE NOVEL "PUSH" BY SAPPHI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JUICE IS USED TO MAKE A MOJ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052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NICKNAME IS USED FOR SOMEONE ATTENDING YALE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2670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O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THAT STARTS IN THE ALPS AND FLOWS TOWARDS THE NORTH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MUSICAL FILM WAS BASED ON THE PLAY WHICH WAS BASED ON A CHARLES DICKEN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SMALLEST ENDOWMENT, LESS THAN A TENTH OF HARVARD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TOWN'S WATER SUPPLY WAS CONTAMINATED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6-LETTER WORD STARTING WITH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BASED ON THE NOVEL "PUSH" BY SAPPHI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9:42:07Z</dcterms:created>
  <dc:creator>Jennifer Budzinski</dc:creator>
  <dc:description/>
  <dc:language>en-US</dc:language>
  <cp:lastModifiedBy>Erich Friedman</cp:lastModifiedBy>
  <dcterms:modified xsi:type="dcterms:W3CDTF">2020-08-28T10:53:36Z</dcterms:modified>
  <cp:revision>425</cp:revision>
  <dc:subject/>
  <dc:title>Slide 1</dc:title>
</cp:coreProperties>
</file>