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78DE-6465-4F04-BBE7-D1758D85D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2A68-2176-4EFF-B084-48DB2FBAF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3A5E-BFF9-4831-89E4-573B42712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409E-8C31-4FD4-88CF-C5990E5AA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F818-F775-4815-A29B-9A537054E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43F4-CF24-463F-A781-0EC77D209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4E40-3EA3-412C-BDEA-F47DDA7F5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7AAD-6C00-4B06-995E-58BC05987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1B14-86AB-4017-8A12-A9764F1F9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7574-4B8C-4603-8A3D-7C9FAE24A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C682-D589-4F5F-AF25-08B7D107C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C0F2-B54C-405B-9065-1CCE2B377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246B-60FD-4470-B47A-C7560C68C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C0A3-8A1C-4B7B-B5CD-0BD020935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401C-3F86-4BE0-9BF8-16E7238F7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0033-A9C2-4377-BA96-1E9FEB146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5BF5-A9C8-4612-BBE5-1DA403FCD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2EF6-D572-48CE-BEEB-F24249FE3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F46C-01E7-43DB-857F-9CDFC3815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E7AF-F58C-46FC-832F-FBBC9E650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9CE0-DFE8-483C-8C40-5065923A4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599F-6055-429F-9805-DA18B1F5A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BE08-F6CF-4FB3-9E19-E1D816F83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-LETTER NICKNAME IS USED FOR SOMEONE ATTENDING YALE UNIVERS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0060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JUICE IS USED TO MAKE A MOJI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0060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H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RIVER THAT STARTS IN THE ALPS AND FLOWS TOWARDS THE NORTH S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006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IVER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8 MUSICAL FILM WAS BASED ON THE PLAY WHICH WAS BASED ON A CHARLES DICKENS NO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0060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VY LEAGUE SCHOOL HAS THE SMALLEST ENDOWMENT, LESS THAN A TENTH OF HARVARD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00600"/>
            <a:ext cx="685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CHIGAN TOWN'S WATER SUPPLY WAS CONTAMINATED IN 201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523880" y="4800600"/>
            <a:ext cx="6096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L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6-LETTER WORD STARTING WITH "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006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ECI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FILM WAS BASED ON THE NOVEL "PUSH" BY SAPPHIR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JUICE IS USED TO MAKE A MOJI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28880" y="480528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D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RGAN FILTERS BLOOD TO PRODUCE UR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-LETTER NICKNAME IS USED FOR SOMEONE ATTENDING YALE UNIVERS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19320" y="4267080"/>
            <a:ext cx="670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THE  WORD  "STON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RIVER THAT STARTS IN THE ALPS AND FLOWS TOWARDS THE NORTH SE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8 MUSICAL FILM WAS BASED ON THE PLAY WHICH WAS BASED ON A CHARLES DICKENS NO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VY LEAGUE SCHOOL HAS THE SMALLEST ENDOWMENT, LESS THAN A TENTH OF HARVARD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CHIGAN TOWN'S WATER SUPPLY WAS CONTAMINATED IN 201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6-LETTER WORD STARTING WITH "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FILM WAS BASED ON THE NOVEL "PUSH" BY SAPPHIR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RGAN FILTERS BLOOD TO PRODUCE UR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7T19:42:07Z</dcterms:created>
  <dc:creator>Jennifer Budzinski</dc:creator>
  <dc:description/>
  <dc:language>en-US</dc:language>
  <cp:lastModifiedBy>Erich Friedman</cp:lastModifiedBy>
  <dcterms:modified xsi:type="dcterms:W3CDTF">2020-08-28T10:53:36Z</dcterms:modified>
  <cp:revision>425</cp:revision>
  <dc:subject/>
  <dc:title>Slide 1</dc:title>
</cp:coreProperties>
</file>