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D58AE-D409-40AF-BF7D-B224312C98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1E8F6-8281-4B86-8C39-5C882E5B62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C792F-946F-4711-B0C9-170C4C608F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1F805-F3DA-4DEA-ACC3-A3C0E3C902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55575-A970-4F41-84C0-9292D9CAED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F88B5-9357-4BF2-8348-4CA9FE60BD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EECA0-3F5A-439D-A4F5-10D67B00C4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2B8B1-01AB-4DC4-BD1A-BEC5C78938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AD8FD-1136-4BC6-98D5-7C7242120C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3BD82-3429-4444-AF38-76F6CC385B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58D1A-9670-4057-A9B6-BB567FB8CA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424FA-D933-45DE-A42C-6E36A269F3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C4AEE-4AAA-4B52-BC2B-47A7B125FB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E7902-0272-4CA8-AE98-9010898FA9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69C49-D6E4-4D74-90AF-D903A03B22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2AE01-9009-4B37-A83C-7FF187A638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4A05D-7094-4C96-897D-8D30DEDEC9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178B6-8A00-465E-A793-4BB642A187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A9C8D-63EE-4CFA-87B8-813DE317E3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1B874-16A5-4435-AB9E-6E3F913184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A4F2B-AF94-4195-8368-53DC2F533E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888CC-6E7C-4981-88F2-0849284DBF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B8599-0013-40FD-B14B-E06DFD5EAE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523880" y="1066680"/>
            <a:ext cx="60962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USICAL GROUP     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FINAL COUNTDOW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MUSICAL GROUP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ICAG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447920" y="762120"/>
            <a:ext cx="62481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SATURDAY IN THE PARK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ANS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371600" y="762120"/>
            <a:ext cx="64008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CARRY ON MY WAYWARD SO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S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866960" y="762120"/>
            <a:ext cx="54100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MORE THAN A FEELING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MER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990720" y="762120"/>
            <a:ext cx="7162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VENTURA HIGHWA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ABA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495360" y="762120"/>
            <a:ext cx="81532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DIXIELAND DELIGH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ZARE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09480" y="762120"/>
            <a:ext cx="79250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LOVE HURT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600200" y="4876920"/>
            <a:ext cx="5943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RL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752480" y="762120"/>
            <a:ext cx="56390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TAKE MY BREATH AWA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447920" y="762120"/>
            <a:ext cx="62481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SATURDAY IN THE PARK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609480" y="4876920"/>
            <a:ext cx="79250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S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638360" y="762120"/>
            <a:ext cx="58672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HEAT OF THE MOMEN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UROP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85800" y="762120"/>
            <a:ext cx="77724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FINAL COUNTDOW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609480" y="4876920"/>
            <a:ext cx="8001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MES  OF  PLA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MUSICAL GROUP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295280" y="761760"/>
            <a:ext cx="65534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CARRY ON MY WAYWARD SO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943280" y="762120"/>
            <a:ext cx="52578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MORE THAN A FEELING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VENTURA HIGHWA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DIXIELAND DELIGH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LOVE HURT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409760" y="762120"/>
            <a:ext cx="6324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TAKE MY BREATH AWA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447920" y="762120"/>
            <a:ext cx="6248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HEAT OF THE MOMEN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5T12:38:54Z</dcterms:created>
  <dc:creator>Jennifer Budzinski</dc:creator>
  <dc:description/>
  <dc:language>en-US</dc:language>
  <cp:lastModifiedBy>Erich Friedman</cp:lastModifiedBy>
  <dcterms:modified xsi:type="dcterms:W3CDTF">2020-08-28T11:01:12Z</dcterms:modified>
  <cp:revision>417</cp:revision>
  <dc:subject/>
  <dc:title>Slide 1</dc:title>
</cp:coreProperties>
</file>