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8896-EEC0-4B3E-A56B-E7A2E69C9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A1A5-F8C1-4661-B0B6-497C1CD2E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260-755A-413B-8559-1C4B695F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7A9CC-8F04-4BE6-BF97-3C831A084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C153-FFF3-4667-8371-6B515DED5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E803-56E8-4ECD-8CB2-64B5FFD91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061E-22CF-4461-98CB-E22AEB86F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FDA8-F2E3-4E4C-B36E-F3593EC2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42EF-72ED-4E4A-81F5-63B472BBF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ECEE0-63C8-4F79-879C-F421B90F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D3B4-ABB6-464E-8F34-F671AB907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D123-C58A-4612-B3E8-7D0B197B5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419D-5363-4B6F-B235-1D210601F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6E3E-6FD2-4B80-ACC8-C101B7B44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573E-7C81-4F48-9A14-3349777D5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F17D-F4EA-4BBC-AB8F-281A8C91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0F0AE-87CF-40BF-9BC1-A4074EAE4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26335-CF1E-4D11-8B14-2EECDA96E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8C06D-1C42-47CD-BDC6-A0B511632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E7CB-425D-46B3-AC35-060471C80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3D39-4386-472B-A5E3-490A881E7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3541-E33E-475B-8BBD-A4C8390E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5872-BE76-4FE9-B233-38BB6633A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23880" y="10666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CA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447920" y="762120"/>
            <a:ext cx="6248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ANS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371600" y="762120"/>
            <a:ext cx="6400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866960" y="762120"/>
            <a:ext cx="5410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E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B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95360" y="762120"/>
            <a:ext cx="8153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ZAR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RL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752480" y="762120"/>
            <a:ext cx="5639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SATURDAY IN THE PAR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609480" y="4876920"/>
            <a:ext cx="7925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638360" y="762120"/>
            <a:ext cx="58672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FINAL COUNTDOW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PLA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MUSICAL GROUP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ARRY ON MY WAYWARD S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943280" y="762120"/>
            <a:ext cx="5257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MORE THAN A FEE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VENTURA HIGH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DIXIELAND DEL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OVE HU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409760" y="76212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AKE MY BREATH AW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47920" y="762120"/>
            <a:ext cx="624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HEAT OF THE MO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5T12:38:54Z</dcterms:created>
  <dc:creator>Jennifer Budzinski</dc:creator>
  <dc:description/>
  <dc:language>en-US</dc:language>
  <cp:lastModifiedBy>Erich Friedman</cp:lastModifiedBy>
  <dcterms:modified xsi:type="dcterms:W3CDTF">2020-08-28T11:01:12Z</dcterms:modified>
  <cp:revision>417</cp:revision>
  <dc:subject/>
  <dc:title>Slide 1</dc:title>
</cp:coreProperties>
</file>