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F30B-58FF-46D1-8B28-0F82D2867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1D3C-972A-4CEB-A3C2-2A3823709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9EDA-B5DC-4401-9D88-FF40F876E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9834-737F-4C29-91DC-8C0C45957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9989-C54B-4801-8E52-1AC89C5E5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B4A0-EF31-42BE-9E21-AF664727C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0C5D-9FEF-414C-A466-3A275DB2B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371B-AED6-476A-BC64-46EE7A0D5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F601-B10B-4900-8594-AEE7F2142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2C91-0389-4958-910D-43C2855B2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50A5-3589-404C-867B-14EE4D250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74E6-66E4-4F2B-BD11-D57067BD1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08E2-4883-42B5-803C-FEB01F441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7CE1-9126-49BA-A08B-BBB09511B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5F9B-9BEC-4E83-91C7-787FD9F3F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A8EC-66A0-4615-8039-1F2A83425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5AA6-1D3A-4C4C-9B96-0136BE5CD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3164-93A2-4054-9DF5-167778B8D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9538-B204-4DCC-8B98-387D910A0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08B4-F0B7-42DE-B0A4-5FD46BA65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27B0-0718-43EA-9D8F-6895C5798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95EB-6038-4500-A62C-64708BFFF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B3C5-6329-414D-AE4A-639F0314F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0666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AL GROUP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FINAL COUNTD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MUSICAL GROUP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A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447920" y="762120"/>
            <a:ext cx="6248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ATURDAY IN THE PAR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NS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371600" y="762120"/>
            <a:ext cx="6400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ARRY ON MY WAYWARD S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866960" y="762120"/>
            <a:ext cx="5410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ORE THAN A FEEL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VENTURA HIGH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B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DIXIELAND DEL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ZAR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OVE HUR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752480" y="762120"/>
            <a:ext cx="5639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AKE MY BREATH A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447920" y="762120"/>
            <a:ext cx="6248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ATURDAY IN THE PAR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638360" y="762120"/>
            <a:ext cx="5867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HEAT OF THE MOM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FINAL COUNTD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PL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MUSICAL GROUP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ARRY ON MY WAYWARD S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943280" y="762120"/>
            <a:ext cx="5257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ORE THAN A FEEL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VENTURA HIGH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DIXIELAND DEL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OVE HUR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409760" y="762120"/>
            <a:ext cx="6324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AKE MY BREATH A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447920" y="762120"/>
            <a:ext cx="624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HEAT OF THE MOME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5T12:38:54Z</dcterms:created>
  <dc:creator>Jennifer Budzinski</dc:creator>
  <dc:description/>
  <dc:language>en-US</dc:language>
  <cp:lastModifiedBy>Erich Friedman</cp:lastModifiedBy>
  <dcterms:modified xsi:type="dcterms:W3CDTF">2020-08-28T11:01:12Z</dcterms:modified>
  <cp:revision>417</cp:revision>
  <dc:subject/>
  <dc:title>Slide 1</dc:title>
</cp:coreProperties>
</file>