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A7FD-15FA-44E9-9C9D-724A0EEFC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4E84-0227-439F-A65F-51B6FBAA3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D76CA-AF4B-4CEE-9EA5-5327A7D9F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607D-6924-43A8-8E71-D4D87289D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AB60-D3A4-4C73-AC7C-8A4E3FD33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C025-0E14-4476-BAEC-E86426888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6148-352C-4668-AED9-B1FF68A49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F58-DBFA-4294-9473-C306EBF15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0853-697E-40A9-94F6-2692609C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7ED0-3893-4B81-BA35-FF1529341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D85A-C04F-42B6-BB3A-6DE824822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49195-C2A0-4D0D-A714-021428C7B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39FD-E0AA-42FA-B2A2-CDF3C8F4E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4CEF-BF95-413A-B67D-F51DA411D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F50D-3867-48AC-838B-9FE6E940F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3ADC-39B9-408D-98BA-52641528A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E019-1559-44F8-B0F7-5B45FE7BB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96C0-16DF-4459-99E0-7D0F08F9A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06BD-460F-4032-A592-189CD10C9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90DB-F6FB-4282-8D95-022083D36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17CC-F3C7-4795-BD6A-30F9B3662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0C94-7AB4-4849-88E8-1FFC638AE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6409-DC0F-4D69-B524-02D9A2C27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NFORMAL BRITISH WORD FOR "TOIL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480060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ONICS OR LOGIC, WHAT IS ONE OF THESE THING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150px-NOT_ANSI.svg.jpg"/>
          <p:cNvPicPr/>
          <p:nvPr/>
        </p:nvPicPr>
        <p:blipFill>
          <a:blip r:embed="rId1"/>
          <a:stretch/>
        </p:blipFill>
        <p:spPr>
          <a:xfrm>
            <a:off x="380880" y="3200400"/>
            <a:ext cx="2590920" cy="1295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6" descr="150px-AND_ANSI.svg.jpg"/>
          <p:cNvPicPr/>
          <p:nvPr/>
        </p:nvPicPr>
        <p:blipFill>
          <a:blip r:embed="rId2"/>
          <a:stretch/>
        </p:blipFill>
        <p:spPr>
          <a:xfrm>
            <a:off x="3276720" y="3200400"/>
            <a:ext cx="2590560" cy="1295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7" descr="150px-OR_ANSI.svg.jpg"/>
          <p:cNvPicPr/>
          <p:nvPr/>
        </p:nvPicPr>
        <p:blipFill>
          <a:blip r:embed="rId3"/>
          <a:stretch/>
        </p:blipFill>
        <p:spPr>
          <a:xfrm>
            <a:off x="6172200" y="3184560"/>
            <a:ext cx="25909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IGINALLY DEFINED IN 1793 AS ONE TEN-MILLIONTH OF THE DISTANCE FROM THE EQUATOR TO THE NORTH P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380880" y="4800600"/>
            <a:ext cx="5181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87360" y="914400"/>
            <a:ext cx="5181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LPH LAUREN BRAND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522baaa0c7e98d50d454af261b9c12b9.jpg"/>
          <p:cNvPicPr/>
          <p:nvPr/>
        </p:nvPicPr>
        <p:blipFill>
          <a:blip r:embed="rId1"/>
          <a:stretch/>
        </p:blipFill>
        <p:spPr>
          <a:xfrm>
            <a:off x="6095880" y="762120"/>
            <a:ext cx="249084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ONNY BONO DOING WHEN HE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GWYNETH PALTROW, ANTHONY HOPKINS, AND JAKE GYLLENHAAL IS ABOUT A FAMILY OF MATHEMAT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HLBERG BROTHER STARRED IN "PLANET OF THE APES" AND "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0200" y="480060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NEW YORK, AFTER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LECTRONICS OR LOGIC, WHAT IS ONE OF THESE THING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150px-OR_ANSI.svg.jpg"/>
          <p:cNvPicPr/>
          <p:nvPr/>
        </p:nvPicPr>
        <p:blipFill>
          <a:blip r:embed="rId1"/>
          <a:stretch/>
        </p:blipFill>
        <p:spPr>
          <a:xfrm>
            <a:off x="6172200" y="3276720"/>
            <a:ext cx="2590920" cy="129528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150px-AND_ANSI.svg.jpg"/>
          <p:cNvPicPr/>
          <p:nvPr/>
        </p:nvPicPr>
        <p:blipFill>
          <a:blip r:embed="rId2"/>
          <a:stretch/>
        </p:blipFill>
        <p:spPr>
          <a:xfrm>
            <a:off x="3276720" y="3276720"/>
            <a:ext cx="2590560" cy="12952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150px-NOT_ANSI.svg.jpg"/>
          <p:cNvPicPr/>
          <p:nvPr/>
        </p:nvPicPr>
        <p:blipFill>
          <a:blip r:embed="rId3"/>
          <a:stretch/>
        </p:blipFill>
        <p:spPr>
          <a:xfrm>
            <a:off x="380880" y="3276720"/>
            <a:ext cx="259092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609480" y="4800600"/>
            <a:ext cx="7925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T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ROASTING ON AN OPEN FIRE" IN THE FIRST LINE OF "THE CHRISTMAS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INFORMAL BRITISH WORD FOR "TOIL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0" y="480060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WA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ORIGINALLY DEFINED IN 1793 AS ONE TEN-MILLIONTH OF THE DISTANCE FROM THE EQUATOR TO THE NORTH P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457200" y="838080"/>
            <a:ext cx="4952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ALPH LAUREN BRAND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522baaa0c7e98d50d454af261b9c12b9.jpg"/>
          <p:cNvPicPr/>
          <p:nvPr/>
        </p:nvPicPr>
        <p:blipFill>
          <a:blip r:embed="rId1"/>
          <a:stretch/>
        </p:blipFill>
        <p:spPr>
          <a:xfrm>
            <a:off x="6095880" y="762120"/>
            <a:ext cx="2490840" cy="44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SONNY BONO DOING WHEN HE DI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5 FILM STARRING GWYNETH PALTROW, ANTHONY HOPKINS, AND JAKE GYLLENHAAL IS ABOUT A FAMILY OF MATHEMATIC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AHLBERG BROTHER STARRED IN "PLANET OF THE APES" AND "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CITY IN NEW YORK, AFTER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"ROASTING ON AN OPEN FIRE" IN THE FIRST LINE OF "THE CHRISTMAS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6T14:04:12Z</dcterms:created>
  <dc:creator>Jennifer Budzinski</dc:creator>
  <dc:description/>
  <dc:language>en-US</dc:language>
  <cp:lastModifiedBy>Erich Friedman</cp:lastModifiedBy>
  <dcterms:modified xsi:type="dcterms:W3CDTF">2020-08-28T11:02:54Z</dcterms:modified>
  <cp:revision>417</cp:revision>
  <dc:subject/>
  <dc:title>Slide 1</dc:title>
</cp:coreProperties>
</file>