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347-F195-4432-ACCF-73F7F2C0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1FC4-4227-47D7-88AB-9431BF6D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72F-07AF-473C-8359-3CD00391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BF08-6810-4410-947F-1D1D303A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9BF-D349-42C3-A1E1-EC14A990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508E-786E-4E81-9A06-BF876BB0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1DF9-4057-4C9C-9BA3-AC6BDEE9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889F-9B5B-4C6D-BC24-2B1696B3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93D-3765-4860-89DE-C00B8D5A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32B0-4211-4402-8CA5-C61D42E9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16E9-EEEB-477F-8601-960833C4B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980-5F4C-4616-AA88-4E8D3C99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BE6-EB2C-487E-9A9C-10EB2901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DAE-8550-4F6F-967D-7A15117C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EDD-A39A-442E-8390-DDBD98C1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4AE-7510-4027-AE21-5971EE58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6287-E35B-4441-9326-48EF5D9F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45C6-DC99-4A31-A2CA-D01BE022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69F9-69AC-42FF-9787-301FDF92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FA1B-FBCA-4EE6-A932-88CF112D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B57D-14C9-412B-AD59-54E84868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2152-C242-40FF-BC11-CB97AA9C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BF9-1239-4B8A-BE9B-C10AAC22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150px-NOT_ANSI.svg.jpg"/>
          <p:cNvPicPr/>
          <p:nvPr/>
        </p:nvPicPr>
        <p:blipFill>
          <a:blip r:embed="rId1"/>
          <a:stretch/>
        </p:blipFill>
        <p:spPr>
          <a:xfrm>
            <a:off x="380880" y="320040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150px-AND_ANSI.svg.jpg"/>
          <p:cNvPicPr/>
          <p:nvPr/>
        </p:nvPicPr>
        <p:blipFill>
          <a:blip r:embed="rId2"/>
          <a:stretch/>
        </p:blipFill>
        <p:spPr>
          <a:xfrm>
            <a:off x="3276720" y="320040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150px-OR_ANSI.svg.jpg"/>
          <p:cNvPicPr/>
          <p:nvPr/>
        </p:nvPicPr>
        <p:blipFill>
          <a:blip r:embed="rId3"/>
          <a:stretch/>
        </p:blipFill>
        <p:spPr>
          <a:xfrm>
            <a:off x="6172200" y="318456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808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87360" y="914400"/>
            <a:ext cx="5181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50px-OR_ANSI.svg.jpg"/>
          <p:cNvPicPr/>
          <p:nvPr/>
        </p:nvPicPr>
        <p:blipFill>
          <a:blip r:embed="rId1"/>
          <a:stretch/>
        </p:blipFill>
        <p:spPr>
          <a:xfrm>
            <a:off x="6172200" y="327672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150px-AND_ANSI.svg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150px-NOT_ANSI.svg.jpg"/>
          <p:cNvPicPr/>
          <p:nvPr/>
        </p:nvPicPr>
        <p:blipFill>
          <a:blip r:embed="rId3"/>
          <a:stretch/>
        </p:blipFill>
        <p:spPr>
          <a:xfrm>
            <a:off x="380880" y="327672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609480" y="48006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A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57200" y="838080"/>
            <a:ext cx="495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4:04:12Z</dcterms:created>
  <dc:creator>Jennifer Budzinski</dc:creator>
  <dc:description/>
  <dc:language>en-US</dc:language>
  <cp:lastModifiedBy>Erich Friedman</cp:lastModifiedBy>
  <dcterms:modified xsi:type="dcterms:W3CDTF">2020-08-28T11:02:54Z</dcterms:modified>
  <cp:revision>417</cp:revision>
  <dc:subject/>
  <dc:title>Slide 1</dc:title>
</cp:coreProperties>
</file>