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40DA-C85B-4130-8334-7000255A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B8E4-EF57-4C1F-BFD8-F3CE7B861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4C1-5CCA-4C54-80F2-CED73934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814-5454-42F4-830E-897D3200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660-0B49-42CE-B592-2CDC8BE0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F8C-5DCD-4692-AFD2-CD566FFE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B7E-4E2B-42E0-A142-D72D64BF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0C71-C8B8-4B24-87DE-885EF7C0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4D58-91C0-48BF-B855-EBE3904E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6256-E6FA-406E-9AD7-48BF2EA4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A12-6B59-4D8F-A9FB-4C551F04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6C90-62A0-42A7-A50A-54C084DF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0F95-6F19-4E3E-8D05-71F305EE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7CC9-8EC0-4247-9F85-41812FA4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0DE-B2DE-4123-8432-352BBF94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DEE-982C-4340-972B-1A534AB3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4734-45F4-462E-A258-87E24115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E9E8-9010-409F-AEC1-C2F1F483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6B3-E3AB-4B64-AFD2-3A636955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896-5784-424D-B25B-3E70BACC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1699-A051-423C-92CB-FE144D49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A0DC-C94E-4FCE-80D4-BEE1CF10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C5E-1843-49CD-872A-C4794B1A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NFORMAL BRITISH WORD FOR "TOIL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ONICS OR LOGIC, WHAT IS ONE OF THESE THING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150px-NOT_ANSI.svg.jpg"/>
          <p:cNvPicPr/>
          <p:nvPr/>
        </p:nvPicPr>
        <p:blipFill>
          <a:blip r:embed="rId1"/>
          <a:stretch/>
        </p:blipFill>
        <p:spPr>
          <a:xfrm>
            <a:off x="380880" y="320040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150px-AND_ANSI.svg.jpg"/>
          <p:cNvPicPr/>
          <p:nvPr/>
        </p:nvPicPr>
        <p:blipFill>
          <a:blip r:embed="rId2"/>
          <a:stretch/>
        </p:blipFill>
        <p:spPr>
          <a:xfrm>
            <a:off x="3276720" y="320040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150px-OR_ANSI.svg.jpg"/>
          <p:cNvPicPr/>
          <p:nvPr/>
        </p:nvPicPr>
        <p:blipFill>
          <a:blip r:embed="rId3"/>
          <a:stretch/>
        </p:blipFill>
        <p:spPr>
          <a:xfrm>
            <a:off x="6172200" y="3184560"/>
            <a:ext cx="25909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IGINALLY DEFINED IN 1793 AS ONE TEN-MILLIONTH OF THE DISTANCE FROM THE EQUATOR TO THE NORTH P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80880" y="4800600"/>
            <a:ext cx="5181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87360" y="914400"/>
            <a:ext cx="5181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LPH LAUREN BRAND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522baaa0c7e98d50d454af261b9c12b9.jpg"/>
          <p:cNvPicPr/>
          <p:nvPr/>
        </p:nvPicPr>
        <p:blipFill>
          <a:blip r:embed="rId1"/>
          <a:stretch/>
        </p:blipFill>
        <p:spPr>
          <a:xfrm>
            <a:off x="6095880" y="762120"/>
            <a:ext cx="24908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ONNY BONO DOING WHEN HE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GWYNETH PALTROW, ANTHONY HOPKINS, AND JAKE GYLLENHAAL IS ABOUT A FAMILY OF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HLBERG BROTHER STARRED IN "PLANET OF THE APES" AND "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NEW YORK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ONICS OR LOGIC, WHAT IS ONE OF THESE THING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50px-OR_ANSI.svg.jpg"/>
          <p:cNvPicPr/>
          <p:nvPr/>
        </p:nvPicPr>
        <p:blipFill>
          <a:blip r:embed="rId1"/>
          <a:stretch/>
        </p:blipFill>
        <p:spPr>
          <a:xfrm>
            <a:off x="6172200" y="327672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150px-AND_ANSI.svg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150px-NOT_ANSI.svg.jpg"/>
          <p:cNvPicPr/>
          <p:nvPr/>
        </p:nvPicPr>
        <p:blipFill>
          <a:blip r:embed="rId3"/>
          <a:stretch/>
        </p:blipFill>
        <p:spPr>
          <a:xfrm>
            <a:off x="380880" y="3276720"/>
            <a:ext cx="2590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609480" y="480060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ROASTING ON AN OPEN FIRE" IN THE FIRST LINE OF "THE CHRISTMAS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NFORMAL BRITISH WORD FOR "TOIL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A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IGINALLY DEFINED IN 1793 AS ONE TEN-MILLIONTH OF THE DISTANCE FROM THE EQUATOR TO THE NORTH P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57200" y="838080"/>
            <a:ext cx="495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LPH LAUREN BRAND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522baaa0c7e98d50d454af261b9c12b9.jpg"/>
          <p:cNvPicPr/>
          <p:nvPr/>
        </p:nvPicPr>
        <p:blipFill>
          <a:blip r:embed="rId1"/>
          <a:stretch/>
        </p:blipFill>
        <p:spPr>
          <a:xfrm>
            <a:off x="6095880" y="762120"/>
            <a:ext cx="24908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ONNY BONO DOING WHEN HE D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GWYNETH PALTROW, ANTHONY HOPKINS, AND JAKE GYLLENHAAL IS ABOUT A FAMILY OF MATHEMATIC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HLBERG BROTHER STARRED IN "PLANET OF THE APES" AND "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NEW YORK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ROASTING ON AN OPEN FIRE" IN THE FIRST LINE OF "THE CHRISTMAS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4:04:12Z</dcterms:created>
  <dc:creator>Jennifer Budzinski</dc:creator>
  <dc:description/>
  <dc:language>en-US</dc:language>
  <cp:lastModifiedBy>Erich Friedman</cp:lastModifiedBy>
  <dcterms:modified xsi:type="dcterms:W3CDTF">2020-08-28T11:02:54Z</dcterms:modified>
  <cp:revision>417</cp:revision>
  <dc:subject/>
  <dc:title>Slide 1</dc:title>
</cp:coreProperties>
</file>