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0C56-ED54-480B-ADD3-455B65924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B161-74DC-4D6A-AD00-823115D97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9047-2ED7-42ED-8947-D1FD97DE8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FB4B-0362-482B-A4FD-F12715B84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A504-595F-442E-97FC-0D42B5ACE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BC87-1AE3-4BE3-913A-E22A5F5CA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3DEA-C4C8-45F8-AD2F-068D3B686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853D-4BCE-48FD-A899-2C9424C0A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C42E-2242-4276-A21A-F4AC50DFB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E027-C119-4569-B384-1B38CFE39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881A-1BAD-4FBB-85FB-042D06614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1E2B-77CD-47B7-8514-D3A6EA84E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2AE3-D09D-4D5F-8910-CD5881E2E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8D48-A155-4089-95BD-FDE7BC71E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03A3-9C98-49ED-B160-3F81927A8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AA9C-E9A2-4E79-B99E-65793E287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4CAF-6A73-489F-AF61-0F206EA65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DC5E-CDCB-41D5-9491-6510C2483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B80D-49E7-4C9E-92B5-457541906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A740-040B-46B1-A248-1BA8A735B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6AFF-084B-441D-9C86-300C5232F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D264-024C-4BA0-8EE6-9061E4302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FD33-1ABF-4125-8F20-BB2EFCBEF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NLY MAJOR NEWSPAPER IN INDIANAPO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RAM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D AS TOMBS FOR THE PHARAOHS OF EGYP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909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KILLER", "CRAZY", AND "KISS FROM A R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.H.I.E.L.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588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UNTER-TERRORISM AGENCY IN THE MARVEL COMICS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HAS A PRESIDENT PICTURED ON ITS STATE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TV SHOW IS ABOUT A BILLIONAIRE PLAYBOY / ARCHER SUPERHERO IN THE D.C.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90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YPICALLY THE FIRST THING EATEN WHEN BREAKING FAST IN THE EVENING FOR RAMAD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THE FIRST LUNAR MODULE THAT LANDED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D AS TOMBS FOR THE PHARAOHS OF EGYP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  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OF CBS BROADCAS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NLY MAJOR NEWSPAPER IN INDIANAPO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5120" y="4343400"/>
            <a:ext cx="5333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PICTURED  ON  A  DOLLAR 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KILLER", "CRAZY", AND "KISS FROM A RO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UNTER-TERRORISM AGENCY IN THE MARVEL COMICS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HAS A PRESIDENT PICTURED ON ITS STATE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TV SHOW IS ABOUT A BILLIONAIRE PLAYBOY / ARCHER SUPERHERO IN THE D.C.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YPICALLY THE FIRST THING EATEN WHEN BREAKING FAST IN THE EVENING FOR RAMAD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THE FIRST LUNAR MODULE THAT LANDED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OF CBS BROADCAS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23:03:33Z</dcterms:created>
  <dc:creator>Jennifer Budzinski</dc:creator>
  <dc:description/>
  <dc:language>en-US</dc:language>
  <cp:lastModifiedBy>Erich Friedman</cp:lastModifiedBy>
  <dcterms:modified xsi:type="dcterms:W3CDTF">2020-08-24T01:59:16Z</dcterms:modified>
  <cp:revision>383</cp:revision>
  <dc:subject/>
  <dc:title>Slide 1</dc:title>
</cp:coreProperties>
</file>