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B41-4C00-4447-9BF4-98836DF5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6D32-8D2A-4E19-9C86-6BCAAABBB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A57-422A-45DD-8924-2B5CEE13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5579-4051-4EDE-8D3E-9318D0015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DFDD-81AC-4CA9-8F37-698807E9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48FC-2B5C-42E7-8EE9-DAFCE4CCA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9596-7AC6-4791-9FB6-7755E3061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1AD6-D55F-408E-9B52-07D0E7C43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C174-B00C-4DD9-8607-10BF79890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0AFD-35B9-49EC-AE3B-C8715D266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A867-C649-4642-A452-3C48812F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A614-0548-488D-A145-24BCBCCF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EF06-F395-496B-B17C-64CADE6CD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B443-FE66-422D-AC49-C3A772BA7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21FC-6205-426C-BE31-D7D3BD48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AC78-5D8D-4F5F-847A-A4D8E7E6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A9BD-A394-463D-906D-67DAC30C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6FD4-3A20-4B05-A119-D6ABCD41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CA0A-7D51-40B7-A60A-9D0A8741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C92B-B56E-4EC7-B0E3-D9D99DE9A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1F63-1E97-4132-BD4B-B96A25902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96D3-AF70-4243-899C-5DBBD5A8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B7C9-BB18-4585-8891-13EF1F448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MAJOR NEWSPAPER IN INDIANA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D AS TOMBS FOR THE PHARAOHS OF EGYP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LLER", "CRAZY", AND "KISS FROM A R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H.I.E.L.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588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UNTER-TERRORISM AGENCY IN THE MARVEL COMICS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PRESIDENT PICTURED ON ITS ST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S ABOUT A BILLIONAIRE PLAYBOY / ARCHER SUPERHERO IN THE D.C.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90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YPICALLY THE FIRST THING EATEN WHEN BREAKING FAST IN THE EVENING FOR RAMAD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FIRST LUNAR MODULE THAT LANDED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D AS TOMBS FOR THE PHARAOHS OF EGYP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 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OF CBS BROADCAS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MAJOR NEWSPAPER IN INDIANA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5120" y="43434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PICTURED  ON  A  DOLLAR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LLER", "CRAZY", AND "KISS FROM A R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UNTER-TERRORISM AGENCY IN THE MARVEL COMICS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PRESIDENT PICTURED ON ITS ST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S ABOUT A BILLIONAIRE PLAYBOY / ARCHER SUPERHERO IN THE D.C.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YPICALLY THE FIRST THING EATEN WHEN BREAKING FAST IN THE EVENING FOR RAMAD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FIRST LUNAR MODULE THAT LANDED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OF CBS BROADCAS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23:03:33Z</dcterms:created>
  <dc:creator>Jennifer Budzinski</dc:creator>
  <dc:description/>
  <dc:language>en-US</dc:language>
  <cp:lastModifiedBy>Erich Friedman</cp:lastModifiedBy>
  <dcterms:modified xsi:type="dcterms:W3CDTF">2020-08-24T01:59:16Z</dcterms:modified>
  <cp:revision>383</cp:revision>
  <dc:subject/>
  <dc:title>Slide 1</dc:title>
</cp:coreProperties>
</file>