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3412-C3E7-4E75-AEF1-ABC889B3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AA79-9330-43F4-A7B1-45198026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7DC3-0256-4876-88A1-70B7F30D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EA13-15CC-48F7-981D-782CAAF51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DA6A-7277-428C-87CA-1F94CA54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AE19-CCA1-4FB8-A34C-CE45ACA74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F131-22C0-4385-9C8E-B0E1C129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0A79-66C0-40C4-8CAE-10063299C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8E0-57D9-4038-A654-D7B1314E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EFC1-CF22-46C9-A2C5-9A706E68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1F95-5C46-4B22-821F-32BBD59A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B5C-2815-46CB-8CC0-8DA9ECB8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8024-1AB1-476D-80C1-7ED72901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CD3C-A850-432B-A534-817F4952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9265-813C-4EF3-B6CA-73EBD7833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CDFE-10E9-44FA-B12E-A906B0EE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F4DC-9214-48CB-9888-661B608C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2E1-0157-4667-8049-DF9D8ADC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111C-0C8D-42AA-9156-CAA288B0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11CC-46BE-43CA-8F9B-7C2AD664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DDEF-534C-47F5-B73B-CBE3ADB9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6ED2-BA83-47B7-A50E-F00406D9A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774-27CD-4398-888F-8353939D4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588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9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D AS TOMBS FOR THE PHARAOHS OF EGYP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NLY MAJOR NEWSPAPER IN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5120" y="4343400"/>
            <a:ext cx="5333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PICTURED  ON  A  DOLLAR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LLER", "CRAZY", AND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UNTER-TERRORISM AGENCY IN THE MARVEL COMICS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PRESIDENT PICTURED ON ITS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S ABOUT A BILLIONAIRE PLAYBOY / ARCHER SUPERHERO IN THE D.C.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YPICALLY THE FIRST THING EATEN WHEN BREAKING FAST IN THE EVENING FOR RAMAD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FIRST LUNAR MODULE THAT LANDED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GO OF CBS BROADCAS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4T01:59:16Z</dcterms:modified>
  <cp:revision>383</cp:revision>
  <dc:subject/>
  <dc:title>Slide 1</dc:title>
</cp:coreProperties>
</file>