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1BC8-9A65-4D70-B40F-78721535E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3510-59B2-4D75-A279-F0B2A393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BC911-935B-4BC3-99C3-7E32CDC80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2A10-BAD0-4AF5-9478-3BD9656A0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8F48D-48AE-4612-B321-49A6DF5D7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597-8DA2-42BD-BDED-F718F9E29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AFAA-C558-4370-B2C8-23362EF47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BDDE-4C3C-4170-A0E4-2489190B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DA0E-7F1C-4DAB-91C7-29C7CC49C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0DD2-27C5-433E-B96B-A31931C02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0837-94CB-45F2-AD5E-C943AB19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1ECE-6238-40E4-BF6A-797B8E79B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3706-E727-42E3-A6A9-885B03EF1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3A1-3D73-4F23-A04C-668388FA1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1B52-8136-4752-B57B-6F3DC713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EE8D-5E69-44CE-A600-3898EB701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2A0F-FFB7-4BB3-8D56-C9ADCDE9F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D7FF-C9ED-4545-956C-56092D02E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57BF-2E63-4157-A98A-A22C2918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B26-E81A-4DF9-A0F5-EC5D3920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AD9C-1A82-40FD-9855-E9B00129A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6465-72DD-42BD-916B-2AFB7F34B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893A-2DDD-42B8-8627-A98310C77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NOON IN CHINA, WHAT TIME IS IT IN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WITCH ON "BEWITCH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SERT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FLORIDA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AFF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S WARREN BEATTY, ANNETTE BENING, AND KATHRYN HEPBURN IN HER FINAL FILM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RING  TWE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ADE CAME BEFORE THE TURBULENT THI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RECK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OF CALCULATING POSITION BASED ON A KNOWN PREVIOUS POSITION AND ESTIMATED TIME, SPEED, AND COURSE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NOON IN CHINA, WHAT TIME IS IT IN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ILLY JOEL SONG MOCKS A WOMAN FOR HER DRUNKEN ESCAP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A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3434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STARRING  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WITCH ON "BEWITCH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SERT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ORTHERN-MOST FLORIDA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S WARREN BEATTY, ANNETTE BENING, AND KATHRYN HEPBURN IN HER FINAL FILM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CADE CAME BEFORE THE TURBULENT THIR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OF CALCULATING POSITION BASED ON A KNOWN PREVIOUS POSITION AND ESTIMATED TIME, SPEED, AND COURSE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ILLY JOEL SONG MOCKS A WOMAN FOR HER DRUNKEN ESCAP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03:12:24Z</dcterms:created>
  <dc:creator>Jennifer Budzinski</dc:creator>
  <dc:description/>
  <dc:language>en-US</dc:language>
  <cp:lastModifiedBy>Erich Friedman</cp:lastModifiedBy>
  <dcterms:modified xsi:type="dcterms:W3CDTF">2020-08-28T11:05:16Z</dcterms:modified>
  <cp:revision>413</cp:revision>
  <dc:subject/>
  <dc:title>Slide 1</dc:title>
</cp:coreProperties>
</file>