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AB9E-7B87-4498-AA5C-0744D48BE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143-2356-4BA3-8435-DC5799FA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7E0-87B4-4770-9486-9DDFB329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F23E-B36C-4B80-92DE-60359B6C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0D2-11B4-4702-9E7E-AAE16B1CA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D2A-3F5B-446C-B81A-D73AD4D7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6076-16E5-4420-AA8C-EAC66F99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79C-5A91-48E0-A3AA-BD91D33B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2E3-7F19-47AD-84BD-F8028376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F05-3188-43E1-895D-0FFA19E0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05ED-B0A9-4F1A-9130-F3691ACA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D372-C529-4927-A1FF-F0063CF6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CE93-064B-46CF-A846-7AADB644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CFDA-4F9F-4A7D-97FF-2D2EAAA6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9CF-3833-45FD-973A-54726977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462-043D-4FB9-8C1F-4519E022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A9BA-FE86-4EB6-A6ED-822653BE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C4F-C2FF-43F2-9CD0-9564602F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3AF1-14C6-436B-BDA5-7C4C1714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EC28-C68B-45CA-A484-879E0DE0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3C1-4534-4633-A510-145CA95B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508-63DD-4443-9E09-5B201442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116-9CA3-462A-92B6-7FE910846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AF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ING  TWE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RECK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STARRING  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3:12:24Z</dcterms:created>
  <dc:creator>Jennifer Budzinski</dc:creator>
  <dc:description/>
  <dc:language>en-US</dc:language>
  <cp:lastModifiedBy>Erich Friedman</cp:lastModifiedBy>
  <dcterms:modified xsi:type="dcterms:W3CDTF">2020-08-28T11:05:16Z</dcterms:modified>
  <cp:revision>413</cp:revision>
  <dc:subject/>
  <dc:title>Slide 1</dc:title>
</cp:coreProperties>
</file>