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30A79-FF3D-4CAA-BB4E-8944EEEEBA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DB87B-8457-470E-9322-9DD08C88F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65752-C0FC-4277-8BCD-74B5431B4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0906E-41EF-431B-97E8-BFDA2121A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7CFC3-C80A-4BB9-B8AD-99BBE001C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564B2-0700-413A-8D5F-642DF9B0B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A9613-E44C-453F-8E0B-2569B7D08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2619D-E430-4676-A620-010C8F2AB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ED737-4343-47B8-A577-C569B674E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F2FB8-5939-41FB-A8DC-F99B03560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7F6CF-398D-452E-B4FD-82EC50507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2955F-6A0E-4263-9F2E-5AA00ED85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7C88B-C8E4-4656-8BDE-16970AF1C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0846B-F18A-4EC0-A865-FC99619F7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D6B28-BF87-41A9-B4A0-7EB8D2F9C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5C4CB-0C2F-4D2E-B25A-A98A92CB9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D9F0E-5C94-4DC5-B994-5AB72AFA8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44A52-125A-4616-A35A-5D4484117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C3126-5DBF-4E4F-B705-9999A50D9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402DB-B5E6-4D51-9BED-073CA70D5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5C3B2-EC2E-45F3-8DE4-6EA87B7BD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2F766-40A8-4647-9542-BB7DE73A2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B88F9-01A1-4643-A9D5-5F95DA817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CITY IN MOROCC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DN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14400" y="762120"/>
            <a:ext cx="7315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IT IS NOON IN CHINA, WHAT TIME IS IT IN NEW YORK C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BR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409760" y="762120"/>
            <a:ext cx="6324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NAME OF THE WITCH ON "BEWITCHE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HA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47640" y="762120"/>
            <a:ext cx="78487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DESERT IN AFRIC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808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Y  LAR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219320" y="762120"/>
            <a:ext cx="6705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ORTHERN-MOST FLORIDA K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VE  AFF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 STARS WARREN BEATTY, ANNETTE BENING, AND KATHRYN HEPBURN IN HER FINAL FILM RO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ARING  TWEN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62120"/>
            <a:ext cx="82296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CADE CAME BEFORE THE TURBULENT THIRT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AD  RECK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04920" y="762120"/>
            <a:ext cx="8534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ROCESS OF CALCULATING POSITION BASED ON A KNOWN PREVIOUS POSITION AND ESTIMATED TIME, SPEED, AND COURSE IS CALLE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IT IS NOON IN CHINA, WHAT TIME IS IT IN NEW YORK C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609480" y="4876920"/>
            <a:ext cx="7925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G  SH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19040" y="762120"/>
            <a:ext cx="8305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OP-20 BILLY JOEL SONG MOCKS A WOMAN FOR HER DRUNKEN ESCAPAD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SABLAN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90720" y="762120"/>
            <a:ext cx="7162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CITY IN MOROCC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066680" y="4343400"/>
            <a:ext cx="7010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FILMS  STARRING  HUMPHREY  BOG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371600" y="76176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NAME OF THE WITCH ON "BEWITCHE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85800" y="762120"/>
            <a:ext cx="7772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DESERT IN AFRIC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ORTHERN-MOST FLORIDA KE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 STARS WARREN BEATTY, ANNETTE BENING, AND KATHRYN HEPBURN IN HER FINAL FILM RO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CADE CAME BEFORE THE TURBULENT THIRT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ROCESS OF CALCULATING POSITION BASED ON A KNOWN PREVIOUS POSITION AND ESTIMATED TIME, SPEED, AND COURSE IS CALLE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OP-20 BILLY JOEL SONG MOCKS A WOMAN FOR HER DRUNKEN ESCAPAD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5T03:12:24Z</dcterms:created>
  <dc:creator>Jennifer Budzinski</dc:creator>
  <dc:description/>
  <dc:language>en-US</dc:language>
  <cp:lastModifiedBy>Erich Friedman</cp:lastModifiedBy>
  <dcterms:modified xsi:type="dcterms:W3CDTF">2020-08-28T11:05:16Z</dcterms:modified>
  <cp:revision>413</cp:revision>
  <dc:subject/>
  <dc:title>Slide 1</dc:title>
</cp:coreProperties>
</file>