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40B0-7053-4FB8-9706-3D32AD9CA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E2CC-4EBC-494F-A5C6-90F457016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E37F-8E13-48FF-B51E-1596877A1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65F56-6A38-4065-8EA3-4A458D72D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0379-5F14-4D5B-AF4B-BCAF88851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BED7-716B-4A70-AD64-927780C14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D319-7CD2-4897-83A0-7DE8D65B1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9D32-C1F0-4A6C-A7EC-331B666C4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6ADFB-7884-484F-B60D-6251E43B6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90D7-497C-4129-AF18-75901F7F9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74F9-1A70-4784-8A0E-1CDEBEF5D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8B56-B6F3-40F9-8050-25A53B9A5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A46B-40D6-45DE-8471-835557EE0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AF01-D999-4FE5-9473-D585B86FC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000E-0C07-4FDC-91BD-D69B41AA2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589C-79C6-41F3-ADFC-799FC1F3D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0126-9EBC-403A-84BF-59C9E7283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1268-7360-4C49-B617-9920022EC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DC4E-54E1-4E3E-BDE2-08C9696FE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E79CF-AEE9-4C8A-B2EC-6CFA65D60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ED76-2067-4BFC-B09F-101E3240E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D601-FB6B-462A-B58D-43001E83C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10EE-8861-4985-9BB7-1434EAF7E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   HOW FAR UNDERWATER THE BOTTOM OF A BOAT 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209520" y="762120"/>
            <a:ext cx="8724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OVEMBER 2018, MAGNUS CARLSEN SUCCESSFULLY DEFENDED HIS WORLD CHAMPIONSHIP IN WHAT G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ANIMATED FILM "THE INCREDIBLES", WHAT IS THE PAAR FAMILY'S MIDDLE CHILD'S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78 DETECTIVE TV SERIES STARRED EDDIE ALBERT AND ROBERT WAG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952560" y="7603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ULL MOON IN FEBRUARY IS OFTEN CALLED THE WHAT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IN GEORGIA HAS THE HIGHEST ENDOW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TOP STRIPE ON THE FLAGS OF GERMANY, JORDAN, KENYA, UGANDA, AND MALA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0" y="762120"/>
            <a:ext cx="5181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  NAME OF THIS "SCHOOLHOUSE ROCK"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415904184b439d5957054a2d30e52df9.png"/>
          <p:cNvPicPr/>
          <p:nvPr/>
        </p:nvPicPr>
        <p:blipFill>
          <a:blip r:embed="rId1"/>
          <a:stretch/>
        </p:blipFill>
        <p:spPr>
          <a:xfrm>
            <a:off x="5715000" y="685800"/>
            <a:ext cx="2819520" cy="398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320" y="762120"/>
            <a:ext cx="8991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NOVEMBER 2018, MAGNUS CARLSEN SUCCESSFULLY DEFENDED HIS WORLD CHAMPIONSHIP IN WHAT G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4-LETTER ENDING OF FOOTBALL POSI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9640" y="762120"/>
            <a:ext cx="7524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ERM FOR HOW FAR UNDERWATER THE BOTTOM OF A BOAT 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BOAR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ANIMATED FILM "THE INCREDIBLES", WHAT IS THE PAAR FAMILY'S MIDDLE CHILD'S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5-1978 DETECTIVE TV SERIES STARRED EDDIE ALBERT AND ROBERT WAG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ULL MOON IN FEBRUARY IS OFTEN CALLED THE WHAT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 IN GEORGIA HAS THE HIGHEST ENDOW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THE TOP STRIPE ON THE FLAGS OF GERMANY, JORDAN, KENYA, UGANDA, AND MALA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1920" y="7621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  NAME OF THIS "SCHOOLHOUSE ROCK"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415904184b439d5957054a2d30e52df9.png"/>
          <p:cNvPicPr/>
          <p:nvPr/>
        </p:nvPicPr>
        <p:blipFill>
          <a:blip r:embed="rId1"/>
          <a:stretch/>
        </p:blipFill>
        <p:spPr>
          <a:xfrm>
            <a:off x="5715000" y="685800"/>
            <a:ext cx="2819520" cy="39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4-LETTER ENDING OF FOOTBALL POSI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0T16:11:12Z</dcterms:created>
  <dc:creator>Jennifer Budzinski</dc:creator>
  <dc:description/>
  <dc:language>en-US</dc:language>
  <cp:lastModifiedBy>Erich Friedman</cp:lastModifiedBy>
  <dcterms:modified xsi:type="dcterms:W3CDTF">2020-08-28T11:06:10Z</dcterms:modified>
  <cp:revision>440</cp:revision>
  <dc:subject/>
  <dc:title>Slide 1</dc:title>
</cp:coreProperties>
</file>