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5B7-FB3A-4F5D-8404-C1F7071C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0184-F59F-4480-902E-1842C3F2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74DF-BEA4-47F5-93CC-F9EC9978C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3F90-1206-4CB5-93C7-E15F42F7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C41-E885-4766-91C6-1441F010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F101-78AA-4B19-822F-E707E1A2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660-568B-43DC-8663-F83056A3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21B9-8469-46E0-8B97-86F590F3E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DB6D-9C8E-4F28-9976-CCF0D8B5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39BC-087E-48A9-BADB-496B1F98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E60B-2C64-41CA-B1CE-0EE4C2BC4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289A-005D-4650-99FF-0C0F8F8C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463-1567-4FE5-BBD2-F6682291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18A-4BCD-4827-B152-D1868565C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F39D-401B-4418-A7A6-955ED6FD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493-48CF-417A-A315-4AB19A17A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19FF-307D-490B-A163-13DBD250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BC6A-7212-4274-9070-C54C7844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A08-0573-4338-A804-41B54CE6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DDAA-5605-4C8A-AC9D-56C999F5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5627-A93A-43E3-BDDA-81760143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B51-0042-4BEE-90E3-5B90F2A8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046-E71A-4494-A47D-4702494E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HOW FAR UNDERWATER THE BOTTOM OF A BOAT 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09520" y="762120"/>
            <a:ext cx="872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VEMBER 2018, MAGNUS CARLSEN SUCCESSFULLY DEFENDED HIS WORLD CHAMPIONSHIP IN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ANIMATED FILM "THE INCREDIBLES", WHAT IS THE PAAR FAMILY'S MIDDLE CHILD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TV SERIES STARRED EDDIE ALBERT AND ROBERT WA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52560" y="7603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ULL MOON IN FEBRUARY IS OFTEN CALLED THE WHAT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GEORGIA HAS THE HIGHEST ENDOW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JORDAN, KENYA, UGANDA, AND MALA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762120"/>
            <a:ext cx="5181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"SCHOOLHOUSE ROCK"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415904184b439d5957054a2d30e52df9.png"/>
          <p:cNvPicPr/>
          <p:nvPr/>
        </p:nvPicPr>
        <p:blipFill>
          <a:blip r:embed="rId1"/>
          <a:stretch/>
        </p:blipFill>
        <p:spPr>
          <a:xfrm>
            <a:off x="5715000" y="685800"/>
            <a:ext cx="281952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8991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VEMBER 2018, MAGNUS CARLSEN SUCCESSFULLY DEFENDED HIS WORLD CHAMPIONSHIP IN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FOOTBALL POSI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9640" y="762120"/>
            <a:ext cx="7524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HOW FAR UNDERWATER THE BOTTOM OF A BOAT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ANIMATED FILM "THE INCREDIBLES", WHAT IS THE PAAR FAMILY'S MIDDLE CHILD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TV SERIES STARRED EDDIE ALBERT AND ROBERT WA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ULL MOON IN FEBRUARY IS OFTEN CALLED THE WHAT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GEORGIA HAS THE HIGHEST ENDOW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JORDAN, KENYA, UGANDA, AND MALA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"SCHOOLHOUSE ROCK"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415904184b439d5957054a2d30e52df9.png"/>
          <p:cNvPicPr/>
          <p:nvPr/>
        </p:nvPicPr>
        <p:blipFill>
          <a:blip r:embed="rId1"/>
          <a:stretch/>
        </p:blipFill>
        <p:spPr>
          <a:xfrm>
            <a:off x="5715000" y="685800"/>
            <a:ext cx="281952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FOOTBALL POSI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6:11:12Z</dcterms:created>
  <dc:creator>Jennifer Budzinski</dc:creator>
  <dc:description/>
  <dc:language>en-US</dc:language>
  <cp:lastModifiedBy>Erich Friedman</cp:lastModifiedBy>
  <dcterms:modified xsi:type="dcterms:W3CDTF">2020-08-28T11:06:10Z</dcterms:modified>
  <cp:revision>440</cp:revision>
  <dc:subject/>
  <dc:title>Slide 1</dc:title>
</cp:coreProperties>
</file>