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DB68-B688-4F3E-8356-790BEFAAC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E1E1-4779-4F1C-AA1D-0F12C45F8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6065-2132-412D-84AA-E3939049C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9B92-EE3B-46B8-AE16-3314C7C1D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4316-951F-495A-90B3-9AF278504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7CA4-C025-429C-954A-C5D6B3847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1EC8-2A98-44C9-8151-7B8035C6F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5DFB-F09B-4081-987A-C8A5BDAE5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575A-2FAB-498A-A32F-DFE9EF6FC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1015-A125-4BE8-8165-A1277F387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CDEF-A06E-401D-917C-E2C986A2D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F68C-B9E8-49DE-B02F-1AB1AA5F6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88D2-51B5-4F6D-B366-7F903F84C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728D-F244-46F8-A598-6C9F2847F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A94A-0EA7-41AA-95DF-FFC66AD93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45A0-2FE2-4044-9F39-0454DD31F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E277-E1B2-4B8A-815C-315C65B8F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FDB4-1B1E-43D8-9B33-F8D8EEFAE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D948-C352-4BC8-BF67-865A0406F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813D-0761-41D7-B859-F136E15FA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4BA7-7B33-43DA-90B0-2DFB521C5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B1A5-892F-40B5-A2B2-5A2CA540C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AD0B-226C-4700-8F51-FF3062195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   HOW FAR UNDERWATER THE BOTTOM OF A BOAT 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209520" y="762120"/>
            <a:ext cx="872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OVEMBER 2018, MAGNUS CARLSEN SUCCESSFULLY DEFENDED HIS WORLD CHAMPIONSHIP IN WHAT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ANIMATED FILM "THE INCREDIBLES", WHAT IS THE PAAR FAMILY'S MIDDLE CHILD'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78 DETECTIVE TV SERIES STARRED EDDIE ALBERT AND ROBERT WAG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52560" y="7603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ULL MOON IN FEBRUARY IS OFTEN CALLED THE WHAT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IN GEORGIA HAS THE HIGHEST ENDOW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TOP STRIPE ON THE FLAGS OF GERMANY, JORDAN, KENYA, UGANDA, AND MALA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0" y="762120"/>
            <a:ext cx="5181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NAME OF THIS "SCHOOLHOUSE ROCK"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415904184b439d5957054a2d30e52df9.png"/>
          <p:cNvPicPr/>
          <p:nvPr/>
        </p:nvPicPr>
        <p:blipFill>
          <a:blip r:embed="rId1"/>
          <a:stretch/>
        </p:blipFill>
        <p:spPr>
          <a:xfrm>
            <a:off x="5715000" y="685800"/>
            <a:ext cx="2819520" cy="39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8991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OVEMBER 2018, MAGNUS CARLSEN SUCCESSFULLY DEFENDED HIS WORLD CHAMPIONSHIP IN WHAT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4-LETTER ENDING OF FOOTBALL POSI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9640" y="762120"/>
            <a:ext cx="7524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HOW FAR UNDERWATER THE BOTTOM OF A BOAT 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BOAR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ANIMATED FILM "THE INCREDIBLES", WHAT IS THE PAAR FAMILY'S MIDDLE CHILD'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78 DETECTIVE TV SERIES STARRED EDDIE ALBERT AND ROBERT WAG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ULL MOON IN FEBRUARY IS OFTEN CALLED THE WHAT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IN GEORGIA HAS THE HIGHEST ENDOW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TOP STRIPE ON THE FLAGS OF GERMANY, JORDAN, KENYA, UGANDA, AND MALA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1920" y="7621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NAME OF THIS "SCHOOLHOUSE ROCK"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415904184b439d5957054a2d30e52df9.png"/>
          <p:cNvPicPr/>
          <p:nvPr/>
        </p:nvPicPr>
        <p:blipFill>
          <a:blip r:embed="rId1"/>
          <a:stretch/>
        </p:blipFill>
        <p:spPr>
          <a:xfrm>
            <a:off x="5715000" y="685800"/>
            <a:ext cx="281952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4-LETTER ENDING OF FOOTBALL POSI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6:11:12Z</dcterms:created>
  <dc:creator>Jennifer Budzinski</dc:creator>
  <dc:description/>
  <dc:language>en-US</dc:language>
  <cp:lastModifiedBy>Erich Friedman</cp:lastModifiedBy>
  <dcterms:modified xsi:type="dcterms:W3CDTF">2020-08-28T11:06:10Z</dcterms:modified>
  <cp:revision>440</cp:revision>
  <dc:subject/>
  <dc:title>Slide 1</dc:title>
</cp:coreProperties>
</file>