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1AE9-9CAD-4F5C-B021-869BAB158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C962-A753-401C-8477-5D9D5C210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FF84-43A5-42BF-9003-2F8571055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85D6-DB84-4CAC-83BF-8D624DD65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E9B35-C744-4167-A1BE-90CBF15D9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FB41-E1B9-4569-8B09-B940AAAF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3584-56DC-42E6-B464-A361D547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151BB-D044-46F1-B6EC-7156B30A5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97C1-9312-417A-B9EB-FA568849E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762D-BF58-4395-87A8-BC159CA21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585B-3855-44A5-BC9F-1B50EEDA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B22EB-A274-4602-9C8B-D9FFF83E9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6732-723D-46FB-87AF-563B90F33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8AFD-5161-4FA7-80F6-D67E08A5B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2B5F-FC3A-4825-9156-D091940D0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9454-5973-4C73-915E-FC9A9B30B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8802-5A2B-4379-9378-846C3B1E2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0FEF-23DB-45B5-9B75-73743887D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47EE-80D2-40E7-82AB-CEEE152EE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E91F-F214-405E-B154-12243C69D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259C-039D-4DBF-A2F4-A6D7D7D8E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AE7B-4F6E-4305-9EB2-DA54B427A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B023-BB36-4D0F-856A-0F451D885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BIRD WAS MOST COMMONLY OWNED BY MIN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HELLEY)  L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ON "CHE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8264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MARTEN STILL HUNTED IN RUSSIA IS PRIZED FOR ITS F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O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DOES SIR RICHARD BRANSON 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LSAN)  E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DIED IN 2017 WHO PLAYED THE VAMPIRE ON HBO'S "TRUE BL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EAT HOT CROSS BUNS IN ENGLAND AND CAPIROTADA IN MEXICO TO CELEBRATE WHAT HOLI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  ED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CHILD OF QUEEN ELIZABETH 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PLAYED DIANE ON "CH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90068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'S WISH TO BE OLDER GRANTED BY A ZOLTAR MACH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BIRD WAS MOST COMMONLY OWNED BY MIN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876920"/>
            <a:ext cx="7543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IS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ECIES OF MARTEN STILL HUNTED IN RUSSIA IS PRIZED FOR ITS F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90400" y="762120"/>
            <a:ext cx="7963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ALTHY AND WISE KING OF ISRAEL SUCCEEDED HIS FATHER DAVID TO THE THRONE ABOUT 970 B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IRLINE DOES SIR RICHARD BRANSON 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DIED IN 2017 WHO PLAYED THE VAMPIRE ON HBO'S "TRUE BL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EAT HOT CROSS BUNS IN ENGLAND AND CAPIROTADA IN MEXICO TO CELEBRATE WHAT HOLI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YOUNGEST CHILD OF QUEEN ELIZABETH 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IS TOM HANK'S WISH TO BE OLDER GRANTED BY A ZOLTAR MACH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00:42:02Z</dcterms:created>
  <dc:creator>Jennifer Budzinski</dc:creator>
  <dc:description/>
  <dc:language>en-US</dc:language>
  <cp:lastModifiedBy>Erich Friedman</cp:lastModifiedBy>
  <dcterms:modified xsi:type="dcterms:W3CDTF">2020-08-28T11:06:55Z</dcterms:modified>
  <cp:revision>407</cp:revision>
  <dc:subject/>
  <dc:title>Slide 1</dc:title>
</cp:coreProperties>
</file>