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5B5-0244-45DA-9912-5992BD86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F5CF-B5C4-479C-A5D6-CA218EBBE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2D8B-C5F4-41DC-BBA2-2904F5D9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2F6-5D2D-4229-A111-24B1BA32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A44-7D47-43E0-B740-19E63209E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20B-D9CE-40C9-B0DA-7E612E76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8593-D9D1-4675-84AC-4E52313E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0C0-D947-4E85-8A6E-024FC756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1A8B-6E27-4110-834F-4D9D42F9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2E9B-8EC2-4188-BF93-5297BC01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CC3C-860D-4A5B-90B1-E52016C59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7809-4A82-4ACD-B740-94B977F6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D610-50CF-43AF-B784-C630641C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A911-E53C-441D-966C-2A866C32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E5B2-9930-4C3D-8864-D7803F5F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4302-8F7B-461E-AFD0-211A81E5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961-1C15-4F0F-9385-2F998D02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63B-BCA9-4DC6-AB8B-F10C1CD1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33A3-3302-4947-B480-54412769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C3F-312B-4CB8-A0D3-38CCD65B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7CB8-FE93-47A9-B8E0-DC20B35E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CA5-03F4-4328-BDDA-6BDFEF0C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80BB-75B7-4D04-BD30-7066DA6D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BIRD WAS MOST COMMONLY OWNED BY MI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8264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MARTEN STILL HUNTED IN RUSSIA IS PRIZED FOR ITS F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DOES SIR RICHARD BRANSON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LSAN)  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DIED IN 2017 WHO PLAYED THE VAMPIRE ON HBO'S "TRUE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EAT HOT CROSS BUNS IN ENGLAND AND CAPIROTADA IN MEXICO TO CELEBRATE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ED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CHILD OF QUEEN ELIZABETH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ON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006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'S WISH TO BE OLDER GRANTED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BIRD WAS MOST COMMONLY OWNED BY MI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IS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MARTEN STILL HUNTED IN RUSSIA IS PRIZED FOR ITS F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DOES SIR RICHARD BRANSON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DIED IN 2017 WHO PLAYED THE VAMPIRE ON HBO'S "TRUE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EAT HOT CROSS BUNS IN ENGLAND AND CAPIROTADA IN MEXICO TO CELEBRATE WHAT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CHILD OF QUEEN ELIZABETH 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'S WISH TO BE OLDER GRANTED BY A ZOLTAR MACH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0:42:02Z</dcterms:created>
  <dc:creator>Jennifer Budzinski</dc:creator>
  <dc:description/>
  <dc:language>en-US</dc:language>
  <cp:lastModifiedBy>Erich Friedman</cp:lastModifiedBy>
  <dcterms:modified xsi:type="dcterms:W3CDTF">2020-08-28T11:06:55Z</dcterms:modified>
  <cp:revision>407</cp:revision>
  <dc:subject/>
  <dc:title>Slide 1</dc:title>
</cp:coreProperties>
</file>