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6C29-319D-4D23-BAB8-3CACB0C3C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62E9-77C1-4955-BDDB-D3A59DF49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0B72-D374-46E1-B655-FFEBE5AC8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DF61-BCDB-43F1-A3E6-64372BD0E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A906-6759-4AF1-81BC-FE25C7AC7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62DB-C515-4307-94BE-168982837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6227-8566-4E00-88CA-52EC8A7EE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364F-7D0A-47C0-817A-9996CBED1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1DFB-0F61-43C2-862F-C4E772586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1F73-CE3E-4B61-8A5B-5D5330A10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A3F6-BBD3-4F65-A8E2-1D2C71DFC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B089-C458-4E0D-9CCB-0ECF463F3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C60A-FC1E-4487-ABFB-8B264EA5F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0E78-B4DF-4664-9647-90CBD73F8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3EEE-A427-4BFB-93BD-1E45D1D51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C700-90AC-4EF8-89D1-F2C19749A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3880-DE3E-4F55-AAB7-D0AD68EAA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6C9E-C71A-4FD3-BB82-C222FE3CC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A2E3-FFF1-4BB7-B3C2-272951A34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5CB9-042D-4891-B94D-01B8DD6F3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FA93-BE14-47E7-B837-E77340009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7554-DEB2-4E4E-88B7-1A1EDEF2F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C688-328C-40CE-94C3-8BED22EF1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OF BIRD WAS MOST COMMONLY OWNED BY MIN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HELLEY)  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PLAYED DIANE ON "CHE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8264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OF MARTEN STILL HUNTED IN RUSSIA IS PRIZED FOR ITS F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16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LO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ALTHY AND WISE KING OF ISRAEL SUCCEEDED HIS FATHER DAVID TO THE THRONE ABOUT 970 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IRLINE DOES SIR RICHARD BRANSON 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ELSAN)  E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DIED IN 2017 WHO PLAYED THE VAMPIRE ON HBO'S "TRUE BL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EAT HOT CROSS BUNS IN ENGLAND AND CAPIROTADA IN MEXICO TO CELEBRATE WHAT HOL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  ED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YOUNGEST CHILD OF QUEEN ELIZABETH 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PLAYED DIANE ON "CHE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0068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IS TOM HANK'S WISH TO BE OLDER GRANTED BY A ZOLTAR MACH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OF BIRD WAS MOST COMMONLY OWNED BY MIN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00280" y="487692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IS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OF MARTEN STILL HUNTED IN RUSSIA IS PRIZED FOR ITS FU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90400" y="762120"/>
            <a:ext cx="7963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ALTHY AND WISE KING OF ISRAEL SUCCEEDED HIS FATHER DAVID TO THE THRONE ABOUT 970 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IRLINE DOES SIR RICHARD BRANSON 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DIED IN 2017 WHO PLAYED THE VAMPIRE ON HBO'S "TRUE BLO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EAT HOT CROSS BUNS IN ENGLAND AND CAPIROTADA IN MEXICO TO CELEBRATE WHAT HOLI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YOUNGEST CHILD OF QUEEN ELIZABETH 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IS TOM HANK'S WISH TO BE OLDER GRANTED BY A ZOLTAR MACH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00:42:02Z</dcterms:created>
  <dc:creator>Jennifer Budzinski</dc:creator>
  <dc:description/>
  <dc:language>en-US</dc:language>
  <cp:lastModifiedBy>Erich Friedman</cp:lastModifiedBy>
  <dcterms:modified xsi:type="dcterms:W3CDTF">2020-08-28T11:06:55Z</dcterms:modified>
  <cp:revision>407</cp:revision>
  <dc:subject/>
  <dc:title>Slide 1</dc:title>
</cp:coreProperties>
</file>