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2FAA-BF97-4C19-A8F2-A140580F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221-F920-4CF3-99B5-4976F3C2F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F42-863E-4772-A09E-1ED147A82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1768-0885-4045-B4F6-ADDCBDE5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7777-74E5-4C8F-B96B-6BA0B9003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112-9DEA-4151-8D7E-DC0F8C9D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434E-63E5-4239-86F5-56405F9BB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6B67-3B6D-49C9-888F-5C20C8A1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0FB3-9515-4878-B31C-9937E29DD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FB4B-7479-4FFC-80C8-31CD580B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1C6D-8F54-4D7F-8D87-684C92FA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8D76-A234-4628-A918-50808F0A0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45A-5E1F-434D-99C5-B9D8E082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56A7-6426-43DC-825D-8041E4813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61F-C19D-4EA5-BD24-025C8CA0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9C94-152A-443E-A0A4-44678C707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448E-C5E6-4A48-B7B6-0CC9C93C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DD4E-10BE-4695-88CE-E25F3AC3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259A-0615-4F5C-9A0F-4525C2D7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092-2127-4F43-9A4D-31FA21163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F376-D9CC-45EF-9D88-51A0CBB98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82C-91C3-4994-833A-C7B62556E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C3F-D6C1-4A30-BF64-618AE6A3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N ANCIENT PROVERB, WHAT "ARE SOON PAR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FUNDAMENTAL FORCES OF PHYSICS IS THE WEAK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AMI'S PRO BASKE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R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ORKING FOR THE WEEKEND" AND "TURN ME 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MPHETAMINE SULPH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POTION  NUMBER 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SUNG BY THE CLOVERS IN 1959 AND THE SEARCHERS IN 1964 BEGINS "I TOOK MY TROUBLES DOWN TO MADAME RUTH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LITIO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BEGINS "I'M A WALKING NIGHTMARE, AN ARSENAL OF DOOM, I KILL CONVERSATION AS I WALK INTO THE RO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  BY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ONUS TRACK ON THE POLICE'S ALBUM "SYNCHRONI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FUNDAMENTAL FORCES OF PHYSICS IS THE WEAK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BLE TENNIS, WHAT IS 6 INCHES H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OOL  AND  HIS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N ANCIENT PROVERB, WHAT "ARE SOON P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4876920"/>
            <a:ext cx="624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AMI'S PRO BASKE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ORKING FOR THE WEEKEND" AND "TURN ME 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MPHETAMINE SULPH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SUNG BY THE CLOVERS IN 1959 AND THE SEARCHERS IN 1964 BEGINS "I TOOK MY TROUBLES DOWN TO MADAME RUTH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BEGINS "I'M A WALKING NIGHTMARE, AN ARSENAL OF DOOM, I KILL CONVERSATION AS I WALK INTO THE ROOM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ONUS TRACK ON THE POLICE'S ALBUM "SYNCHRONI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BLE TENNIS, WHAT IS 6 INCHES H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20:58:11Z</dcterms:created>
  <dc:creator>Jennifer Budzinski</dc:creator>
  <dc:description/>
  <dc:language>en-US</dc:language>
  <cp:lastModifiedBy>Erich Friedman</cp:lastModifiedBy>
  <dcterms:modified xsi:type="dcterms:W3CDTF">2020-08-28T11:07:59Z</dcterms:modified>
  <cp:revision>356</cp:revision>
  <dc:subject/>
  <dc:title>Slide 1</dc:title>
</cp:coreProperties>
</file>