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CE6C-A652-4B5E-A1ED-1F5A1EE86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4E08-286A-4783-B3A2-1ABA712A2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88D0A-B7A2-41BB-AFC8-2E6025FC9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E0BF-ECF3-4232-A8D7-3D889057B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1734-DDB0-4F1B-A491-10687E982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B0B2-6903-426B-9F22-AC882B012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CEAE-8296-4E03-8F0F-79B50D401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D0EE-2486-46C2-84A6-7AE4A21E1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8B65-32BD-4985-B6DE-88A6F8C65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4AC1-77C3-43D2-B9CA-FA3EC9E00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5DF1-5829-4FCC-A4BA-7CE4994DB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8154-6240-49D9-8FFA-7FC2C562A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52F7-9F3F-4552-BB9B-C20D30050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141F-DED4-4FFF-AF07-A68385843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3DF9-1056-4CAC-A45F-B2A0F1AC3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F22D-06F2-4ADB-B2CF-F4C813CB2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7318-555A-4A1A-AB10-F4EC1CB04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9D0F-7E86-4E75-9F78-2EB0F50B1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9AF6-6801-43D0-8465-68B0E8C1E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A822-FA22-40D5-934A-D187F43C7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80E8-ADA4-4FC6-BCF7-8F280F922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664A-9D63-44A2-A06A-5C145F91E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7480-CA17-47EC-8B8B-2443C731E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N ANCIENT PROVERB, WHAT "ARE SOON PAR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4 FUNDAMENTAL FORCES OF PHYSICS IS THE WEAK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AMI'S PRO BASKETBAL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R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ORKING FOR THE WEEKEND" AND "TURN ME LO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NAME FOR AMPHETAMINE SULPH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POTION  NUMBER 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SUNG BY THE CLOVERS IN 1959 AND THE SEARCHERS IN 1964 BEGINS "I TOOK MY TROUBLES DOWN TO MADAME RUTH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MOLITION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SONG BEGINS "I'M A WALKING NIGHTMARE, AN ARSENAL OF DOOM, I KILL CONVERSATION AS I WALK INTO THE ROOM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DER  BY 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ONUS TRACK ON THE POLICE'S ALBUM "SYNCHRONIC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4 FUNDAMENTAL FORCES OF PHYSICS IS THE WEAK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09760" y="76212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ABLE TENNIS, WHAT IS 6 INCHES HI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FOOL  AND  HIS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N ANCIENT PROVERB, WHAT "ARE SOON PAR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47920" y="4876920"/>
            <a:ext cx="624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RA  BULLOCK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AMI'S PRO BASKETBAL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ORKING FOR THE WEEKEND" AND "TURN ME LOO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NAME FOR AMPHETAMINE SULPH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SUNG BY THE CLOVERS IN 1959 AND THE SEARCHERS IN 1964 BEGINS "I TOOK MY TROUBLES DOWN TO MADAME RUTH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SONG BEGINS "I'M A WALKING NIGHTMARE, AN ARSENAL OF DOOM, I KILL CONVERSATION AS I WALK INTO THE ROOM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ONUS TRACK ON THE POLICE'S ALBUM "SYNCHRONIC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ABLE TENNIS, WHAT IS 6 INCHES HIG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9T20:58:11Z</dcterms:created>
  <dc:creator>Jennifer Budzinski</dc:creator>
  <dc:description/>
  <dc:language>en-US</dc:language>
  <cp:lastModifiedBy>Erich Friedman</cp:lastModifiedBy>
  <dcterms:modified xsi:type="dcterms:W3CDTF">2020-08-28T11:07:59Z</dcterms:modified>
  <cp:revision>356</cp:revision>
  <dc:subject/>
  <dc:title>Slide 1</dc:title>
</cp:coreProperties>
</file>