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633-2293-4DF0-A229-ED4977875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1369-08A2-498B-97D6-53B1A1595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E9C-C7B9-4E8E-B376-7389C834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285-F368-4400-AEB0-6A6FF5F8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0E1A-ADC4-4941-A91D-FE84317D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0A35-2A73-45CC-BD74-5813D336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5F58-E8F9-480E-9E95-57E54ED9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0D20-57A8-48BD-948A-BF559721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14B-4AE1-464D-A92C-BB81B4EE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DD1-6330-47C4-A6D7-8D5B1259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721-11AE-4B12-873D-1818419A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9A95-58FE-4445-A3BC-9E575483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849-ABBC-4FDA-9653-D32D400B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288-FC73-4E8A-8636-1F9F028A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A269-76D3-47F1-AF4E-F852C6C6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23B8-D22F-431C-83DA-DA207CCD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EF4-9548-494E-B6A8-44866761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3877-F7A7-4250-8792-C838470C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3B8F-5DA0-4375-9793-3C00638B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E071-B295-4CC2-98AA-8CFB2000C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E5D-E0C4-4376-A602-D436F680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6F7-47D1-479C-84CB-A3FC1D13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A562-4D65-4888-AA7A-045B990B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R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POTION  NUMBER 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LITI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BY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OOL  AND  HIS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0:58:11Z</dcterms:created>
  <dc:creator>Jennifer Budzinski</dc:creator>
  <dc:description/>
  <dc:language>en-US</dc:language>
  <cp:lastModifiedBy>Erich Friedman</cp:lastModifiedBy>
  <dcterms:modified xsi:type="dcterms:W3CDTF">2020-08-28T11:07:59Z</dcterms:modified>
  <cp:revision>356</cp:revision>
  <dc:subject/>
  <dc:title>Slide 1</dc:title>
</cp:coreProperties>
</file>