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B19F-0668-46A1-906E-19FE692E0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8577-1979-4670-82E2-85F9D6CAA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ECA1-ED32-4533-A494-5210F9C40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466F-8A7F-412E-A885-26654DDA3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02C7-22A3-4CC4-AC5B-0AC5BD69B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4574-05CD-4D33-BD0F-376E7AB3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48A7-7097-4A44-87AC-CD1927F8A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710E-6945-465B-AA3B-90BB49DBB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8FAA-02EC-49CD-9D5B-AEDC2D5FC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E048-BD8B-4869-9933-44D07573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BD92-7762-4A7D-8380-54609B00F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57AF-CCD6-4F26-82BE-3E9E47BAD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9D8A-0BA0-4B5A-9D22-20CBCCB0E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4195-F271-4C33-BD4E-B07672F48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FC8B-F75F-4E36-8D77-84C44FAEF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94B2-EC08-418E-A0B5-80769DB6A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4D4E-74CC-4D9A-9303-18C5652AF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309D5-B40A-4AC6-81B9-945D10DB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0998-645B-4855-BA7A-435F0BC13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1629-B901-478F-BE39-09B08547F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DDD3-C75E-47B5-95B7-CEB6E682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BFD8-A4A8-4DBE-A9AF-346D2F179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7656-7A5B-4FC8-9A8F-29A5DA3D3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NOVEL BY ALBERT CAMUS WAS CHOSEN BY THE FRENCH NEWSPAP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E MON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BEST NOVEL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NNIE TYLER'S HIT SONG "TOTAL ECLIPSE OF THE HEART", WHAT WORD STARTS 6 OF THE FIRST 10 LINES SHE S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SY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STARRED RODNEY DANGERFIELD AS A MAN WHO NEEDS TO SHAPE UP IN ORDER TO INHERIT $10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N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333440" y="725400"/>
            <a:ext cx="6477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JUST WEST OF BETHLEHEM,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WHO HAD DAUGHTERS NAMED BARBARA AND JEN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MEASURED IN PASC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FIFTY)  SHADES  OF 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EST-SELLING EROTIC NOVEL BY E. L. JAMES, WITHOUT THE FIRST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AT  WALL  OF 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ANMADE STRUCTURE THAT CAN BE SEEN FROM ORB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NNIE TYLER'S HIT SONG "TOTAL ECLIPSE OF THE HEART", WHAT WORD STARTS 6 OF THE FIRST 10 LINES SHE SIN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ING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AINT PETERSBURG, RUSSIA KNOWN AS FROM 1924 TO 199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R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NOVEL BY ALBERT CAMUS WAS CHOSEN BY THE FRENCH NEWSPAPER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LE MOND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S THE BEST NOVEL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4876920"/>
            <a:ext cx="7848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JOEL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3 FILM STARRED RODNEY DANGERFIELD AS A MAN WHO NEEDS TO SHAPE UP IN ORDER TO INHERIT $10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09760" y="762120"/>
            <a:ext cx="6324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JUST WEST OF BETHLEHEM, PENNSYLV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WHO HAD DAUGHTERS NAMED BARBARA AND JEN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MEASURED IN PASC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EST-SELLING EROTIC NOVEL BY E. L. JAMES, WITHOUT THE FIRST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MANMADE STRUCTURE THAT CAN BE SEEN FROM ORB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WAS SAINT PETERSBURG, RUSSIA KNOWN AS FROM 1924 TO 199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7T13:44:53Z</dcterms:created>
  <dc:creator>Jennifer Budzinski</dc:creator>
  <dc:description/>
  <dc:language>en-US</dc:language>
  <cp:lastModifiedBy>Erich Friedman</cp:lastModifiedBy>
  <dcterms:modified xsi:type="dcterms:W3CDTF">2020-08-28T11:08:53Z</dcterms:modified>
  <cp:revision>415</cp:revision>
  <dc:subject/>
  <dc:title>Slide 1</dc:title>
</cp:coreProperties>
</file>