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4CB3-9440-4AB6-8A9F-54CD80C0B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55E3-7171-4CF1-B7A0-3D3BC192F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6731-B6BF-402C-9F62-A47D5523D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4F01-A3C4-4A90-9875-69AD7FD40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6112-F880-4300-A418-A600F4289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22A5-4977-4791-B469-5DDE194E2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F2CE-7FDE-41B3-ADE4-6816F2780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923D-E44B-490E-941D-719AF4E44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4DFC-28A4-4C45-878E-0E4E02111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066F-0732-42FF-BFC6-EE0B6782B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368E-FEAB-40A4-9287-689D0CDEC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6CEF-64F0-4C50-B53B-55E87346E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7C98-9802-49E1-A3AE-5F8C1B6F8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9D6C-0375-4843-B8B6-FF99A1A4B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D35E-F85A-4CD1-8BFD-1C0EA6F07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CE4D-7CB5-465A-A600-739ED3F75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4A44-B15E-4F33-95A5-7B85E9F66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FDF3-8C95-4DFE-A8DB-E7D095047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AD9D-72C7-42E3-932D-D40179C6C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16C2-115A-4FD9-97CE-41FA906F4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9007-1006-43CF-8DE0-513CDCDB2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64BA-AC60-412A-AC5E-F6048193A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8D3B-DD7D-4241-A69F-7433F5783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NOVEL BY ALBERT CAMUS WAS CHOSEN BY THE FRENCH NEWSPAPER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LE MOND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S THE BEST NOVEL OF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NA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0188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ONNIE TYLER'S HIT SONG "TOTAL ECLIPSE OF THE HEART", WHAT WORD STARTS 6 OF THE FIRST 10 LINES SHE S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SY  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3 FILM STARRED RODNEY DANGERFIELD AS A MAN WHO NEEDS TO SHAPE UP IN ORDER TO INHERIT $10 M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ENT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333440" y="725400"/>
            <a:ext cx="6477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JUST WEST OF BETHLEHEM, PENNSYLVA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FIRST LADY WHO HAD DAUGHTERS NAMED BARBARA AND JEN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ES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95280" y="762120"/>
            <a:ext cx="6553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NTITY IN PHYSICS IS MEASURED IN PASC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FIFTY)  SHADES  OF  G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BEST-SELLING EROTIC NOVEL BY E. L. JAMES, WITHOUT THE FIRST W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AT  WALL  OF  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MANMADE STRUCTURE THAT CAN BE SEEN FROM ORB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ONNIE TYLER'S HIT SONG "TOTAL ECLIPSE OF THE HEART", WHAT WORD STARTS 6 OF THE FIRST 10 LINES SHE SI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NINGR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WAS SAINT PETERSBURG, RUSSIA KNOWN AS FROM 1924 TO 199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TRA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NOVEL BY ALBERT CAMUS WAS CHOSEN BY THE FRENCH NEWSPAPER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LE MOND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S THE BEST NOVEL OF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47640" y="4876920"/>
            <a:ext cx="7848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Y  JOEL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3 FILM STARRED RODNEY DANGERFIELD AS A MAN WHO NEEDS TO SHAPE UP IN ORDER TO INHERIT $10 M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409760" y="762120"/>
            <a:ext cx="6324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JUST WEST OF BETHLEHEM, PENNSYLVA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FIRST LADY WHO HAD DAUGHTERS NAMED BARBARA AND JEN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NTITY IN PHYSICS IS MEASURED IN PASC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BEST-SELLING EROTIC NOVEL BY E. L. JAMES, WITHOUT THE FIRST W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MANMADE STRUCTURE THAT CAN BE SEEN FROM ORB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WAS SAINT PETERSBURG, RUSSIA KNOWN AS FROM 1924 TO 199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7T13:44:53Z</dcterms:created>
  <dc:creator>Jennifer Budzinski</dc:creator>
  <dc:description/>
  <dc:language>en-US</dc:language>
  <cp:lastModifiedBy>Erich Friedman</cp:lastModifiedBy>
  <dcterms:modified xsi:type="dcterms:W3CDTF">2020-08-28T11:08:53Z</dcterms:modified>
  <cp:revision>415</cp:revision>
  <dc:subject/>
  <dc:title>Slide 1</dc:title>
</cp:coreProperties>
</file>