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FAF2-1FA8-4E63-9711-DC99E188B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4629-D991-438E-8951-F1A124724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D198-3FF8-4456-A33A-9930DAC4B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D0C8-4663-48FB-A158-BD434DBA4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1C33-5417-483F-97A0-768D53304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94B4-2C2F-46E1-812C-88C488C45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FC6F-7C11-449C-AE91-19AD483A5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867C-C390-4CA9-90EE-8F234FC3E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4A4D-D954-45BE-AF31-9A28A60F5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DF9D-F9AA-4285-8C83-0262F572C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D432-8C0D-4099-B6DE-D6B9AB420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3999-3831-4B68-8BC5-77BC7FCC4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E5FA-0ADD-4E4E-A725-3103D48D9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726B-23B9-426A-BA80-B5BDCC553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ACC3-D6F0-4FFC-833C-CD368F48F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8799-C7B7-463C-BD73-D31262A12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3491-890E-4344-9AD1-363C367C1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2E75-EB68-4A93-BE30-3FEA4A950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5E57-0273-4989-BF89-21DFBA53C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9E69-0DD8-4F94-9915-7327D3721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5982-B7DF-4377-931B-1F91DB5E8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0986-E4C6-45DF-B962-8822D543E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3E7A-40E0-40E3-8D59-046C4CED7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NOVEL BY ALBERT CAMUS WAS CHOSEN BY THE FRENCH NEWSPAPE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E MOND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S THE BEST NOVEL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NA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0188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ONNIE TYLER'S HIT SONG "TOTAL ECLIPSE OF THE HEART", WHAT WORD STARTS 6 OF THE FIRST 10 LINES SHE S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SY 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3 FILM STARRED RODNEY DANGERFIELD AS A MAN WHO NEEDS TO SHAPE UP IN ORDER TO INHERIT $10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ENT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333440" y="725400"/>
            <a:ext cx="6477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JUST WEST OF BETHLEHEM, PENNSYLVA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FIRST LADY WHO HAD DAUGHTERS NAMED BARBARA AND JEN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95280" y="762120"/>
            <a:ext cx="655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NTITY IN PHYSICS IS MEASURED IN PASC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FIFTY)  SHADES  OF  G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BEST-SELLING EROTIC NOVEL BY E. L. JAMES, WITHOUT THE FIRST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AT  WALL  OF 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MANMADE STRUCTURE THAT CAN BE SEEN FROM ORB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ONNIE TYLER'S HIT SONG "TOTAL ECLIPSE OF THE HEART", WHAT WORD STARTS 6 OF THE FIRST 10 LINES SHE S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NINGR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WAS SAINT PETERSBURG, RUSSIA KNOWN AS FROM 1924 TO 199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TR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NOVEL BY ALBERT CAMUS WAS CHOSEN BY THE FRENCH NEWSPAPE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E MOND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S THE BEST NOVEL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47640" y="4876920"/>
            <a:ext cx="784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Y  JOEL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3 FILM STARRED RODNEY DANGERFIELD AS A MAN WHO NEEDS TO SHAPE UP IN ORDER TO INHERIT $10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09760" y="762120"/>
            <a:ext cx="6324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JUST WEST OF BETHLEHEM, PENNSYLVA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FIRST LADY WHO HAD DAUGHTERS NAMED BARBARA AND JEN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NTITY IN PHYSICS IS MEASURED IN PASC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BEST-SELLING EROTIC NOVEL BY E. L. JAMES, WITHOUT THE FIRST 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MANMADE STRUCTURE THAT CAN BE SEEN FROM ORB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WAS SAINT PETERSBURG, RUSSIA KNOWN AS FROM 1924 TO 199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7T13:44:53Z</dcterms:created>
  <dc:creator>Jennifer Budzinski</dc:creator>
  <dc:description/>
  <dc:language>en-US</dc:language>
  <cp:lastModifiedBy>Erich Friedman</cp:lastModifiedBy>
  <dcterms:modified xsi:type="dcterms:W3CDTF">2020-08-28T11:08:53Z</dcterms:modified>
  <cp:revision>415</cp:revision>
  <dc:subject/>
  <dc:title>Slide 1</dc:title>
</cp:coreProperties>
</file>