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8EF2-71D3-4C19-BFB0-8BE6B5253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E010-2268-4750-8845-2BE013E9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2B25-CA9B-469A-82A1-07AC921B5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E641-AC7C-4657-A5C0-2ABF08A78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89B7-E763-41AA-9C16-4C2C1395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F856-0FBC-431D-A482-0E5A60ED1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F557-4DF0-439F-9FFE-652AD634E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756E-B7FE-41C7-A5E8-F4F8A6DB0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946B-9ED5-4F4C-A25C-1A27A6AD5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F5D6-03C8-4471-A58C-722934A0F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565E-A1D8-4EBC-9A03-52A7EE7EE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B4FC-078B-4D59-BAFC-2EAB534DA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6868-5497-4680-A6D0-063FD3473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F970-C595-4505-862B-3280B46FE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59A5-000F-4AC5-8C94-EB247A27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86E-9B54-4F14-8B28-C348A8F5D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96EB-F046-41CC-9917-6260DD10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E817-B11B-4B54-A582-71C67A118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A329-BCB4-4ED5-96DD-86F83188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6FAF-02DC-4920-9A0A-C014AEE84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DB16-26F4-41D8-86BC-601C84164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7D02-C3AF-482F-BEE7-20158F77C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90BF-69D3-4E08-8886-222C6208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PERRY MASON'S SECRET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DID CHARLES GOREN WRITE 38 BOOKS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R.)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B. A. BARACUS ON "THE A-TEAM" AND "CLUBBER LANG" IN "ROCKY I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SUITS IN A TRADITIONAL TAROT CARD DECK: WANDS, COINS, CUP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S  (ADJUSTABLE-RATE  MORTGAG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 FOR HOME LOANS WITH A VARIABLE INTERES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OLES IN SWISS CHEESE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82640"/>
            <a:ext cx="716256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MOST CARTOON CHARACTERS HAVE EXACTLY 8 O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UCLID, WHAT DO 2 POINTS DETER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DID CHARLES GOREN WRITE 38 BOOKS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3188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CLE IN THE HUMAN BODY DOES THE MOST WORK OVER A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ELLA)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PERRY MASON'S SECRET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CAN  BE  CRO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B. A. BARACUS ON "THE A-TEAM" AND "CLUBBER LANG" IN "ROCKY I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SUITS IN A TRADITIONAL TAROT CARD DECK: WANDS, COINS, CUP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 FOR HOME LOANS WITH A VARIABLE INTEREST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OLES IN SWISS CHEESE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MOST CARTOON CHARACTERS HAVE EXACTLY 8 OF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UCLID, WHAT DO 2 POINTS DETERM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CLE IN THE HUMAN BODY DOES THE MOST WORK OVER A LIFE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20:03:20Z</dcterms:created>
  <dc:creator>Jennifer Budzinski</dc:creator>
  <dc:description/>
  <dc:language>en-US</dc:language>
  <cp:lastModifiedBy>Erich Friedman</cp:lastModifiedBy>
  <dcterms:modified xsi:type="dcterms:W3CDTF">2020-08-28T12:05:42Z</dcterms:modified>
  <cp:revision>360</cp:revision>
  <dc:subject/>
  <dc:title>Slide 1</dc:title>
</cp:coreProperties>
</file>