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D904-1E8B-43A2-8676-5A3196771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E4DE-447A-470C-B90B-743EEDBDB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D5DB-5A6E-471D-B440-AD78C9C9D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0750-36AC-4810-98C9-2AD86DAA1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3B86-CC49-4313-970B-0EE244F3B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41DD-6857-4348-B6D6-FE652255D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0F2E-7A9F-434E-932E-2412383A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52C3-1564-493F-98C4-EF2BF5133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E121-488B-42DE-94D1-8E87B53ED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D5B3-6DAA-4E71-B0A4-3A3F306CD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BD05-5FDA-476B-8239-E6C4A70F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B2A1-37B9-44B8-8DC6-0BFDBA295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B1EA-E5D0-4DDC-841B-BB24BF3A7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8A55-0E14-4CFC-A69D-117AB4D66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D97F-31F2-499D-89CB-7ED967DA5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6817-7F10-4E53-973B-2D814C82B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8674-C55B-40BA-87D5-7FC80272D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0738-38ED-41AB-A4B4-3DDFB6FFA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2016-79D2-42F0-8D16-AC6C1115B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C8BE-B2B1-4532-809B-4482AD36D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6086A-DABE-4E1F-AA00-FA888A487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BE98-ECE5-4B4A-BAE1-3F0888348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518B-C20D-4E28-BE6D-C6BCD2645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PERRY MASON'S SECRET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DID CHARLES GOREN WRITE 38 BOOKS AB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R.)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B. A. BARACUS ON "THE A-TEAM" AND "CLUBBER LANG" IN "ROCKY I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SUITS IN A TRADITIONAL TAROT CARD DECK: WANDS, COINS, CUPS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34340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S  (ADJUSTABLE-RATE  MORTGAG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RONYM IS USED  FOR HOME LOANS WITH A VARIABLE INTEREST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HOLES IN SWISS CHEESE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82640"/>
            <a:ext cx="716256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MOST CARTOON CHARACTERS HAVE EXACTLY 8 O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UCLID, WHAT DO 2 POINTS DETER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DID CHARLES GOREN WRITE 38 BOOKS AB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3188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CLE IN THE HUMAN BODY DOES THE MOST WORK OVER A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ELLA)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PERRY MASON'S SECRET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CAN  BE  CRO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B. A. BARACUS ON "THE A-TEAM" AND "CLUBBER LANG" IN "ROCKY I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4 SUITS IN A TRADITIONAL TAROT CARD DECK: WANDS, COINS, CUPS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RONYM IS USED  FOR HOME LOANS WITH A VARIABLE INTEREST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HOLES IN SWISS CHEESE CALL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MOST CARTOON CHARACTERS HAVE EXACTLY 8 OF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UCLID, WHAT DO 2 POINTS DETERM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CLE IN THE HUMAN BODY DOES THE MOST WORK OVER A LIFE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5T20:03:20Z</dcterms:created>
  <dc:creator>Jennifer Budzinski</dc:creator>
  <dc:description/>
  <dc:language>en-US</dc:language>
  <cp:lastModifiedBy>Erich Friedman</cp:lastModifiedBy>
  <dcterms:modified xsi:type="dcterms:W3CDTF">2020-08-28T12:05:42Z</dcterms:modified>
  <cp:revision>360</cp:revision>
  <dc:subject/>
  <dc:title>Slide 1</dc:title>
</cp:coreProperties>
</file>