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5436-9D77-45BD-A3E9-369338FC2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0859-58F5-4A8C-BE66-CD41D0EF9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0E50-F2A7-4ED9-8919-4C550DD55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7309-1E19-4473-9D88-2F06F8EA4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E3F4-5FB7-4BEC-8130-70CDFF13A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87C6-9261-4600-9097-DCF60769D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0DF0-5DA2-45A5-87B4-86545C64A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9568-F429-4C0B-855F-362B51CA4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740B-0E8F-498B-88D1-B7266F84B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262C-2095-42E9-92D8-F897C81A7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B603-3FCD-4044-8604-31A81137F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CFB2-78B6-4D1C-ADB8-56267AD8B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FC1F-EADA-4BAD-A8EE-F28E9CCC5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11AA-487B-4D27-9E14-FF75D223E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AAC0-782A-403D-BEB1-0C47ECD5D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3711-5AAC-442B-8A6E-ED752F774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27E7-4DF6-4571-A7A2-3C2139AAF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80CF-51A6-4FE2-A1A3-639F25EBF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223E-35A7-41C2-8A6A-A406E0AC6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2723-F647-4664-8FD4-5ED435607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4F71-573B-4B89-A1F9-EBD14746D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32B4-F6B5-4466-ACD6-79F5B23F9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C1AD-BD78-4249-B4E4-F30DC5148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PERRY MASON'S SECRET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DID CHARLES GOREN WRITE 38 BOOKS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R.)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B. A. BARACUS ON "THE A-TEAM" AND "CLUBBER LANG" IN "ROCKY II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4 SUITS IN A TRADITIONAL TAROT CARD DECK: WANDS, COINS, CUPS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343400"/>
            <a:ext cx="5639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S  (ADJUSTABLE-RATE  MORTGAG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RONYM IS USED  FOR HOME LOANS WITH A VARIABLE INTEREST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HOLES IN SWISS CHEESE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82640"/>
            <a:ext cx="716256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MOST CARTOON CHARACTERS HAVE EXACTLY 8 OF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UCLID, WHAT DO 2 POINTS DETERM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DID CHARLES GOREN WRITE 38 BOOKS ABO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3188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CLE IN THE HUMAN BODY DOES THE MOST WORK OVER A LIFE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ELLA) 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PERRY MASON'S SECRET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AT  CAN  BE  CRO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B. A. BARACUS ON "THE A-TEAM" AND "CLUBBER LANG" IN "ROCKY II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4 SUITS IN A TRADITIONAL TAROT CARD DECK: WANDS, COINS, CUPS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RONYM IS USED  FOR HOME LOANS WITH A VARIABLE INTEREST R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HOLES IN SWISS CHEESE CALL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MOST CARTOON CHARACTERS HAVE EXACTLY 8 OF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UCLID, WHAT DO 2 POINTS DETERM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CLE IN THE HUMAN BODY DOES THE MOST WORK OVER A LIFE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5T20:03:20Z</dcterms:created>
  <dc:creator>Jennifer Budzinski</dc:creator>
  <dc:description/>
  <dc:language>en-US</dc:language>
  <cp:lastModifiedBy>Erich Friedman</cp:lastModifiedBy>
  <dcterms:modified xsi:type="dcterms:W3CDTF">2020-08-28T12:05:42Z</dcterms:modified>
  <cp:revision>360</cp:revision>
  <dc:subject/>
  <dc:title>Slide 1</dc:title>
</cp:coreProperties>
</file>