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C333-445B-42DD-A41E-D517A584B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47C-3F62-49EC-961B-A40107CF0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A4A0-413B-4380-9D5E-68A27192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96AF-A17A-46CF-B52C-7CD12D88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4BF1-0B76-4EBC-9563-9B9769CFF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A4A9-D07D-4645-B46A-15FE324DA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14A8-FEFB-4CED-88DB-16B7B71C6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1816-1D0E-40CC-A935-2D506C97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3925-B5A1-455F-A0A4-787E6A47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0EE5-BBC6-4860-841D-78B1E3DC4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A1D6-2104-4B34-9959-C2D3F4CD9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F6AF-0814-4660-BB12-E62695AD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68E7-3B7C-4BE6-B4F8-6BE248B5E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E6A4-EE5A-43F8-BB99-CCBE0AF2E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9A34-ED46-404B-88A6-B027AF78C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97EC-FC0A-402C-8EE9-59C50FF30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DF06-2583-4FAC-86C8-E6BC59E20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995D-0F79-46B2-A5F4-873FFB41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C76A-E6C0-4EB7-B12D-0274520B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5397-A5FA-45ED-98B3-4713E0A9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89FF-BB08-40AC-8DE6-EEC60ACA2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DF7B-586C-4D49-8039-693EC67A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7C7B-22F1-475F-B1AA-B4939B1CB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U.S. PRESIDENT TO BE MARRIED 3 TIMES BEFORE TAKING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ADVERTISED AS BEING 99.44% P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TAIL COMPANY IN THE U.S., UNTIL 1989 WHEN IT WAS PASSED BY WALM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FIRST NAME OF AMERICAN MEN, UNTIL THE 1920'S WHEN IT WAS PASSED BY "RO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EXANDER  GRAHAM)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INVENTOR WHO PATENTED THE FIRST PRACTICAL TELE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IZEN, INVICTA, AND SEIKO ARE BRAND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QUID HAS THE SECOND LARGEST SURFACE TENSION, AFTER MERC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RHYTHMIC "TICKING" THROUGHOUT THE SECOND MOVEMENT, HAYDN'S SYMPHONY NO. 101 IS BETTER KNOWN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ADVERTISED AS BEING 99.44% P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USTAVE)  EIFF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ENGINEER WHO BUILT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NALD)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U.S. PRESIDENT TO BE MARRIED 3 TIMES BEFORE TAKING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3434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TOW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TAIL COMPANY IN THE U.S., UNTIL 1989 WHEN IT WAS PASSED BY WALM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FIRST NAME OF AMERICAN MEN, UNTIL THE 1920'S WHEN  IT WAS PASSED BY "RO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INVENTOR WHO PATENTED THE FIRST PRACTICAL TELEPH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IZEN, INVICTA, AND SEIKO ARE BRAND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QUID HAS THE SECOND LARGEST SURFACE TENSION, AFTER MERC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RHYTHMIC "TICKING" THROUGHOUT THE SECOND MOVEMENT, HAYDN'S SYMPHONY NO. 101 IS BETTER KNOWN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ENGINEER WHO BUILT THE STATUE OF LIBE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17:49:30Z</dcterms:created>
  <dc:creator>Jennifer Budzinski</dc:creator>
  <dc:description/>
  <dc:language>en-US</dc:language>
  <cp:lastModifiedBy>Erich Friedman</cp:lastModifiedBy>
  <dcterms:modified xsi:type="dcterms:W3CDTF">2020-08-28T12:06:30Z</dcterms:modified>
  <cp:revision>450</cp:revision>
  <dc:subject/>
  <dc:title>Slide 1</dc:title>
</cp:coreProperties>
</file>