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1AFB-798A-4986-BF95-88E5D314D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930E-29DF-47AC-91B3-890618A4C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8FBA-17F3-4E8A-A3AD-CC656E3E6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B21C-04D1-4EFB-B40D-DAEEC3AF8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186A-7388-41D5-B32F-44176186E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AA10-6F34-43B5-B977-CD582F755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6C8F-84FD-441E-901D-39F6ADA47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1FA8-35B2-494E-AFBC-22DE1AC10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179E-FD0B-4BAF-B745-ADCD22F59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8AA2-9E60-446F-81B8-38665F9BA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8E54-7B38-4CD3-848B-0CFB5D7F7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86D4-9264-4A10-8705-053DAD941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D892-02FF-4AE1-9137-D19BA7C85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D39A-1D5E-4918-905F-610591780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8772-7B7D-4DFF-9A2C-1511D1A63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7A28-5A90-4783-B91A-060683B44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C555-BEE7-4FFE-85AB-DE746117A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D101-DE30-42CF-A761-0353E3B14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9251-7F2D-4782-8CAF-A9731B6E2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3A38-5F79-425E-A69B-949F875AC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4B4A-B679-42E1-A6B2-FC25E7B25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86ED-3349-4F47-B83E-3572FC0E4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5B64-01B0-42C1-95E2-D7CB896BB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NLY U.S. PRESIDENT TO BE MARRIED 3 TIMES BEFORE TAKING OFF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V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AP WAS ADVERTISED AS BEING 99.44% P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RGEST RETAIL COMPANY IN THE U.S., UNTIL 1989 WHEN IT WAS PASSED BY WALM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COMMON FIRST NAME OF AMERICAN MEN, UNTIL THE 1920'S WHEN IT WAS PASSED BY "ROBE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LEXANDER  GRAHAM)  B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INVENTOR WHO PATENTED THE FIRST PRACTICAL TELEPH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ITIZEN, INVICTA, AND SEIKO ARE BRANDS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IQUID HAS THE SECOND LARGEST SURFACE TENSION, AFTER MERC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OF THE RHYTHMIC "TICKING" THROUGHOUT THE SECOND MOVEMENT, HAYDN'S SYMPHONY NO. 101 IS BETTER KNOWN BY WHA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AP WAS ADVERTISED AS BEING 99.44% P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GUSTAVE)  EIFF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ENGINEER WHO BUILT THE STATUE OF LIBER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ONALD)  TR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NLY U.S. PRESIDENT TO BE MARRIED 3 TIMES BEFORE TAKING OFF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14680" y="4343400"/>
            <a:ext cx="5715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TOWE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RGEST RETAIL COMPANY IN THE U.S., UNTIL 1989 WHEN IT WAS PASSED BY WALMA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COMMON FIRST NAME OF AMERICAN MEN, UNTIL THE 1920'S WHEN  IT WAS PASSED BY "ROBE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INVENTOR WHO PATENTED THE FIRST PRACTICAL TELEPH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ITIZEN, INVICTA, AND SEIKO ARE BRANDS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IQUID HAS THE SECOND LARGEST SURFACE TENSION, AFTER MERC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OF THE RHYTHMIC "TICKING" THROUGHOUT THE SECOND MOVEMENT, HAYDN'S SYMPHONY NO. 101 IS BETTER KNOWN BY WHA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ENGINEER WHO BUILT THE STATUE OF LIBER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6T17:49:30Z</dcterms:created>
  <dc:creator>Jennifer Budzinski</dc:creator>
  <dc:description/>
  <dc:language>en-US</dc:language>
  <cp:lastModifiedBy>Erich Friedman</cp:lastModifiedBy>
  <dcterms:modified xsi:type="dcterms:W3CDTF">2020-08-28T12:06:30Z</dcterms:modified>
  <cp:revision>450</cp:revision>
  <dc:subject/>
  <dc:title>Slide 1</dc:title>
</cp:coreProperties>
</file>