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B385-FF81-4785-BBB5-99CC161E4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2628-5FCA-44C9-8061-5FEEB77A8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AF54-5012-4D87-888A-C5F3FFAAA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09EB-725E-4519-B3C8-47CAC202B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F026-0D95-4236-8325-35C70D521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45DF-2ABF-4229-A8FA-9521414BA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266E-E1AD-4B87-A45E-BEA1109F5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A3ED-1245-46D0-BB3F-43C95C0EA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DA1C-2C76-459A-8C94-4DE4383CA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4A77-9DAA-4FBE-B5E3-6044AEA3E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C5E0-87E5-4AB9-9B94-DC807CF40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E030-B737-4098-A77D-415B2746C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D4D8-174B-4ED4-A0F9-BF014688F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5DF6-5FFC-4AF9-B5B1-67B8B7A0F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6C74-0E18-4C80-81DB-AD09C4428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B124-D713-4D0F-AC20-D1238CF7B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F67B-EDD0-4138-A757-7B0B92359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2786-AA57-4449-AA8D-695C74C5D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E621-8E35-457D-A057-613C572FE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476C-6ACF-44A2-95B9-F9D5809AC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FB67-48E6-418F-9501-3457FFCC9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3EAA-B72B-4E70-8D48-57F00536F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6A72-ECBC-4217-98E4-F38431628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U.S. PRESIDENT TO BE MARRIED 3 TIMES BEFORE TAKING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WAS ADVERTISED AS BEING 99.44% P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RETAIL COMPANY IN THE U.S., UNTIL 1989 WHEN IT WAS PASSED BY WALM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COMMON FIRST NAME OF AMERICAN MEN, UNTIL THE 1920'S WHEN IT WAS PASSED BY "ROB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LEXANDER  GRAHAM)  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INVENTOR WHO PATENTED THE FIRST PRACTICAL TELEPH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TIZEN, INVICTA, AND SEIKO ARE BRAND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QUID HAS THE SECOND LARGEST SURFACE TENSION, AFTER MERC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THE RHYTHMIC "TICKING" THROUGHOUT THE SECOND MOVEMENT, HAYDN'S SYMPHONY NO. 101 IS BETTER KNOWN BY WHA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WAS ADVERTISED AS BEING 99.44% P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USTAVE)  EIFF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ENGINEER WHO BUILT THE STATUE OF LIBE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NALD)  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U.S. PRESIDENT TO BE MARRIED 3 TIMES BEFORE TAKING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14680" y="4343400"/>
            <a:ext cx="5715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TOW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RETAIL COMPANY IN THE U.S., UNTIL 1989 WHEN IT WAS PASSED BY WALM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COMMON FIRST NAME OF AMERICAN MEN, UNTIL THE 1920'S WHEN  IT WAS PASSED BY "ROB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INVENTOR WHO PATENTED THE FIRST PRACTICAL TELEPH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TIZEN, INVICTA, AND SEIKO ARE BRAND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QUID HAS THE SECOND LARGEST SURFACE TENSION, AFTER MERC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THE RHYTHMIC "TICKING" THROUGHOUT THE SECOND MOVEMENT, HAYDN'S SYMPHONY NO. 101 IS BETTER KNOWN BY WHA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ENGINEER WHO BUILT THE STATUE OF LIBER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17:49:30Z</dcterms:created>
  <dc:creator>Jennifer Budzinski</dc:creator>
  <dc:description/>
  <dc:language>en-US</dc:language>
  <cp:lastModifiedBy>Erich Friedman</cp:lastModifiedBy>
  <dcterms:modified xsi:type="dcterms:W3CDTF">2020-08-28T12:06:30Z</dcterms:modified>
  <cp:revision>450</cp:revision>
  <dc:subject/>
  <dc:title>Slide 1</dc:title>
</cp:coreProperties>
</file>