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E9F9-46D9-4013-AAE8-29952DA4B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FF22-AF25-4977-8233-D6C32245C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22D0-1DB4-44A0-9F6E-9A2231B23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42E0-0C44-416F-A49F-977B32A9D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0EB3-07A8-4358-B40D-C14FD2D86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B51B-1E2F-4B77-B54A-D415536A3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0992-42B8-4C5A-A013-2DF994322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9DD8-182F-4F46-BF55-88AAD0EDD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D6AC-448D-48FA-B93A-E9030D1BF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B1D3-6179-4F97-B45D-81EC74D50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DE0F-077C-4606-BA37-CB486CB9F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1EB2-B60C-4B7E-B63C-1D97B1FA3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8C3F-F771-4EA3-9BBD-A8AA280AF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01CB-0599-4E48-B3B2-36CE168D7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B883-8501-40A7-BB5B-8D6D5D592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028A-D6EA-49F1-89A8-C1734CAE0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4237-4B12-4366-ADF7-D031AC9DA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038C-E449-4FF7-A76E-205A36859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E93D-87F2-4C7B-9208-648757EB6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663F-E83B-4D60-9E45-2F6F6450D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CBE3-4E8B-4650-8476-EA770E023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E4EE-B1A9-4BA8-B41A-4C63F588C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7E93-D73D-4307-90CB-D91C676B6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-LADDER GAME SHOW AIRED ON NBC IN 1980, ON USA 1986-1991, AND GSN 2006-2007 AND 2015-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N  ON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 WITHERS SONG BEGINS WITH THE LYRICS "YOU JUST CALL ON ME BROTHER, WHEN YOU NEED A H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5120" y="762120"/>
            <a:ext cx="5333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ADLY SIN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  ITEMS  OR 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TYPICALLY NEED TO GO THROUGH THE EXPRESS LINE AT THE GROCERY ST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YEARS AGO, WHAT WAS THE MOST COMMON WEDDING DRESS COLOR IN CHINA AND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GIVEN TO THE 3.2 MILLION YEAR-OLD FEMALE SKELETON FOUND IN ETHIOPIA IN 1974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THE PRODUCT OF MASS AND VELOC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(CURI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WIN A NOBEL PR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 WITHERS SONG BEGINS WITH THE LYRICS "YOU JUST CALL ON ME BROTHER, WHEN YOU NEED A H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CR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90400" y="762120"/>
            <a:ext cx="7963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IS QUOTE FROM  THE CONSTITUTION: "CONVICTION OF TREASON, BRIBERY, OR OTHER ____ ____ AND MISDEMEAN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 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-LADDER GAME SHOW AIRED ON NBC IN 1980, ON USA 1986-1991, AND GSN 2006-2007 AND 2015-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8769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GAN  FREEMA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ADLY SIN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TYPICALLY NEED TO GO THROUGH THE EXPRESS LINE AT THE GROCERY ST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YEARS AGO, WHAT WAS THE MOST COMMON WEDDING DRESS COLOR IN CHINA AND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GIVEN TO THE 3.2 MILLION YEAR-OLD FEMALE SKELETON FOUND IN ETHIOPIA IN 1974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THE PRODUCT OF MASS AND VELOCIT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WIN A NOBEL PR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IS QUOTE FROM  THE CONSTITUTION: "CONVICTION OF TREASON, BRIBERY, OR OTHER ____ ____ AND MISDEMEAN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9:04:11Z</dcterms:created>
  <dc:creator>Jennifer Budzinski</dc:creator>
  <dc:description/>
  <dc:language>en-US</dc:language>
  <cp:lastModifiedBy>Erich Friedman</cp:lastModifiedBy>
  <dcterms:modified xsi:type="dcterms:W3CDTF">2020-08-28T12:07:19Z</dcterms:modified>
  <cp:revision>343</cp:revision>
  <dc:subject/>
  <dc:title>Slide 1</dc:title>
</cp:coreProperties>
</file>