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D7D2-C776-42FB-AFFF-8284AADD9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2F6D-1A90-4B92-A48B-0C9D9DF08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4A14-4065-4014-835D-AF3A82846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B475-B023-4FF4-A59D-8576722CF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01F1-3667-4F0A-9A62-7E0D4938E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E712-FEC9-493D-A37B-00814DA6B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74B4-2230-4D2C-9D45-BB6231478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641D-4229-48F8-BFE9-42A1FAED5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4846-6C6C-4B0E-863E-EDC0B034E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944A-1D24-40F0-83CC-2B8299773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92FB-E4C7-4C2B-A2A8-C4A83337A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C734-FD7E-484F-A1EF-89B51CA83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A3D3-278C-4227-9A3E-237580A63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44C7-3940-4904-B6D3-D4A26D9EE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E7C9-439E-4320-8FE7-288F9E6C4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D276-3E96-4ED7-AA8A-9821C5AC2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8414-A04C-4797-8A36-BBF53A555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18B2-ECE0-4601-B68D-D28A5C138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0565-CAC6-4123-95AC-DAF5A8C53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636E-4C0A-4014-B0F7-EC2CC00AB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910A-6410-4678-B0E5-C304B8D66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7E43-A7C1-405C-B547-4D4E80BCC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B7A4-F213-46B9-B132-76209F9BF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-LADDER GAME SHOW AIRED ON NBC IN 1980, ON USA 1986-1991, AND GSN 2006-2007 AND 2015-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N  ON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LL WITHERS SONG BEGINS WITH THE LYRICS "YOU JUST CALL ON ME BROTHER, WHEN YOU NEED A H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905120" y="762120"/>
            <a:ext cx="5333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EADLY SIN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  ITEMS  OR 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TYPICALLY NEED TO GO THROUGH THE EXPRESS LINE AT THE GROCERY ST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0 YEARS AGO, WHAT WAS THE MOST COMMON WEDDING DRESS COLOR IN CHINA AND IN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WAS GIVEN TO THE 3.2 MILLION YEAR-OLD FEMALE SKELETON FOUND IN ETHIOPIA IN 1974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MEN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THE PRODUCT OF MASS AND VELOC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E  (CURI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WIN A NOBEL PR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LL WITHERS SONG BEGINS WITH THE LYRICS "YOU JUST CALL ON ME BROTHER, WHEN YOU NEED A H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  CR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90400" y="762120"/>
            <a:ext cx="7963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IS QUOTE FROM  THE CONSTITUTION: "CONVICTION OF TREASON, BRIBERY, OR OTHER ____ ____ AND MISDEMEANO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IN 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-LADDER GAME SHOW AIRED ON NBC IN 1980, ON USA 1986-1991, AND GSN 2006-2007 AND 2015-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8769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RGAN  FREEMAN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EADLY SINS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TYPICALLY NEED TO GO THROUGH THE EXPRESS LINE AT THE GROCERY ST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0 YEARS AGO, WHAT WAS THE MOST COMMON WEDDING DRESS COLOR IN CHINA AND IND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WAS GIVEN TO THE 3.2 MILLION YEAR-OLD FEMALE SKELETON FOUND IN ETHIOPIA IN 1974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THE PRODUCT OF MASS AND VELOCIT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WIN A NOBEL PRIZ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IS QUOTE FROM  THE CONSTITUTION: "CONVICTION OF TREASON, BRIBERY, OR OTHER ____ ____ AND MISDEMEANO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9:04:11Z</dcterms:created>
  <dc:creator>Jennifer Budzinski</dc:creator>
  <dc:description/>
  <dc:language>en-US</dc:language>
  <cp:lastModifiedBy>Erich Friedman</cp:lastModifiedBy>
  <dcterms:modified xsi:type="dcterms:W3CDTF">2020-08-28T12:07:19Z</dcterms:modified>
  <cp:revision>343</cp:revision>
  <dc:subject/>
  <dc:title>Slide 1</dc:title>
</cp:coreProperties>
</file>