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B0E6-A4F9-4546-8031-394CED67B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641F-5FB3-481D-BBA2-76B796A38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F2D29-9C07-407A-9AF8-833D7ECE7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C4AC-A17E-4D6E-9371-67B228BC9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028F-C3BC-4DE4-A64A-D90FF4F91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FE56-A1E3-4C97-A2C4-0FE767B7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1F57-221C-40BF-A669-B4F28166F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18C8-A970-4121-83DB-D5E3EE96C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4D55-359C-441D-B509-FFCB4980A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5163-1126-4561-970D-315970B7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6A29-FCC9-4980-9D27-0BD7BF689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9E1E-FC0D-4DCE-BA10-1C8622DEE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E90A-3346-4A55-922A-E3D4D34E7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B31C-04E6-46E9-950F-940598FD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3F8F-94AB-40F0-B41F-8F407A135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51FA-04CD-4FEC-B05F-7C92E149C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5149-DFAE-4249-AA9E-D3A924F7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35FB-CC74-4186-B3C8-025A2F37F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8883A-7FE1-48E2-BDCB-B4402DCED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1125-F1EC-42F5-99A6-5D29D4553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2046-1B6E-48C2-BE70-EA03D36A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14F1-CD68-47EA-881D-5BC59CAF0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F228-7856-4D73-BDDA-CF0936B42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-LADDER GAME SHOW AIRED ON NBC IN 1980, ON USA 1986-1991, AND GSN 2006-2007 AND 2015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N  ON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BEGINS WITH THE LYRICS "YOU JUST CALL ON ME BROTHER, WHEN YOU NEED A H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5120" y="762120"/>
            <a:ext cx="533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  ITEMS  OR 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TYPICALLY NEED TO GO THROUGH THE EXPRESS LINE AT THE GROCERY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YEARS AGO, WHAT WAS THE MOST COMMON WEDDING DRESS COLOR IN CHINA AND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GIVEN TO THE 3.2 MILLION YEAR-OLD FEMALE SKELETON FOUND IN ETHIOPIA IN 1974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MEN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PRODUCT OF MASS AND VELOC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(CUR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 NOBEL PR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 WITHERS SONG BEGINS WITH THE LYRICS "YOU JUST CALL ON ME BROTHER, WHEN YOU NEED A H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C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IS QUOTE FROM  THE CONSTITUTION: "CONVICTION OF TREASON, BRIBERY, OR OTHER ____ ____ AND MISDEMEAN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-LADDER GAME SHOW AIRED ON NBC IN 1980, ON USA 1986-1991, AND GSN 2006-2007 AND 2015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8769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GAN  FREEMA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ADLY SIN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TYPICALLY NEED TO GO THROUGH THE EXPRESS LINE AT THE GROCERY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YEARS AGO, WHAT WAS THE MOST COMMON WEDDING DRESS COLOR IN CHINA AND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GIVEN TO THE 3.2 MILLION YEAR-OLD FEMALE SKELETON FOUND IN ETHIOPIA IN 1974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THE PRODUCT OF MASS AND VELOCIT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WIN A NOBEL PR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LL IN THIS QUOTE FROM  THE CONSTITUTION: "CONVICTION OF TREASON, BRIBERY, OR OTHER ____ ____ AND MISDEMEAN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9:04:11Z</dcterms:created>
  <dc:creator>Jennifer Budzinski</dc:creator>
  <dc:description/>
  <dc:language>en-US</dc:language>
  <cp:lastModifiedBy>Erich Friedman</cp:lastModifiedBy>
  <dcterms:modified xsi:type="dcterms:W3CDTF">2020-08-28T12:07:19Z</dcterms:modified>
  <cp:revision>343</cp:revision>
  <dc:subject/>
  <dc:title>Slide 1</dc:title>
</cp:coreProperties>
</file>