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840A-A1D2-4697-AA83-D8DC99828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1854-0A42-411E-9989-45F91869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9413-D3B8-41B0-8119-68BFA5EA6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2FDB-32BD-4C24-B415-4CE396E4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0C30-E72C-4A42-878B-4C40A934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488D-CE5D-4977-8CDC-24599096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82C0-DD62-420E-AFDA-FC9EA16C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13D-ECDD-4595-9A8F-DD63B397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A801-EB27-45F8-91C6-827F5E41C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8684-98FF-414F-8528-483FCFB2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135B-C2DA-4C3E-8902-36204FF1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EC28-BAEA-40F6-9886-575C3AFDC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2C14-D308-4325-B818-EFFD835C8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0330-EEAD-4820-BC93-5C00D701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7CB4-2BD3-4692-9F6F-D7E3E9738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0BA9-A54A-483E-9864-DDC2C9A3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02A5-918A-4A20-90B8-DA001964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729-88A9-41C1-949D-4E1B4B2D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38AB-7A6C-414B-8ADA-0A779E80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25E8-0CAF-4AF4-9F2C-332A07113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964D-1D0E-4B34-9B1C-513FF5B79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D54-9306-4672-9638-C7D7D03F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3583-697B-457D-A37B-F35D6AA3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WITHIN BRITAIN'S CONSERVATIVE PARTY VOTED AGAINST JOINING THE EUROPEAN UNION OVER 2000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 LEVEL DOMAIN NAME WAS CREATED IN 2001 FOR BUSINESSES WHOSE PREFERRED DOMAIN NAME WITH .COM WAS TA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(AND ABILITY) OF THE SON IN "THE INCREDIBL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19160" y="762120"/>
            <a:ext cx="710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&lt;B&gt; STAND FOR IN WEB PAGE HTML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7621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USED IN ELECTRONICS FOR THE RATIO OF OUTPUT TO INPUT POWER, VOLTAGE, OR CUR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BE FOLLOWED BY HIGH, LOW, LEE, SLACK, OR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 LEVEL DOMAIN NAME WAS CREATED IN 2001 FOR BUSINESSES WHOSE PREFERRED DOMAIN NAME WITH .COM WAS TAK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62120"/>
            <a:ext cx="76010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MALIST WEB BROWSER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3459240" y="2590920"/>
            <a:ext cx="22240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WITHIN BRITAIN'S CONSERVATIVE PARTY VOTED AGAINST JOINING THE EUROPEAN UNION OVER 2000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ETER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(AND ABILITY) OF THE SON IN "THE INCREDIBL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8120" y="762120"/>
            <a:ext cx="826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&lt;B&gt; STAND FOR IN WEB PAGE HTML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USED IN ELECTRONICS FOR THE RATIO OF OUTPUT TO INPUT POWER, VOLTAGE, OR CUR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BE FOLLOWED BY HIGH, LOW, LEE, SLACK, OR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MALIST WEB BROWSER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3414600" y="2514600"/>
            <a:ext cx="2314800" cy="23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8:19Z</dcterms:modified>
  <cp:revision>424</cp:revision>
  <dc:subject/>
  <dc:title>Slide 1</dc:title>
</cp:coreProperties>
</file>