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143F-FAC6-4532-A663-B9AA1BFE7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913C-CC71-44EA-885A-E32C010D6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E610-0ADF-4E6B-9719-CABCBE71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0BA2-5661-4C6B-BE8A-4A08EAE4E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7BC-44F7-4259-B871-146050106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9710-3FC6-48B1-ACCD-5FD224DA0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707C-46A3-4F75-B8AB-ADCD0D402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836B-1579-4B11-9CEC-0B4F9CA6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E82D-00D0-4F19-8BE9-5CF74E4BD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3501-6445-4323-974F-EE84D0E4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AE66-1F58-44B7-A3E4-ADE31DC1C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547F-19EA-4DD7-A060-F7EB01D10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B6CA-6BB0-46F7-B794-44CB6460E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5756-AE44-44E7-891F-27A43AD9C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82E0-92A5-414F-8C3C-07685B5FC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A9A3-6CDB-4381-B343-E16BE371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D027-BCA1-4035-A3D3-8C53DF9A2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BE3E-7FCA-44FD-A1C3-CFCF4F7F6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2529-2066-4272-9BFA-4C1EF4699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3A6A-57E8-4D48-B77F-D8D87A71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35F8-B00A-439F-B508-BB472E43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170CF-0F6D-40DD-B815-15684EDA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C3B7-6639-4EF4-A4F6-C992CF87B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WITHIN BRITAIN'S CONSERVATIVE PARTY VOTED AGAINST JOINING THE EUROPEAN UNION OVER 2000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.B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 LEVEL DOMAIN NAME WAS CREATED IN 2001 FOR BUSINESSES WHOSE PREFERRED DOMAIN NAME WITH .COM WAS TA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(AND ABILITY) OF THE SON IN "THE INCREDIBL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019160" y="762120"/>
            <a:ext cx="71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&lt;B&gt; STAND FOR IN WEB PAGE HTML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228600" y="7621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USED IN ELECTRONICS FOR THE RATIO OF OUTPUT TO INPUT POWER, VOLTAGE, OR CURR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BE FOLLOWED BY HIGH, LOW, LEE, SLACK, OR SP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 LEVEL DOMAIN NAME WAS CREATED IN 2001 FOR BUSINESSES WHOSE PREFERRED DOMAIN NAME WITH .COM WAS TAK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62120"/>
            <a:ext cx="76010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MALIST WEB BROWSER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3459240" y="2590920"/>
            <a:ext cx="2224080" cy="22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WITHIN BRITAIN'S CONSERVATIVE PARTY VOTED AGAINST JOINING THE EUROPEAN UNION OVER 2000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ETER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(AND ABILITY) OF THE SON IN "THE INCREDIBL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8120" y="762120"/>
            <a:ext cx="826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&lt;B&gt; STAND FOR IN WEB PAGE HTML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USED IN ELECTRONICS FOR THE RATIO OF OUTPUT TO INPUT POWER, VOLTAGE, OR CUR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BE FOLLOWED BY HIGH, LOW, LEE, SLACK, OR SP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MALIST WEB BROWSER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3414600" y="2514600"/>
            <a:ext cx="2314800" cy="231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8:19Z</dcterms:modified>
  <cp:revision>424</cp:revision>
  <dc:subject/>
  <dc:title>Slide 1</dc:title>
</cp:coreProperties>
</file>