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3AF7-8CC9-4314-9BA7-EF3E91D52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D87F-586A-4691-96ED-E947B350F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AF39-B5B4-415D-BC4F-3D331CC00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166F-6E8E-435C-B620-E4C960127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48D9-C1A0-4914-9AAF-7A6468B39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3686-1C3F-492F-8053-E8A0EC5CE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19BC-B5CA-4AE1-9389-4DD1D805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6AF9-8F76-48A9-B6C8-03E6F69A1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1A13-77D4-49FB-BCB4-2ACEE3B9D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8363-8143-4BA8-BD67-B743E5383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14A6-E391-4442-921F-4DE9C2FE0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5591-ED1A-4E9A-A635-8EE4CA83B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526D-D662-4C22-8E02-173D7E36A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92EB-6A85-48D5-8AC9-93AC0A4C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2D98-7D4F-4179-AF55-2CF3BB015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9F31-AF20-4654-9BBD-12010FF14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6AE0-7C98-4924-8691-2E041FD8F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CC33-0FDF-4F72-90BE-294F0F09F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3CAD-D642-42CA-B81D-2AA516C1B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AF6B-C692-4031-9A99-EDE8A40AA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963D-C947-4594-8829-DFFB12CE3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673C-CD11-43C1-BA19-361D4882B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F462-3513-44E7-8796-9CEF23820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WITHIN BRITAIN'S CONSERVATIVE PARTY VOTED AGAINST JOINING THE EUROPEAN UNION OVER 2000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 LEVEL DOMAIN NAME WAS CREATED IN 2001 FOR BUSINESSES WHOSE PREFERRED DOMAIN NAME WITH .COM WAS TA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(AND ABILITY) OF THE SON IN "THE INCREDIBL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PLEDGE OF ALLEGI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019160" y="762120"/>
            <a:ext cx="710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LITTLE MER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&lt;B&gt; STAND FOR IN WEB PAGE HTML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228600" y="7621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S USED IN ELECTRONICS FOR THE RATIO OF OUTPUT TO INPUT POWER, VOLTAGE, OR CUR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BE FOLLOWED BY HIGH, LOW, LEE, SLACK, OR SP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 LEVEL DOMAIN NAME WAS CREATED IN 2001 FOR BUSINESSES WHOSE PREFERRED DOMAIN NAME WITH .COM WAS TAK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71480" y="762120"/>
            <a:ext cx="760104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IMALIST WEB BROWSER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3459240" y="2590920"/>
            <a:ext cx="22240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H  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WITHIN BRITAIN'S CONSERVATIVE PARTY VOTED AGAINST JOINING THE EUROPEAN UNION OVER 2000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ETER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(AND ABILITY) OF THE SON IN "THE INCREDIBL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8120" y="762120"/>
            <a:ext cx="826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PLEDGE OF ALLEGI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47600" y="762120"/>
            <a:ext cx="704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LITTLE MER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&lt;B&gt; STAND FOR IN WEB PAGE HTML C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S USED IN ELECTRONICS FOR THE RATIO OF OUTPUT TO INPUT POWER, VOLTAGE, OR CUR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BE FOLLOWED BY HIGH, LOW, LEE, SLACK, OR SP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IMALIST WEB BROWSER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3414600" y="2514600"/>
            <a:ext cx="2314800" cy="231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08:19Z</dcterms:modified>
  <cp:revision>424</cp:revision>
  <dc:subject/>
  <dc:title>Slide 1</dc:title>
</cp:coreProperties>
</file>