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1566-484A-4BBF-BB3D-589458F48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E482-DE5A-4CC9-8292-381B1F5C8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7D13-A864-4FEA-9326-52AFE7A86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6B28-0DA3-40AC-9B77-3F74FFF35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5C7D-79EF-4F96-ACBD-F8A5B35DE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3E6F-E8C0-4555-AFD1-BAFF7B85A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D561-FFDB-4642-9425-DA8C38C6E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B401-FF92-4373-8D4C-338BD9487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D29A-BE62-4C1B-AE7F-748E8C228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D8BE-ABA5-4F60-9DC6-431B12293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3D68-6834-456F-AB1F-0AD0465C1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32FF-BE88-4607-BABF-EB7E0A63F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90E1-F0AF-4DE4-8871-CB8B881F1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6CDA-3F1F-4F67-8129-20F33D7E6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BE60-3961-4468-9FFE-FD8E16517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8BCD-A203-4178-8A18-0C4E01C7F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B78B-944A-4109-9AF2-7A0B59C60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B9A2-C1A7-41B7-9DFC-AF7A4EEF0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A61E-5383-45BB-A2A1-5452CE3BF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A2B8-DAAF-4D67-A4F3-AD112D9A5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2B65-0F50-4349-928F-82CE2CC6A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A3B8-71E6-4FEA-8D09-093182C8E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D1BE-B422-4554-BC86-4CACD7390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ROMAN CATHOLICISM, WHAT PRAYER FORMS THE BASIS OF THE ROSARY AND THE ANGELUS PRAY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352440" y="4876920"/>
            <a:ext cx="8439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19200" y="762120"/>
            <a:ext cx="7905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HYSICS, WHAT IS THE TECHNICAL TERM FOR AIR OR FLUID RESIST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47800" y="762120"/>
            <a:ext cx="7448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VECTOR CALCULUS, ∇×F DENOTES THE WHAT OF 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EEN  (ACTORS  GUIL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62120"/>
            <a:ext cx="6781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"SA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23800" y="762120"/>
            <a:ext cx="809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OSCAR-NOMINATED FILM STARRED TOM HANKS AND MERYL STREE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BRITISH CALL AN APART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49160"/>
            <a:ext cx="723888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SUGAR RAY'S FIRST #1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028880" y="48769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HORSE JUMPING, WHAT NAME IS GIVEN TO A FENCE WITH A "V" SHA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HYSICS, WHAT IS THE TECHNICAL TERM FOR AIR OR FLUID RESIST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9880" y="762120"/>
            <a:ext cx="7464240" cy="31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OKER, WHAT NAME IS GIVEN TO A CARD THAT WILL TURN A LOSING HAND INTO A WINNING 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L  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ROMAN CATHOLICISM, WHAT PRAYER FORMS THE BASIS OF THE ROSARY AND THE ANGELUS PRAY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34340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FOOTBALL  PASS  ROUTES  OR  PL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VECTOR CALCULUS, ∇×F DENOTES THE WHAT OF 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28680" y="762120"/>
            <a:ext cx="6686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"SA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OSCAR-NOMINATED FILM STARRED TOM HANKS AND MERYL STREE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BRITISH CALL AN APART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SUGAR RAY'S FIRST #1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HORSE JUMPING, WHAT NAME IS GIVEN TO A FENCE WITH A "V" SHA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OKER, WHAT NAME IS GIVEN TO A CARD THAT WILL TURN A LOSING HAND INTO A WINNING 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23:00:16Z</dcterms:created>
  <dc:creator>Jennifer Budzinski</dc:creator>
  <dc:description/>
  <dc:language>en-US</dc:language>
  <cp:lastModifiedBy>Erich Friedman</cp:lastModifiedBy>
  <dcterms:modified xsi:type="dcterms:W3CDTF">2020-08-28T12:08:55Z</dcterms:modified>
  <cp:revision>429</cp:revision>
  <dc:subject/>
  <dc:title>Slide 1</dc:title>
</cp:coreProperties>
</file>