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77A9-BA02-46FC-BB79-559E932D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211B-6594-4514-AAD2-1398727D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4C9A-9870-4564-BA4A-7FE012AE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B626-4E04-4D91-9175-5EA8658A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15F3-CAB8-4016-9F2F-D0D920CA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274-BA85-4647-BE5A-B4347A44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2F3D-4466-4CA6-A277-8D0EDDA9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2030-B5EB-45D8-B795-B569C262A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4E9F-B6B4-44FD-BF03-BC23A2AB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AC8-55CA-43C9-A2DE-9072C355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C6CD-D564-47CD-BDEB-CD69249F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1AD-AE65-4586-9FB5-C87AA41B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AC38-98B7-417A-9EAD-BE9A516A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8D3D-5F7E-4BF0-AC8E-8A770CBDD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2E9E-0C1C-43BF-BE21-C54BBF20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4E7-E23D-46F6-B00E-7443109D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0D09-F2AF-479C-B3FE-2519A0C0F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ABC-9AA1-4FBA-8E0B-07A862DA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C5BB-29C0-4C1B-8D5F-B0FB1E7BC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7455-2E5E-4F0A-A346-DCC6CCCA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288D-3860-472A-900B-81A71E0A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6FE-AA12-479E-AC9A-55A3DE3E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E597-6066-4B62-A52C-73528EC5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MAN CATHOLICISM, WHAT PRAYER FORMS THE BASIS OF THE ROSARY AND THE ANGELUS PR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  (ACTORS  GUI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SA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23800" y="762120"/>
            <a:ext cx="809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OSCAR-NOMINATED FILM STARRED TOM HANKS AND MERYL STR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AN APAR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49160"/>
            <a:ext cx="72388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UGAR RAY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RSE JUMPING, WHAT NAME IS GIVEN TO A FENCE WITH A "V"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9880" y="762120"/>
            <a:ext cx="74642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WHAT NAME IS GIVEN TO A CARD THAT WILL TURN A LOSING HAND INTO A WINNING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MAN CATHOLICISM, WHAT PRAYER FORMS THE BASIS OF THE ROSARY AND THE ANGELUS PR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FOOTBALL  PASS  ROUTES  OR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8680" y="762120"/>
            <a:ext cx="6686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SA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OSCAR-NOMINATED FILM STARRED TOM HANKS AND MERYL STR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AN APAR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UGAR RAY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RSE JUMPING, WHAT NAME IS GIVEN TO A FENCE WITH A "V" SH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WHAT NAME IS GIVEN TO A CARD THAT WILL TURN A LOSING HAND INTO A WINNING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8:55Z</dcterms:modified>
  <cp:revision>429</cp:revision>
  <dc:subject/>
  <dc:title>Slide 1</dc:title>
</cp:coreProperties>
</file>