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A799-37A8-4285-A8A8-F855B95CC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DC8B-242A-47D2-96F5-F6A0B1822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4888-8BCC-4E3A-8050-8C5B83F3D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56D5-53B5-4D6D-A698-3E10E146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5F9D-DEE8-4DA6-AAA1-A66A3AED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7691-B5FA-49C4-AEC9-45618B4D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3000-6CD7-4E32-B346-FA4E6875F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D166-9C29-4CCE-B179-D87D3FA7D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8417-E2B7-4B94-94BA-2C0FE241B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0660-A619-4D1F-84A7-EE5585C74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D1E0-4C19-4297-9DE4-91B5AD165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ED1D-7CD6-4DF4-B3FE-A7B01CEBB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191E-A426-414A-9A09-87E55BE50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1582-DFB6-454A-BB09-0CA8E5787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8B4D2-CDE5-4005-AD41-66D17F5AF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486D-6E73-412F-B560-F60814BD0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97F4-4901-4F61-ACF8-E4A493D8B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BB4E-B2C6-47B8-8B25-88C70EAD1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455F-364B-495A-8868-8801EB7D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9122-26F0-4D3D-926B-E20633DB7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0F56-FABB-4518-A911-80253FF22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B285-95F2-4316-884E-999D933FA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D511-F095-419B-811C-B90E901B8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MAN CATHOLICISM, WHAT PRAYER FORMS THE BASIS OF THE ROSARY AND THE ANGELUS PR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52440" y="4876920"/>
            <a:ext cx="8439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19200" y="762120"/>
            <a:ext cx="790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47800" y="762120"/>
            <a:ext cx="744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  (ACTORS  GUI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SA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23800" y="762120"/>
            <a:ext cx="809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OSCAR-NOMINATED FILM STARRED TOM HANKS AND MERYL STRE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AN APAR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49160"/>
            <a:ext cx="72388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UGAR RAY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RSE JUMPING, WHAT NAME IS GIVEN TO A FENCE WITH A "V" SHA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HYSICS, WHAT IS THE TECHNICAL TERM FOR AIR OR FLUID RESIST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9880" y="762120"/>
            <a:ext cx="7464240" cy="31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WHAT NAME IS GIVEN TO A CARD THAT WILL TURN A LOSING HAND INTO A WINNING 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MAN CATHOLICISM, WHAT PRAYER FORMS THE BASIS OF THE ROSARY AND THE ANGELUS PR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FOOTBALL  PASS  ROUTES  OR  PL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ECTOR CALCULUS, ∇×F DENOTES THE WHAT OF 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28680" y="762120"/>
            <a:ext cx="6686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"SA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OSCAR-NOMINATED FILM STARRED TOM HANKS AND MERYL STRE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BRITISH CALL AN APART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UGAR RAY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RSE JUMPING, WHAT NAME IS GIVEN TO A FENCE WITH A "V" SHA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POKER, WHAT NAME IS GIVEN TO A CARD THAT WILL TURN A LOSING HAND INTO A WINNING 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4T23:00:16Z</dcterms:created>
  <dc:creator>Jennifer Budzinski</dc:creator>
  <dc:description/>
  <dc:language>en-US</dc:language>
  <cp:lastModifiedBy>Erich Friedman</cp:lastModifiedBy>
  <dcterms:modified xsi:type="dcterms:W3CDTF">2020-08-28T12:08:55Z</dcterms:modified>
  <cp:revision>429</cp:revision>
  <dc:subject/>
  <dc:title>Slide 1</dc:title>
</cp:coreProperties>
</file>