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AD7F-2807-4956-A65B-E99E938DE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C67-6683-4FEF-A597-B1B9A036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F2AB-9DE9-4D20-9EA0-30C9C709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E8DB-184E-46DA-BC23-3A01E51F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3A36-6357-4F17-B0D0-F82182A0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819-1EA1-4881-92A2-57AF6145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732B-EF1D-4103-96DB-D04D03F6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4F2-B215-43F0-939A-B736A0835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C37-2B76-4692-B7FB-2241748E5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9E16-8847-4C1E-A27F-4B9B3F10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8F3-38AB-4DC1-861B-7494E384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0C58-9781-471F-AB58-762EA9AB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29DF-CE01-4B30-BDFF-235AD25D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8C9C-5071-4699-B99A-BDF6F28E9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F88A-103E-4FFF-9950-9021914E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8CC-0997-4D59-9827-BD166DCE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E95F-23C5-4259-8C1C-F1C6730B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E5D-6BBC-4354-89E5-E0577895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4A17-D7BE-48CE-AB92-33E74E3F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E90-55E9-4CEB-964D-4C5A4139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D915-4898-483D-84BC-50319179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BE6-8FA2-4CBD-BA33-AF30ADB89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E13-01BF-4BC7-B284-5A2AED70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HIP-HOP FILM STARRED EMINEM, WHO ALSO WON THE OSCAR FOR THE BEST ORIGINAL SONG "LOSE YOUR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GUE  OF 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TERNATIONAL ORGANIZATION WAS FORMED IN 1920 TO PREVENT W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TTICUS FINCH IN THE FILM "TO KILL A MOCKING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05, WHO BECAME THE SECOND SCIENTIST EVER KNIGHTED BY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7004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MEDIUM WERE THE 10 COMMANDMENTS WRIT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524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MERICAN WORD FOR WHAT THE ENGLISH WOULD CALL A "GARD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FIRST PERSON TO SUCCESSFULLY GO OVER NIAGARA FALLS I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 WAS THE FIRST NUMBER ONE SINGLE FOR WHAT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TERNATIONAL ORGANIZATION WAS FORMED IN 1920 TO PREVENT W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OF  F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THA FRANKLIN SONG FROM THE ALBUM "LADY SOUL" WON THE 1969 GRAMMY AWARD FOR BEST FEMALE R&amp;B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HIP-HOP FILM STARRED EMINEM, WHO ALSO WON THE OSCAR FOR THE BEST ORIGINAL SONG "LOSE YOUR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UNITS  OF 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TTICUS FINCH IN THE FILM "TO KILL A MOCKING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05, WHO BECAME THE SECOND SCIENTIST EVER KNIGHTED BY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MEDIUM WERE THE 10 COMMANDMENTS WRIT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MERICAN WORD FOR WHAT THE ENGLISH WOULD CALL A "GARD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FIRST PERSON TO SUCCESSFULLY GO OVER NIAGARA FALLS I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 WAS THE FIRST NUMBER ONE SINGLE FOR WHAT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THA FRANKLIN SONG FROM THE ALBUM "LADY SOUL" WON THE 1969 GRAMMY AWARD FOR BEST FEMALE R&amp;B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5:02:38Z</dcterms:created>
  <dc:creator>Jennifer Budzinski</dc:creator>
  <dc:description/>
  <dc:language>en-US</dc:language>
  <cp:lastModifiedBy>Erich Friedman</cp:lastModifiedBy>
  <dcterms:modified xsi:type="dcterms:W3CDTF">2020-08-24T12:00:54Z</dcterms:modified>
  <cp:revision>348</cp:revision>
  <dc:subject/>
  <dc:title>Slide 1</dc:title>
</cp:coreProperties>
</file>