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057-3C07-45C6-A476-EA18F53F7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1486-7D0C-4238-A60B-5C715AA8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D1C7-C007-4E9D-84AD-CA9737BD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8CD-5807-4B0A-9210-FB077940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81F3-4A00-4F7D-BE17-BCDE06AC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F8B-AF1B-40CC-AEC9-81BF8414A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3B87-50F9-444C-81B1-E7910B3D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C511-C177-4D5C-B9AD-8FE3DC3FF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B828-E6A9-4DC6-99A8-C2AF4E8E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5B6-3810-4A8E-9A80-C6C201C63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F5B-EE32-4D28-9A25-1BCD42B1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0735-6CBA-4BBC-AB6C-EED053B4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5FEA-62F2-48FC-BE43-B78378BF0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7DAE-EEFA-4F06-B2EE-08F8F33C3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6F15-E03C-4E56-8A91-DE27F7BE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998C-539A-4DC0-ADB3-D7F742512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5ACC-D070-47B7-8745-94CEE131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8A9F-756C-4A01-9FDD-68966E16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2A8-2A8F-4AD2-95B3-D0A05526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D73F-428A-4E13-B8AD-D219A3BB1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F13F-1E18-4AF3-8180-954D63DF0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B47D-C515-4180-9734-B39F48E2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0B2A-B00D-468E-A0DC-40BFF17D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HIP-HOP FILM STARRED EMINEM, WHO ALSO WON THE OSCAR FOR THE BEST ORIGINAL SONG "LOSE YOUR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GUE  OF 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TERNATIONAL ORGANIZATION WAS FORMED IN 1920 TO PREVENT W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TTICUS FINCH IN THE FILM "TO KILL A MOCKINGBI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05, WHO BECAME THE SECOND SCIENTIST EVER KNIGHTED BY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TAB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7004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MEDIUM WERE THE 10 COMMANDMENTS WRIT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524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MERICAN WORD FOR WHAT THE ENGLISH WOULD CALL A "GARD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FIRST PERSON TO SUCCESSFULLY GO OVER NIAGARA FALLS I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 WAS THE FIRST NUMBER ONE SINGLE FOR WHAT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TERNATIONAL ORGANIZATION WAS FORMED IN 1920 TO PREVENT W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OF  F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THA FRANKLIN SONG FROM THE ALBUM "LADY SOUL" WON THE 1969 GRAMMY AWARD FOR BEST FEMALE R&amp;B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HIP-HOP FILM STARRED EMINEM, WHO ALSO WON THE OSCAR FOR THE BEST ORIGINAL SONG "LOSE YOUR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UNITS  OF 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TTICUS FINCH IN THE FILM "TO KILL A MOCKING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05, WHO BECAME THE SECOND SCIENTIST EVER KNIGHTED BY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MEDIUM WERE THE 10 COMMANDMENTS WRIT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MERICAN WORD FOR WHAT THE ENGLISH WOULD CALL A "GARD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FIRST PERSON TO SUCCESSFULLY GO OVER NIAGARA FALLS I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 WAS THE FIRST NUMBER ONE SINGLE FOR WHAT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THA FRANKLIN SONG FROM THE ALBUM "LADY SOUL" WON THE 1969 GRAMMY AWARD FOR BEST FEMALE R&amp;B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5:02:38Z</dcterms:created>
  <dc:creator>Jennifer Budzinski</dc:creator>
  <dc:description/>
  <dc:language>en-US</dc:language>
  <cp:lastModifiedBy>Erich Friedman</cp:lastModifiedBy>
  <dcterms:modified xsi:type="dcterms:W3CDTF">2020-08-24T12:00:54Z</dcterms:modified>
  <cp:revision>348</cp:revision>
  <dc:subject/>
  <dc:title>Slide 1</dc:title>
</cp:coreProperties>
</file>