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6192-26F6-4BFA-82CF-6E8AAD7D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9D0A-8424-426C-B6AA-564C8797E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A061-4778-43BE-A32E-898A7A5DF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9915-6F1C-446B-ACFD-EB6704CDA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19F7-8AF8-4AA7-A804-D503AEA7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862-954C-4575-AB2A-22993708E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8C52-9F73-4046-A18F-7441EFD6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94E-89DC-4FBF-9EE5-BB3980C73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BC23-FD2B-4ED2-8D1F-696E96314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7FB1-ADE3-4585-B336-66E3D133D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FC91-7291-4FFA-AF58-784B4B890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6380-502A-4C7E-9AD0-6096A0855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048-51AA-44E1-97B3-9FEA366E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EB60-8EBD-4AB7-B186-62932CA99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8CAB-A9B4-43BF-98A9-4CF241FE8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2D42-CAC3-468E-839A-CF48DF4A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A746-6FB0-4DA9-81F1-0E6E085FA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8E26-CBD1-4079-87AA-6F6C04E0A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EBEE-C58D-4765-8612-C24A5289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6437-2A15-44AE-A513-F7671285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75B3-9C82-4C60-B451-C7C67DFF7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3E3D-A709-447B-A363-8A2E0F552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B8D7-47E9-4B19-90BF-531D84188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HIP-HOP FILM STARRED EMINEM, WHO ALSO WON THE OSCAR FOR THE BEST ORIGINAL SONG "LOSE YOURSEL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GUE  OF 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TERNATIONAL ORGANIZATION WAS FORMED IN 1920 TO PREVENT W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Y  P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TTICUS FINCH IN THE FILM "TO KILL A MOCKINGBI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05, WHO BECAME THE SECOND SCIENTIST EVER KNIGHTED BY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ONE  TABL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7004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MEDIUM WERE THE 10 COMMANDMENTS WRIT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5240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MERICAN WORD FOR WHAT THE ENGLISH WOULD CALL A "GARD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BARR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FIRST PERSON TO SUCCESSFULLY GO OVER NIAGARA FALLS I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 WAS THE FIRST NUMBER ONE SINGLE FOR WHAT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TERNATIONAL ORGANIZATION WAS FORMED IN 1920 TO PREVENT W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OF  F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THA FRANKLIN SONG FROM THE ALBUM "LADY SOUL" WON THE 1969 GRAMMY AWARD FOR BEST FEMALE R&amp;B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HIP-HOP FILM STARRED EMINEM, WHO ALSO WON THE OSCAR FOR THE BEST ORIGINAL SONG "LOSE YOURSEL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UNITS  OF 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TTICUS FINCH IN THE FILM "TO KILL A MOCKINGBI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05, WHO BECAME THE SECOND SCIENTIST EVER KNIGHTED BY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MEDIUM WERE THE 10 COMMANDMENTS WRIT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2396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MERICAN WORD FOR WHAT THE ENGLISH WOULD CALL A "GARD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01, ANNIE EDSON TAYLOR BECAME THE FIRST PERSON TO SUCCESSFULLY GO OVER NIAGARA FALLS I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GGIE MAY" WAS THE FIRST NUMBER ONE SINGLE FOR WHAT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THA FRANKLIN SONG FROM THE ALBUM "LADY SOUL" WON THE 1969 GRAMMY AWARD FOR BEST FEMALE R&amp;B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05:02:38Z</dcterms:created>
  <dc:creator>Jennifer Budzinski</dc:creator>
  <dc:description/>
  <dc:language>en-US</dc:language>
  <cp:lastModifiedBy>Erich Friedman</cp:lastModifiedBy>
  <dcterms:modified xsi:type="dcterms:W3CDTF">2020-08-24T12:00:54Z</dcterms:modified>
  <cp:revision>348</cp:revision>
  <dc:subject/>
  <dc:title>Slide 1</dc:title>
</cp:coreProperties>
</file>