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E686-69A5-49D8-ABB1-090AEF5AA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EA8E-79CF-4717-9C87-59A15AC23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00C6-E5E2-4981-8D88-ABA192F03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5234-BF37-40AA-B793-17606D7D5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BB71-4F4F-4DB7-97C1-6F68452CB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2984-4528-426A-BEA8-93A0556C7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E2E4-AA0C-4B7A-B174-FB6616D3A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2D65-1E76-42A1-A615-ED789A2FF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A44B-615F-4B15-B313-4A51C1FDD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C3D0-4A87-4526-8673-AEFE33853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B77B-E494-41CB-8017-3472D15C0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6ED2-1735-400C-9FD4-AE9F7C40D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6AB3-E0A1-4B83-8216-1B90BB315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F37B-0122-4D9A-8C6F-CAD0EF0B1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D819-D308-4F9B-BFEF-1FB028D4B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5661-ED5B-47A7-9D26-D7A30174F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C97F-3659-462D-9B9A-998D4343D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1204-24EA-4F31-9B5F-D7EBF79CE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2393-E134-4786-A59B-28250BA7F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AB10-7FC1-4AAA-BFFD-BFB96BAF7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5AA9-DB73-47E0-865B-0A6E2AF96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076A-C8B6-4875-BAE1-BBF95D389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3944-0343-409B-B27A-35A85A534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RUCE LEE'S NICKNAME AND THE TITLE OF THE FILM ABOUT HIS L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352440" y="4876920"/>
            <a:ext cx="8439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57240" y="762120"/>
            <a:ext cx="7229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TTLE OF BUNKER HILL TOOK PLACE NEARBY WHAT MAJOR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IFOR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47800" y="762120"/>
            <a:ext cx="744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OF THE TEN RICHEST PEOPLE IN THE WORLD LIVE IN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ADELPH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047600" y="762120"/>
            <a:ext cx="7048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WAS THE DECLARATION OF INDEPENDENCE SIG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ALLEST MOUNTAIN   IN NORTH AMERICA IS LOCATED IN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123920" y="762120"/>
            <a:ext cx="6896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FOOD OF ALASKAN BEARS DURING AUGU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ERPILLAR  (CA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057320" y="762120"/>
            <a:ext cx="702936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OCK IN THE DJIA WHOSE TICKER ABBREVIATION   IS AN ENGLISH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028880" y="487692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1733400" y="762120"/>
            <a:ext cx="5677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FA ROMEO MODE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1"/>
          <a:stretch/>
        </p:blipFill>
        <p:spPr>
          <a:xfrm>
            <a:off x="2171880" y="2631960"/>
            <a:ext cx="4800600" cy="22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TTLE OF BUNKER HILL TOOK PLACE NEARBY WHAT MAJOR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BOW  (JOHNS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HARACTER PORTRAYED BY TRACEE ELLIS ROSS ON THE TV SERIES "BLACK-IS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RUCE LEE'S NICKNAME AND THE TITLE OF THE FILM ABOUT HIS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838080" y="487692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SUSHI  RO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OF THE TEN RICHEST PEOPLE IN THE WORLD LIVE IN WHAT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71720" y="762120"/>
            <a:ext cx="7000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WAS THE DECLARATION OF INDEPENDENCE SIG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23760" y="762120"/>
            <a:ext cx="7296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ALLEST MOUNTAIN   IN NORTH AMERICA IS LOCATED IN WHAT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FOOD OF ALASKAN BEARS DURING AUGU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OCK IN THE DJIA WHOSE TICKER ABBREVIATION   IS AN ENGLISH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76280" y="762120"/>
            <a:ext cx="6391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FA ROMEO MODEL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1925640" y="2514600"/>
            <a:ext cx="5291280" cy="24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HARACTER PORTRAYED BY TRACEE ELLIS ROSS ON THE TV SERIES "BLACK-IS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09:45Z</dcterms:modified>
  <cp:revision>437</cp:revision>
  <dc:subject/>
  <dc:title>Slide 1</dc:title>
</cp:coreProperties>
</file>