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425C-2067-4F2D-9BE1-7926AD90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8B2-8289-43C4-8EF8-30261769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A1F-FC5F-4275-98AD-887D6C7B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1AFF-81A3-4412-920B-ABEA220B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27FF-078D-4C85-98B9-E2E4E0C9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BAEF-7E2C-4DE1-AF59-FD19A978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6B27-CD54-489F-B495-A508C618E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1124-DDBD-4815-B503-0ED967BE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DAE6-725E-44ED-BABA-7EBFC90C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90C2-07F1-47BA-81DD-6AE5210E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5D2-A088-46A0-BA67-2E924B42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4D2-4413-412D-B4CE-C872C09E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536-8FA3-4C7E-9E6D-1D19B62C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7C6-8F1D-469C-B3ED-9DC17626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579B-1FD7-48F6-93F8-B40766C0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5E0-A62D-4F1D-A68B-214ECAAC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EBE-AE3E-4A49-9003-C02F685C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7A6-6DB3-4EBF-A4EF-04B92846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396-DDBD-497D-987C-B6F3A666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6C6-8A5F-4539-AA64-8B7BC3E7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1CD-3280-4766-A092-6E0AADB1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7575-26F0-4F4D-AE76-95B0E8A4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0796-81B4-4F8E-87B2-C9222DCBA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23920" y="762120"/>
            <a:ext cx="68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  (C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57320" y="762120"/>
            <a:ext cx="7029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733400" y="762120"/>
            <a:ext cx="56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2171880" y="2631960"/>
            <a:ext cx="480060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USHI  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1720" y="762120"/>
            <a:ext cx="700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6280" y="762120"/>
            <a:ext cx="6391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925640" y="2514600"/>
            <a:ext cx="529128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9:45Z</dcterms:modified>
  <cp:revision>437</cp:revision>
  <dc:subject/>
  <dc:title>Slide 1</dc:title>
</cp:coreProperties>
</file>