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7479-A60A-48C3-944C-4C4F5A9B2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CD0A-4A62-423C-A5BE-83C47D2D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300-C598-4A08-97CB-92AAA55B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85D9-1D64-4E10-A03F-0B878AAE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CD4B-810F-4E17-96B6-86D562DB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1D65-F684-44A7-A1E2-7164B7485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5372-100F-492F-82BE-D2F3AB2B1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9F31-5E86-4E99-900B-A3C1179B8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0FE5-B36F-4499-8582-16A6E8E7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EB14-7AEE-4C1E-A717-7D995B19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5CB-CA5F-4B9E-8BB2-DE0F4F30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0A10-7007-41CF-BBBA-3A16820F9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ED4D-96B0-466D-B0ED-804E0457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49E0-82FE-42E5-AE5B-C4E362CC1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55F3-2F4D-4675-B854-DBB7CBB1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AF9E-9B3B-49AC-ABE9-9DD31823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37CD-4927-49F7-9FEB-6AA477EF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572A-9BDF-443F-A965-4A7E3BE9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28E1-D5C7-4B24-A08E-7DEC98EF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B29E-DA36-4669-B583-B19F7BD81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8A87-9EBF-4A41-8DB8-A3643AC1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D08E-4F5C-4D0C-81E2-04957425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EE8-01A9-4190-8ADD-ABB8E695C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23920" y="762120"/>
            <a:ext cx="68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  (C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57320" y="762120"/>
            <a:ext cx="702936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733400" y="762120"/>
            <a:ext cx="56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1"/>
          <a:stretch/>
        </p:blipFill>
        <p:spPr>
          <a:xfrm>
            <a:off x="2171880" y="2631960"/>
            <a:ext cx="4800600" cy="22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TTLE OF BUNKER HILL TOOK PLACE NEARBY WHAT MAJOR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RUCE LEE'S NICKNAME AND THE TITLE OF THE FILM ABOUT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USHI  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TEN RICHEST PEOPLE IN THE WORLD LIVE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1720" y="762120"/>
            <a:ext cx="700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DECLARATION OF INDEPENDENCE SIG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MOUNTAIN   IN NORTH AMERICA IS LOCAT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OCK IN THE DJIA WHOSE TICKER ABBREVIATION   IS AN ENGLISH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6280" y="762120"/>
            <a:ext cx="6391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FA ROMEO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5" descr=""/>
          <p:cNvPicPr/>
          <p:nvPr/>
        </p:nvPicPr>
        <p:blipFill>
          <a:blip r:embed="rId1"/>
          <a:stretch/>
        </p:blipFill>
        <p:spPr>
          <a:xfrm>
            <a:off x="1925640" y="2514600"/>
            <a:ext cx="5291280" cy="24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 PORTRAYED BY TRACEE ELLIS ROSS ON THE TV SERIES "BLACK-I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9:45Z</dcterms:modified>
  <cp:revision>437</cp:revision>
  <dc:subject/>
  <dc:title>Slide 1</dc:title>
</cp:coreProperties>
</file>