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3DD0-1CAC-4056-9CBA-70FA11BAB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5F5F-332B-4D25-A606-CB11929E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FCCE-BD46-4F14-82F8-F89F17E4E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898C-18C5-498E-A397-2D24CC3AF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2796-B88F-4206-911D-ACAD85782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CD38-CACA-491D-B71C-9813D4CC5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0FA5-9372-4E78-B4BB-021F547DD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1008-6811-4B9E-82C0-C5AB16EA3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04C7-5E34-4B95-B82A-4BC04246C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3AD0-324F-4D94-A677-2A4712C36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2D99-C937-4265-B7A2-A695B94FE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83B5-42EA-4EFE-ABA0-88CFDF54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04A7-6243-4EA4-9D03-30EC11E9E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6A90-9E99-4376-9B5F-6F1CFE3CD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7039-4101-4DC6-BF4B-E72C8E6FF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8EEB-CFD0-44A6-9EEF-6D76A3B68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35FA-D1EE-404B-A94E-54C6ED89A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035F-E347-43B6-96DF-83AA2F972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2A88-2645-4C90-BF2A-9EB91CB5A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A7F8-A0FF-4B31-9B81-E8D31CDE0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4C64-2340-4807-ADDE-3350EA31D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45A-0879-49F7-87E5-14417E5E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BE0B-B0DE-4FF8-9F42-8ECAE6E7E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320" y="9140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5-LETTER TITLE OF THIS DALI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tretch/>
        </p:blipFill>
        <p:spPr>
          <a:xfrm>
            <a:off x="4216320" y="1058760"/>
            <a:ext cx="4419720" cy="33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IGER)  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TOP-RANKED GOLFER FOR MOST OF 1999 TO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CAL DRAMA WAS THE MOST-WATCHED TV PROGRAM IN THE WORLD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LL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"PEOPLE" SANG THE HIT SONG "Y.M.C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ORIOLANUS)  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DONALD SUTHERLAND'S CHARACTER IN "THE HUNGER GAM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03400" y="762120"/>
            <a:ext cx="6933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Q" STAND FOR IN "LGBTQ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73980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FILM FEATURED THE OSCAR-WINNING SONG "LET IT 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EFF)  F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JUNIOR SENATOR FROM ARIZONA WHO DID NOT RUN FOR REELECTION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TOP-RANKED GOLFER FOR MOST OF 1999 TO 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71480" y="725400"/>
            <a:ext cx="7601040" cy="31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RIC CLAPTON SONG BEGINS WITH THE LYRICS   "I DON'T MIND IF YOU NEVER COME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52280" y="939960"/>
            <a:ext cx="381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5-LETTER TITLE OF THIS DALI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4216320" y="1058760"/>
            <a:ext cx="4419720" cy="332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3809880"/>
            <a:ext cx="8839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WORDS  FROM  "STOPPING  BY  WOODS  ON  A  SNOWY  EVENING"  BY  ROBERT  FR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CAL DRAMA WAS THE MOST-WATCHED TV PROGRAM IN THE WORLD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"PEOPLE" SANG THE HIT SONG "Y.M.C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DONALD SUTHERLAND'S CHARACTER IN "THE HUNGER GAM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Q" STAND FOR IN "LGBTQ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FILM FEATURED THE OSCAR-WINNING SONG "LET IT 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JUNIOR SENATOR FROM ARIZONA WHO DID NOT RUN FOR REELECTION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RIC CLAPTON SONG BEGINS WITH THE LYRICS   "I DON'T MIND IF YOU NEVER COME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0:18Z</dcterms:modified>
  <cp:revision>418</cp:revision>
  <dc:subject/>
  <dc:title>Slide 1</dc:title>
</cp:coreProperties>
</file>