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C68F-36C7-4F28-8FF1-C2C7D4A26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5029-8E1B-4158-8F73-C212DD244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3990-4B63-4EFC-8917-2F8B9BE70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E1AF-3B3A-4D24-B8D1-8CABF4F67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9867-7DB1-4226-9DA0-053624426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F402-EF78-4004-822C-9F466BBCD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A254-5846-4BD6-BB5B-1F6C9C764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2D36-9D57-4506-911F-37A3233FD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5F14-90DB-4A89-BE1D-DC97C2F73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FD70-4CE6-4BB2-8467-A9A5E948F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48D8-AE45-4CB1-BF69-132786F94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64F7-0715-4065-8485-92FAA349E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F25A-6B0B-45B3-8852-E58BC3C6F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FA4F-526D-4600-AFBB-2A9758BA1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6239-EA72-4F92-BE60-8553741FA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8F92-9CBA-48D2-BCE0-337711510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23F9-8B23-4C9B-8290-40B2301BE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1DB1-5D69-49E8-B3CB-5B8F4CE68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F244-008C-4A28-B06B-67ED7154E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CA35-5C8B-4569-B27B-0BE38414F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9E8C-EB64-426C-BDDC-4119A5A42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B624-99C3-4123-B3F1-2E6F67C9E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79B2-FBC8-423E-85D4-1DEB59929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320" y="9140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5-LETTER TITLE OF THIS DALI PAIN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4216320" y="1058760"/>
            <a:ext cx="4419720" cy="33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IGER)  W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TOP-RANKED GOLFER FOR MOST OF 1999 TO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CAL DRAMA WAS THE MOST-WATCHED TV PROGRAM IN THE WORLD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LL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"PEOPLE" SANG THE HIT SONG "Y.M.C.A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ORIOLANUS)  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19000" y="762120"/>
            <a:ext cx="750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DONALD SUTHERLAND'S CHARACTER IN "THE HUNGER GAME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103400" y="762120"/>
            <a:ext cx="6933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Q" STAND FOR IN "LGBTQ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5800" y="73980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FILM FEATURED THE OSCAR-WINNING SONG "LET IT 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EFF)  F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JUNIOR SENATOR FROM ARIZONA WHO DID NOT RUN FOR REELECTION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TOP-RANKED GOLFER FOR MOST OF 1999 TO 20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M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71480" y="725400"/>
            <a:ext cx="7601040" cy="31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RIC CLAPTON SONG BEGINS WITH THE LYRICS   "I DON'T MIND IF YOU NEVER COME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52280" y="939960"/>
            <a:ext cx="381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5-LETTER TITLE OF THIS DALI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4216320" y="1058760"/>
            <a:ext cx="4419720" cy="332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2280" y="3809880"/>
            <a:ext cx="8839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WORDS  FROM  "STOPPING  BY  WOODS  ON  A  SNOWY  EVENING"  BY  ROBERT  FR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CAL DRAMA WAS THE MOST-WATCHED TV PROGRAM IN THE WORLD IN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"PEOPLE" SANG THE HIT SONG "Y.M.C.A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DONALD SUTHERLAND'S CHARACTER IN "THE HUNGER GAME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Q" STAND FOR IN "LGBTQ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FILM FEATURED THE OSCAR-WINNING SONG "LET IT 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JUNIOR SENATOR FROM ARIZONA WHO DID NOT RUN FOR REELECTION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RIC CLAPTON SONG BEGINS WITH THE LYRICS   "I DON'T MIND IF YOU NEVER COME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10:18Z</dcterms:modified>
  <cp:revision>418</cp:revision>
  <dc:subject/>
  <dc:title>Slide 1</dc:title>
</cp:coreProperties>
</file>