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737A-536C-4961-A826-F59D7FB79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CBCA-2735-4BE3-8965-6306DC320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535-3647-4A18-8BE0-22686C4A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321E-6E05-440A-A917-9C430B20F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27E1-B255-49DA-88C4-5EDD9ACFE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6651-9420-456F-8046-37ACB0E2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78C7-8F8D-41D1-A1C5-C92867E24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8137-0D07-4CEF-A2FF-7EA9CD33E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546-5512-4996-AC50-49D53811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912A-582A-4FE1-869E-245F60EFD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3334-1050-411E-AE8C-4B2651427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22EA-3AFB-43CA-9A7B-5D27B912C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9C86-86BB-4DFF-A819-825CEFE2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D980-68AA-4F36-A299-B1CB36AC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2987-D1AD-48EF-9261-5910B4B5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9D67-B015-4E81-91F9-F0C675A41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AD2-2E9F-41CD-8912-920EEF0B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E2AE-C3EA-4A3A-A33D-EAAF4E35B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7CED-2496-4D9E-AEB0-C7E54029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0177-4E78-4A81-BE06-E78CB4C9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0455-E6B4-4C7F-B917-91FCB527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6ABE-5AA0-43E6-B998-8DA9F0E6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82DB-0400-4CDE-A93B-9E9DCC9D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320" y="9140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5-LETTER TITLE OF THIS DALI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4216320" y="1058760"/>
            <a:ext cx="4419720" cy="33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GER)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TOP-RANKED GOLFER FOR MOST OF 1999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MOST-WATCHED TV PROGRAM IN THE WORLD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PEOPLE" SANG THE HIT SONG "Y.M.C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ORIOLANUS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DONALD SUTHERLAND'S CHARACTER IN "THE HUNGER GAM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03400" y="762120"/>
            <a:ext cx="6933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Q" STAND FOR IN "LGBT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398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FEATURED THE OSCAR-WINNING SONG "LET IT 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EFF)  F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JUNIOR SENATOR FROM ARIZONA WHO DID NOT RUN FOR REELECTION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TOP-RANKED GOLFER FOR MOST OF 1999 TO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25400"/>
            <a:ext cx="760104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 CLAPTON SONG BEGINS WITH THE LYRICS   "I DON'T MIND IF YOU NEVER COME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52280" y="939960"/>
            <a:ext cx="38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5-LETTER TITLE OF THIS DALI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4216320" y="1058760"/>
            <a:ext cx="441972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38098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WORDS  FROM  "STOPPING  BY  WOODS  ON  A  SNOWY  EVENING"  BY  ROBERT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MOST-WATCHED TV PROGRAM IN THE WORLD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PEOPLE" SANG THE HIT SONG "Y.M.C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DONALD SUTHERLAND'S CHARACTER IN "THE HUNGER GAM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Q" STAND FOR IN "LGBTQ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FEATURED THE OSCAR-WINNING SONG "LET IT 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JUNIOR SENATOR FROM ARIZONA WHO DID NOT RUN FOR REELECTION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 CLAPTON SONG BEGINS WITH THE LYRICS   "I DON'T MIND IF YOU NEVER COME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0:18Z</dcterms:modified>
  <cp:revision>418</cp:revision>
  <dc:subject/>
  <dc:title>Slide 1</dc:title>
</cp:coreProperties>
</file>