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D622-62CC-4FCB-BE47-9CA891ED0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D32-2600-4C6A-BD01-793149548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DE02-49B3-48B6-BA5A-1EC7DC5DF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72E9-81D7-490D-9AF6-567AE0841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04D8-4FE5-4A82-A9EB-DE8D0A5A5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6D3D-4AF2-480B-8380-9AAF02A5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DE9B-616D-479E-896F-7BB1BA868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A663-F599-4253-90CC-4EB31FB8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C6A-64E6-43F5-BD65-11C68842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09A0-F7C7-4A0D-8888-057BAAB98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7BAB-6214-4BDF-8B0F-777643EF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893F-495E-4EEA-9AAD-0A23321AA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C8E9-6DA5-47C3-835C-5DEB25CA5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59AE-4B60-4129-86A9-F89D0348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9998-DADF-4A15-9674-11799652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2F65-7786-4F5E-AC78-1CF9B271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01C3-87E7-4910-8984-3A136145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61B-76D5-41B9-8939-3B9B70F6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ECB0-F98F-4317-9E0C-A081FE6C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4999-946B-4809-970E-FB1B89BF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A3ED-F8DA-4482-B109-ABACE5149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F522-84B2-4C48-8019-91CE5414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8B81-C528-4FEF-87D7-74AEC625A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23960" y="838080"/>
            <a:ext cx="58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#1 SONGS?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ITE R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AN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MB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CK  EYED  P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T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AT  LO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RADISE BY THE DASHBOARD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ÖYSTER  C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' FOR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HOT  CHILI  PE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CATION" AND "DANI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  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61800" y="762120"/>
            <a:ext cx="842040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E IT WITH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MB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BERRY  ALARM 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6800" y="762120"/>
            <a:ext cx="815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CENSE AND PEPPERMIN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ITE RO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TA FEE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8680" y="762120"/>
            <a:ext cx="6686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RADISE BY THE DASHBOARD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' FOR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CATION" AND "DANI CALIFORN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E IT WITH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CENSE AND PEPPERMIN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0:54Z</dcterms:modified>
  <cp:revision>434</cp:revision>
  <dc:subject/>
  <dc:title>Slide 1</dc:title>
</cp:coreProperties>
</file>