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F1D0-6D72-4B3E-B8B2-DDAF6C535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5AAE-7B7E-43B3-98EF-2720A1E84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2BBE-D33E-4AD9-A714-DA88C834A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3352-D451-4974-A2A0-5E0292E4B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92B5-58F0-43A6-AEFE-B1E8F72CB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AB32-174E-4AED-9095-8AE8D081A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AB44-FD7C-4E86-BFB9-2C484DB1B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D877-667D-4DF4-AD35-5958C05B0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68A3-E91B-4AA9-BD88-A1DCD1C38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9528-80AA-4BE6-91F7-91951AE2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9878-5603-4E1E-8753-E9E20AA66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16AD-7672-4BBE-B27E-03F7C3D7E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0D77-F19F-4460-88E7-87115AADC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4983-DE45-4F55-BCAC-7DEFE881E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1753-C827-4DE3-83C6-E55CA20F4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C68E-A575-4638-84F3-62581621B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812A-0EA2-4F9E-9BD9-14EEA5F00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51E9-59C1-4EEF-B15F-8CA969A72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2B2C-96B4-433D-A319-BAFA51912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A56D-CE23-4B57-BE7D-C30D4A58E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A543-D29C-44C0-9264-DED46835C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7EDB-20FE-42C2-9BDA-BAC3692E2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1603-03B3-49D8-979D-495C74F3B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23960" y="838080"/>
            <a:ext cx="58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#1 SONGS?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ITE RO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RANBER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7240" y="762120"/>
            <a:ext cx="72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ZOMB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ACK  EYED  P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7240" y="762120"/>
            <a:ext cx="72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GOTTA FEE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AT  LO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ARADISE BY THE DASHBOARD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  ÖYSTER  C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RNIN' FOR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HOT  CHILI  PE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IFORNICATION" AND "DANI CALIFORN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  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61800" y="762120"/>
            <a:ext cx="842040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VERY MO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KE IT WITH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ZOMB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BERRY  ALARM 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6800" y="762120"/>
            <a:ext cx="815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CENSE AND PEPPERMIN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ITE RO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87692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GOTTA FEE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28680" y="762120"/>
            <a:ext cx="6686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ARADISE BY THE DASHBOARD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RNIN' FOR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IFORNICATION" AND "DANI CALIFORN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VERY MO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KE IT WITH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CENSE AND PEPPERMIN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0:54Z</dcterms:modified>
  <cp:revision>434</cp:revision>
  <dc:subject/>
  <dc:title>Slide 1</dc:title>
</cp:coreProperties>
</file>