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F640-A6C0-4B43-A33D-459784BAC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FD0D-E85C-433D-9559-6C6B3EA85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8013-5DC8-46A4-B04D-8332B66E8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3BD1-5822-4977-AD29-7F246EDBD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8E60-8EE0-4D3D-A2A0-87767A84C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03E7-0929-40CC-96DC-BB3D1C83B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37E1-F585-44AC-84EB-5EC2B3491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61A7-DCE1-4266-BCE1-D7067D74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842B-04C5-489B-8BE0-E325700D0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822F-72D6-441D-88D8-D3543D0FB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C7E3-A26B-40B2-84E8-8662905A5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7111-FB14-40E5-B164-742233439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9A4E-0D9A-44A7-A2A5-1F059FC0D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F2A8-7CED-4730-8E91-567787F36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ACFC-944B-4374-AA33-73847BBAF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F4E1-C4C5-424E-85B8-B302D88A6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26EB-FC38-411A-8893-96593A2EA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D209-DA85-49E3-9FAE-06C86A442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8A40-391E-4E09-8D5E-DF768047A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1808-9EF9-41B2-9C5A-4874B11C0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35D4-2FC3-4B59-A239-368BDEF87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CA68-0731-4227-B4E4-918BDF9BF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DCD5-183B-4706-BD22-959AA42AB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23960" y="838080"/>
            <a:ext cx="58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#1 SONGS?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ITE RO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RANBER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7240" y="762120"/>
            <a:ext cx="72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ZOMB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ACK  EYED  P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7240" y="762120"/>
            <a:ext cx="72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GOTTA FEE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AT  LO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ARADISE BY THE DASHBOARD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  ÖYSTER  C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RNIN' FOR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HOT  CHILI  PE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IFORNICATION" AND "DANI CALIFORN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  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61800" y="762120"/>
            <a:ext cx="842040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VERY MO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KE IT WITH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ZOMB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BERRY  ALARM 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6800" y="762120"/>
            <a:ext cx="815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CENSE AND PEPPERMIN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ITE RO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87692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GOTTA FEE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28680" y="762120"/>
            <a:ext cx="6686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ARADISE BY THE DASHBOARD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RNIN' FOR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IFORNICATION" AND "DANI CALIFORN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VERY MO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KE IT WITH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CENSE AND PEPPERMIN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0:54Z</dcterms:modified>
  <cp:revision>434</cp:revision>
  <dc:subject/>
  <dc:title>Slide 1</dc:title>
</cp:coreProperties>
</file>