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5B9-C4E8-4881-A7A1-EC246F9C7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242-EB9B-44D9-B2CA-16F04F6A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4077-DFE5-4C47-A998-F4C3D2D5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0556-3C72-4AAA-AA89-4CDA35BD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DCD5-AE70-4752-A891-195E02E0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4BA0-42A2-4AAC-8AC9-6D61EA8B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70E-E3D3-49C8-95A0-FD0575F7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F9B6-A214-4CB8-83AD-EA631010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677D-F011-406D-A13B-F4AE4C0C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7A6-FAFC-4236-B744-EE57EA94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E4C5-89EF-441F-9F57-3B75A91F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47D-D41B-47CF-AFDD-8D111C5F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B1D-E83B-458E-AECC-69454E59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B32-2EC3-4C15-867B-EB5E7443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8F7-133A-4846-83C4-BC201E22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7A8-505C-4BAE-AAAF-0E5EB03C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B3BF-B9EC-48C9-8A3C-2CD42594C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2F41-E5C7-4F72-B5A4-48A544E3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2A6-5C04-46F5-BB6A-EFC4F8B6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3EC-E289-4DDF-B66D-66E99509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2AD3-2568-4213-97FC-2D34B249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274-12BA-4A1A-8C98-0BCFAC13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3C0-6FBF-4457-9402-0B54CEA9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35304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5960" y="762120"/>
            <a:ext cx="737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66560" y="762120"/>
            <a:ext cx="8210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  (PETER  O'TOO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14440" y="762120"/>
            <a:ext cx="81151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(S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533680"/>
            <a:ext cx="30477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38360" y="4343400"/>
            <a:ext cx="5867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BO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1:27Z</dcterms:modified>
  <cp:revision>427</cp:revision>
  <dc:subject/>
  <dc:title>Slide 1</dc:title>
</cp:coreProperties>
</file>