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67A-BDEA-440C-A6AB-6DF9ED14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97C3-F954-4048-83B4-ABA6CD7B7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2E7-F044-43CF-AB91-9E187651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37D-C0B0-4FBC-819F-F74CDE52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E114-17CD-4B5B-91E1-8D5155FE0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8613-188E-43F5-8940-FE974BAF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4C14-6066-4F7F-9C7C-9B9500EC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3D9-0B64-4B19-9FE2-E59552FB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4556-EB09-466F-9BD2-53B638F7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423F-AB48-4F7F-844D-2789B4C1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BF0E-13C3-40A2-A919-F5F8019C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5DC-72E8-4203-9246-90B0EBDB9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524A-59F7-4E97-ABA5-9EF51170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F6E3-A460-4E20-AA11-EAA938D0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C8D-6693-4BC8-94B6-EB57FD50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54D-B761-4C71-A0B6-3F13EC61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8700-8FE9-4441-8E41-D1B38AAC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D67C-C489-43FA-A9B3-C2A27E06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E01-E171-491E-ACC7-C1E300C9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6D0-3627-4C9E-9582-AD719C3B5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EDC4-39E2-40CD-A7C4-D043D0CF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8846-72A5-4FB6-9BC4-300C7796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6CB-F910-4347-82EA-F081F57C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35304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5960" y="762120"/>
            <a:ext cx="737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66560" y="762120"/>
            <a:ext cx="8210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  (PETER  O'TOO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14440" y="762120"/>
            <a:ext cx="81151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(S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533680"/>
            <a:ext cx="30477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38360" y="4343400"/>
            <a:ext cx="5867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BO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1:27Z</dcterms:modified>
  <cp:revision>427</cp:revision>
  <dc:subject/>
  <dc:title>Slide 1</dc:title>
</cp:coreProperties>
</file>