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527E-B514-4B68-9989-906C96DF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4C40-36ED-4496-B42E-85A217854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5F98-133D-4F97-829A-0A992D28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609C-010E-49E9-A89F-D6A1A341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5EA3-1831-4AF5-AF46-D5D3A9EC0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038-93EB-410D-9C22-16CE9F97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6AFF-405C-4DBE-90AE-C062D3ED7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349C-A9B5-4177-B83F-E0BF574A8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F2A0-1A81-46EE-9216-2E112C03B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7884-C2D6-4CDA-B167-96EC18392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48B2-0A10-41BD-8114-0D8DEE9DB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7CD75-4959-4292-BE90-1A98D5AA3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DFE5-D86B-4AFF-B641-3C83050B7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100B-B8B6-4A86-B8EA-E9D54D46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B819-BFC8-4434-A18B-B19E4A02A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D31E-0616-4F95-B309-588276AF0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1F72-3C44-401C-B7E2-0BC9268E9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0D1E-1661-4397-9E4A-AE390947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ACBE-992E-4E14-9227-294FAAF6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C4EE-975F-44AB-978B-85FEDFCE4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E856-628F-4201-97C9-45624CAA9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6088-6543-41CD-9B5D-E37BE4DC8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4D24-BB53-4FEE-9018-C87AFBBC7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353040" cy="24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5960" y="762120"/>
            <a:ext cx="7372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66560" y="762120"/>
            <a:ext cx="8210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  (PETER  O'TOO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14440" y="762120"/>
            <a:ext cx="8115120" cy="31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OST KEYBOARDS, WHAT KEY IS BETWEEN "INSERT" AND "PAGE 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71480" y="762120"/>
            <a:ext cx="76010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(ST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P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533680"/>
            <a:ext cx="3047760" cy="22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38360" y="4343400"/>
            <a:ext cx="5867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BO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MALE CAT THAT CAN STILL BREE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2680" y="762120"/>
            <a:ext cx="8378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LL IS MORE COMMON IN MLB: BALL OR STR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NUMEROUS RUMI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ACADEMIC CONFERENCES, ONE CAN PRESENT ONE'S RESEARCH BY EITHER A TALK OR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ONLY ACTOR NOMINATED FOR BEST ACTOR 7 TIMES WITHOUT A W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38280" y="762120"/>
            <a:ext cx="786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ENTRE" IS THE ARENA FOR THE MONTREAL CANADIENS, AND THE LARGEST NHL STADI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UBLIC TRANSPORTATION SERVICE IN HONOLULU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1:27Z</dcterms:modified>
  <cp:revision>427</cp:revision>
  <dc:subject/>
  <dc:title>Slide 1</dc:title>
</cp:coreProperties>
</file>