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B370-AA56-4D09-A8CC-5485F7C17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E1FE-B5C0-4CE5-B828-BF20624C9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6D52-AA79-432F-A8E6-72F3845B3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90C7-37DD-4277-82A2-35E3A6D0E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C1D3-1CC9-4899-BC09-7BC0B0A9A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3ABA-345B-4D61-85A6-379B4B2AE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08ED-BF9B-4DA1-A468-DA3FD750F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58B9-2443-4C46-8B84-4EBC7ACFD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4F34-49EA-4AA9-92D6-99FB558F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ACF5-AA66-45EB-85A3-6E46D986F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FA42-045D-4B74-837F-6196D6B33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CB95-80B5-441E-A22F-E16B689A9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2351-8686-4A00-A986-1D43D0F0F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D814-B2F5-4847-82A6-1446070B6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C2CF-B70B-47F2-B0EB-90D98B629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E05F-0743-4D65-9B5E-75387543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2070-75EE-46CB-B0D1-4ACD8D979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C0C7-0333-4AA7-943C-1A0D02800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8DDE-643D-40B0-9CD3-7346D909C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E600-B87B-4AB0-840A-650928EE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3D82-3688-4F84-9853-1B5FF382F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8E67-E9CA-4304-856D-841C0972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7373-2B25-4232-8802-8C68C1B2D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BLOID HAD THE HIGHEST CIRCULATION OF ANY DAILY NEWSPAPER IN THE U.K. UNTIL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7240" y="762120"/>
            <a:ext cx="72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YSTEM IN ORLAND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WAS PAUL MCCARTNEY IN 1971-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19000" y="762120"/>
            <a:ext cx="7506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LANET IN OUR SOLAR SYSTEM, NOW THAT PLUTO HAS BEEN DEMOTED TO A DWARF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WAS FORMERLY KNOWN AS LYNCHBURG BAPTIST COLLE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85760" y="762120"/>
            <a:ext cx="6972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OLF, WHAT IS A 3-LETTER SLANG TERM FOR A HOLE-IN-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61800" y="762120"/>
            <a:ext cx="842040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X-MEN CAN CONTROL THE WE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IGINALLY RECORDED  BY LITTLE WILLIE JOHN, WHAT BECAME PEGGY LEE'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YSTEM IN ORLANDO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7240" y="762120"/>
            <a:ext cx="7769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MALT BEVERAGE / ENERGY DRINK IS SOLD IN CANS LABELED WITH + AND – AT THE ENDS, RESEMBLING A BATT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BLOID HAD THE HIGHEST CIRCULATION OF ANY DAILY NEWSPAPER IN THE U.K. UNTIL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87692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WNBA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WAS PAUL MCCARTNEY IN 1971-19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80920" y="762120"/>
            <a:ext cx="738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LANET IN OUR SOLAR SYSTEM, NOW THAT PLUTO HAS BEEN DEMOTED TO A DWARF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WAS FORMERLY KNOWN AS LYNCHBURG BAPTIST COLLE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23920" y="762120"/>
            <a:ext cx="6896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OLF, WHAT IS A 3-LETTER SLANG TERM FOR A HOLE-IN-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X-MEN CAN CONTROL THE WEA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IGINALLY RECORDED  BY LITTLE WILLIE JOHN, WHAT BECAME PEGGY LEE'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MALT BEVERAGE / ENERGY DRINK IS SOLD IN CANS LABELED WITH + AND – AT THE ENDS, RESEMBLING A BATTE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2:05Z</dcterms:modified>
  <cp:revision>434</cp:revision>
  <dc:subject/>
  <dc:title>Slide 1</dc:title>
</cp:coreProperties>
</file>