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20E-F9C9-444C-B9CF-AFC99DA3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9609-5710-422B-B3D9-9E2C1106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CCFC-E4B1-43A1-8C55-526EC09B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AED-2B0E-42E0-88EA-E39DB1BE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BBC3-C915-405F-A1F9-FC6ED920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9ED-BC70-4A74-91F3-9D807EE2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37E-D60A-40F0-AE0A-FBA8805A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118-DA1C-4191-A9F8-2A9E6A31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59A-2FD7-4118-86C1-A32A2CE7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277-639D-4B5E-92D5-8EBCCBA9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A94-01D5-4C80-A5AB-2B7A1185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0D4-26B7-4C69-AD12-6EA7E4E88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136-A2F4-4F2B-9503-D9238C2C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D97-78D0-4F03-B005-FFCE0F27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E66-5462-49CD-AF34-52CFFAA4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D87C-A591-450A-A215-1A9B7931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57EE-A313-4FEA-90CA-DA66A9D04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7A3-3363-46B1-8C4A-4EA4A39E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B559-849D-4E10-901C-85D0EA79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618-E549-4685-9A54-37CF677F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3873-A8D0-4034-B2A7-FAE80114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515F-2E4A-41B9-BA4C-29BEF426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63BD-0BC6-4CA5-B2B8-DEC5BC00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62120"/>
            <a:ext cx="738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05Z</dcterms:modified>
  <cp:revision>434</cp:revision>
  <dc:subject/>
  <dc:title>Slide 1</dc:title>
</cp:coreProperties>
</file>