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D321-F9E8-4092-9C8C-5A7014FDE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5E10-52E7-4A58-9C55-82BCCC23C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1BF3-2F81-4528-8169-BC25FD037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9580-9E6E-43BD-A5C9-2B3AC003F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A404-E0A9-4D47-8D78-31F58AD1E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C78C-69FF-4AB3-830F-E41ACFF34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F4BF-8C19-4157-82CA-5DA4E9F33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3B7B-207F-4619-82F9-3810F6E86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1AB6-DCF6-434C-8E29-5C8662740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936C-67A5-41AF-8C7D-C19879CEB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23A8-9675-4974-9002-11AAB4973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ACDB-85B5-40BB-BE95-493C45316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A941-3104-42CB-8EC7-D9D0A8424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8BD4-08FD-4BBB-9195-06B9154D0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DCD7-28AA-4C96-96E1-449E99EA0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E4FE-BDB0-4227-9F4A-95699C7F3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091F-1008-4791-B884-4B714BC2D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3148-BA53-4FEA-A21C-A6F7FFD35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115C-E283-4576-87AA-ACC09A954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DA3A-18D6-4C60-9D2A-6F3F8D101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6E18-65A9-4757-91DB-0237BAA24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2FFE-1697-4ABE-9F36-CA1007CE5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F889-CB5C-4A77-89BF-6D7D14B6E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BLOID HAD THE HIGHEST CIRCULATION OF ANY DAILY NEWSPAPER IN THE U.K. UNTIL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352440" y="4876920"/>
            <a:ext cx="8439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YN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57240" y="762120"/>
            <a:ext cx="7229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US SYSTEM IN ORLANDO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47800" y="762120"/>
            <a:ext cx="7448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WAS PAUL MCCARTNEY IN 1971-198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19000" y="762120"/>
            <a:ext cx="7506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MALLEST PLANET IN OUR SOLAR SYSTEM, NOW THAT PLUTO HAS BEEN DEMOTED TO A DWARF PLAN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B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VERSITY WAS FORMERLY KNOWN AS LYNCHBURG BAPTIST COLLE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85760" y="762120"/>
            <a:ext cx="6972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OLF, WHAT IS A 3-LETTER SLANG TERM FOR A HOLE-IN-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61800" y="762120"/>
            <a:ext cx="842040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THE X-MEN CAN CONTROL THE WEA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028880" y="487692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IGINALLY RECORDED  BY LITTLE WILLIE JOHN, WHAT BECAME PEGGY LEE'S SIGNATURE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US SYSTEM IN ORLANDO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7240" y="762120"/>
            <a:ext cx="7769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OF MALT BEVERAGE / ENERGY DRINK IS SOLD IN CANS LABELED WITH + AND – AT THE ENDS, RESEMBLING A BATTE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BLOID HAD THE HIGHEST CIRCULATION OF ANY DAILY NEWSPAPER IN THE U.K. UNTIL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38080" y="4876920"/>
            <a:ext cx="7467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WNBA  T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WAS PAUL MCCARTNEY IN 1971-198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80920" y="762120"/>
            <a:ext cx="7382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MALLEST PLANET IN OUR SOLAR SYSTEM, NOW THAT PLUTO HAS BEEN DEMOTED TO A DWARF PLAN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VERSITY WAS FORMERLY KNOWN AS LYNCHBURG BAPTIST COLLE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23920" y="762120"/>
            <a:ext cx="6896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OLF, WHAT IS A 3-LETTER SLANG TERM FOR A HOLE-IN-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THE X-MEN CAN CONTROL THE WEA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00080" y="762120"/>
            <a:ext cx="7143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IGINALLY RECORDED  BY LITTLE WILLIE JOHN, WHAT BECAME PEGGY LEE'S SIGNATURE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14440" y="762120"/>
            <a:ext cx="8115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OF MALT BEVERAGE / ENERGY DRINK IS SOLD IN CANS LABELED WITH + AND – AT THE ENDS, RESEMBLING A BATTE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4T23:00:16Z</dcterms:created>
  <dc:creator>Jennifer Budzinski</dc:creator>
  <dc:description/>
  <dc:language>en-US</dc:language>
  <cp:lastModifiedBy>Erich Friedman</cp:lastModifiedBy>
  <dcterms:modified xsi:type="dcterms:W3CDTF">2020-08-28T12:12:05Z</dcterms:modified>
  <cp:revision>434</cp:revision>
  <dc:subject/>
  <dc:title>Slide 1</dc:title>
</cp:coreProperties>
</file>