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E771-49F8-4FAE-B148-6C391FC7C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6733-1940-499A-9A18-A1F02E7AB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9B9E-9198-4E60-818F-00E5C0D1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C29E-2FCC-48A7-A939-9AC96C77A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9261-CB29-4EED-B997-5E46C07B7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5D0F-04E2-4F7C-8B9F-9454490F7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D79E-6BAF-475B-8D35-7B5648A16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CA1E2-2FB4-4B53-AEA7-C180DB723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56E3-E9CB-4318-A634-4E55E0B19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9D88-7427-47D5-935B-810434C84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B25B-8D5B-4733-BF8B-D067FFFE8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A02-E0BB-46E0-9472-2E4D33E6F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5E8A-35D4-4834-AD25-04BE34094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DF85-F42D-4AAB-B983-4783CCE13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8F45-BDD2-447C-A118-6F865932D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A6C9-FD6A-4EBC-B590-A6027C98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CA77-C5EA-4301-877E-5E5093132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D681-9027-4648-836E-5893BBD2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79F8-3CD7-4482-82F7-C95D8193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620F-56E4-4CFC-8A4D-7866CEA96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3A67-7586-48FE-90F5-28A3A5BA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CBFA-A03D-4C2A-9348-993829D72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B794-DB5E-4ECA-843F-6C7D8D519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CALLED "THE HOME JOURN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EST  SHOW  ON 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AIRPORT IN CHICAGO, AFTER O'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B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95320" y="762120"/>
            <a:ext cx="73533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RIZONA TOWN DID THE GUNFIGHT AT THE O.K. CORRAL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LL  OF  THE  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JACK LONDON'S BEST KNOWN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ROW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DIUM DO THE KANSAS CITY CHIEF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 – MINUTE  W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49160"/>
            <a:ext cx="72388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 THE END OF EACH HALF OF PLAY IN THE NFL, WHAT AUTOMATIC TIMEOUT TAKES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N  COMMAND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DECALOGUE MORE COMMONLY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TTO OF THE RINGLING BROS. AND BARNUM &amp; BAILEY CIRC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ED  S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00040" y="762120"/>
            <a:ext cx="814392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UNDER THE "V" IN THE SPORTS LOGO OF THE UNIVERSITY OF VIRGI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N  &amp;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CALLED "THE HOME JOURN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280" y="4876920"/>
            <a:ext cx="8839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TON  HEST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AIRPORT IN CHICAGO, AFTER O'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47800" y="762120"/>
            <a:ext cx="7448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ARIZONA TOWN DID THE GUNFIGHT AT THE O.K. CORRAL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JACK LONDON'S BEST KNOWN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DIUM DO THE KANSAS CITY CHIEF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AR THE END OF EACH HALF OF PLAY IN THE NFL, WHAT AUTOMATIC TIMEOUT TAKES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DECALOGUE MORE COMMONLY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UNDER THE "V" IN THE SPORTS LOGO OF THE UNIVERSITY OF VIRGI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12:49Z</dcterms:modified>
  <cp:revision>423</cp:revision>
  <dc:subject/>
  <dc:title>Slide 1</dc:title>
</cp:coreProperties>
</file>