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3F63E-F5E0-44DB-AA1A-B98E0320B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E7E4C-6692-4AB8-A9C6-E63D18010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5B531-7E7F-4025-A925-7BAE8344D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D8988-393F-4AA0-9FA9-B9A1DE03C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2DF5-72A2-43A1-97FC-24699A177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3BAE-3111-411C-9BDE-A276E531B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28A1-B835-4BD9-AEE2-65BBEFF08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38A49-47B9-4CDD-951D-59B9884D2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AC070-AA7A-4DAE-8DCC-3E4C0405D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DC9E-55B4-4572-BB12-5F29B73C3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3D3CB-78D3-47A9-BFB7-B20544539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96914-E869-4A57-933C-A7B2E6A60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9F3F-4F23-410B-8197-135EDD550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F962-16F8-4673-B006-A11191AA3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8E990-0F53-43FB-8BE8-42A014F41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42B8C-CD63-4A9F-A6D2-E9D1E3AE1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B53F8-7099-430D-9953-A3AC30E5E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C9E46-CE29-428F-A342-DEC9A8F3E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4676-B81D-4556-85A1-611D16B70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179A0-7AF6-4071-80AA-608953BFF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344FF-37A0-4D42-BB4B-5098C369C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C0AB1-ADB0-4FB0-BF0B-E8E4374CB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5267A-518E-4170-A27B-65E54FA65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LDEST CONTINUALLY PUBLISHED GENERAL INTEREST MAGAZINE IN THE U.S., FORMERLY CALLED "THE HOME JOURNA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352440" y="4876920"/>
            <a:ext cx="84391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REATEST  SHOW  ON   EAR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19200" y="762120"/>
            <a:ext cx="7905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OTTO OF THE RINGLING BROS. AND BARNUM &amp; BAILEY CIRCU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D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33480" y="762120"/>
            <a:ext cx="7277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 LARGEST AIRPORT IN CHICAGO, AFTER O'HA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BST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95320" y="762120"/>
            <a:ext cx="73533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ARIZONA TOWN DID THE GUNFIGHT AT THE O.K. CORRAL TAKE PLA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CALL  OF  THE  WI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19000" y="762120"/>
            <a:ext cx="7506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JACK LONDON'S BEST KNOWN NOV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ROWH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43040" y="762120"/>
            <a:ext cx="7657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TADIUM DO THE KANSAS CITY CHIEFS PL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WO – MINUTE  W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52560" y="749160"/>
            <a:ext cx="7238880" cy="31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AR THE END OF EACH HALF OF PLAY IN THE NFL, WHAT AUTOMATIC TIMEOUT TAKES PLA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028880" y="4876920"/>
            <a:ext cx="7086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TEN  COMMAND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19040" y="762120"/>
            <a:ext cx="8305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DECALOGUE MORE COMMONLY KNOWN 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OTTO OF THE RINGLING BROS. AND BARNUM &amp; BAILEY CIRCU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609480" y="4876920"/>
            <a:ext cx="7925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OSSED  SW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00040" y="762120"/>
            <a:ext cx="8143920" cy="31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PPEARS UNDER THE "V" IN THE SPORTS LOGO OF THE UNIVERSITY OF VIRGIN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WN  &amp;  COU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228600" y="762120"/>
            <a:ext cx="8686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LDEST CONTINUALLY PUBLISHED GENERAL INTEREST MAGAZINE IN THE U.S., FORMERLY CALLED "THE HOME JOURNA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52280" y="4876920"/>
            <a:ext cx="8839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TON  HESTON  FIL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 LARGEST AIRPORT IN CHICAGO, AFTER O'HA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47800" y="762120"/>
            <a:ext cx="7448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ARIZONA TOWN DID THE GUNFIGHT AT THE O.K. CORRAL TAKE PLA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JACK LONDON'S BEST KNOWN NOV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TADIUM DO THE KANSAS CITY CHIEFS PL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AR THE END OF EACH HALF OF PLAY IN THE NFL, WHAT AUTOMATIC TIMEOUT TAKES PLA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DECALOGUE MORE COMMONLY KNOWN 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PPEARS UNDER THE "V" IN THE SPORTS LOGO OF THE UNIVERSITY OF VIRGIN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4T23:00:16Z</dcterms:created>
  <dc:creator>Jennifer Budzinski</dc:creator>
  <dc:description/>
  <dc:language>en-US</dc:language>
  <cp:lastModifiedBy>Erich Friedman</cp:lastModifiedBy>
  <dcterms:modified xsi:type="dcterms:W3CDTF">2020-08-28T12:12:49Z</dcterms:modified>
  <cp:revision>423</cp:revision>
  <dc:subject/>
  <dc:title>Slide 1</dc:title>
</cp:coreProperties>
</file>