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B81-4F32-4D0B-AFF2-D176BB05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343A-6844-4A60-B781-757F3D4A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11D-5E0C-42B0-8BE7-A68FC55D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2BD9-5EF1-403B-99BD-4F7FC2699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420-6CA3-4C94-A45B-3721DDD3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EDEA-3086-44EA-9A58-F892849F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5157-3349-4544-BC16-BDFB26FE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F9F8-9888-44CA-A0C0-55FFEC99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D617-DE9C-45F0-9934-C653C3BC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1A59-A439-499D-A327-82E48DBD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5F2F-7F13-4CE3-94C4-7D17F65D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382-39ED-49F4-BC22-5DFEBBDC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1ED-3E00-41B7-A464-D957C7C2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94FD-1691-40DD-AA11-71B69A7E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554-D818-437D-ADCC-92F2D081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C3D6-DB6F-423C-AB40-A6C7E7F9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9357-0E20-4A97-A3CA-B54CAE57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4395-8DB9-47C6-B867-4E8CBD84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612-627B-400F-A44C-015D2916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E763-7674-4E44-A35C-997D274C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01D-F529-4F9F-A73A-96561DDA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0390-5857-496A-B4FE-26A79F30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19E8-B475-4AC6-98E2-C009225A2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LL  OF  THE  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– MINUTE  W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N  COMMA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ED  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00040" y="762120"/>
            <a:ext cx="814392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7800" y="762120"/>
            <a:ext cx="7448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49Z</dcterms:modified>
  <cp:revision>423</cp:revision>
  <dc:subject/>
  <dc:title>Slide 1</dc:title>
</cp:coreProperties>
</file>