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59002-A207-4711-9ECC-AC8F842A0D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FF256-4346-4D8D-97EB-A94F523930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5CC52-9C73-4A0A-B42E-6CDD58F574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06CBD-DAA0-4EF6-8AD7-3A4975997B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F9863-6E3B-47B5-B62A-BBB859276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55E30-E20F-4E53-BB01-F5826AC307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185F6-3A3C-4AB6-954B-D5A98397A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8BF79-F6AE-4F81-82FE-B78E95DB7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58BAF-D20D-430D-AD9E-16458C7AD9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3629D-B29E-4FDE-9539-3C974D8789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05808-FC88-44F4-805A-BB97476009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C5BAF-586B-40FF-B65D-359ED24428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C622F-81D6-446B-9981-FCF9A9973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C7061-9A2D-4FF3-886D-0153DFE847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34585-918E-4E4F-8923-B98A8B2BA9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542EF-6AE7-487E-8F3C-4642A7615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3263F-A339-46D3-BA55-20BB226650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70227-85CD-4643-A97A-12228D5AB0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F4ED4-1E26-4086-A8C5-99E514626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BAF59-FBC8-4DDC-95BE-DBB176B98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1CD13-9436-44FE-A5CA-F23F1F9F6E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6CFE4-0F31-4E1C-8C8B-85A5CEF32A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E7B65-53EF-4B2D-9975-195457D17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LM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41 FILM STARRED JACK BENNY IN DRA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FILM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THER'S 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90720" y="762120"/>
            <a:ext cx="7162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6 ROMANTIC COMEDY FILM STARED JENNIFER ANISTON, KATE HUDSON, JULIA ROBERTS, AND JASON SUDEIK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GOOD  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3 PSYCHOLOGICAL THRILLER FILM STARRING MACAULAY CULKIN AND ELIJAH WOOD HAD TAG LINE "EVIL HAS MANY FAC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NCLE  DR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38080" y="762120"/>
            <a:ext cx="74678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8 COMEDY FILM ABOUT REUNITING A STREET BASKETBALL SQUAD STARS SEVERAL EX-NBA PLAY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STER  A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14400" y="76680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2 FILM STARRED WHOOPI GOLDBERG AS A NUN IN THE WITNESS PROTECTION PROGRAM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AL  MINER'S  DAUGH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WHAT 1980 MUSICAL FILM DID SISSY SPACEK WIN HER BEST ACTRESS OSC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THER  OF  THE  BR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71680" y="76212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1 COMEDY STARRING STEVE MARTIN AND DIANE KEATON REMADE A 1950 FILM STARRING SPENCER TRACY AND ELIZABETH TAYL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Y  COUSIN  VIN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76240" y="762120"/>
            <a:ext cx="73915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2 COURTROOM COMEDY FILM STARRED JOE PESCI AND MARISA TOME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6 ROMANTIC COMEDY FILM STARED JENNIFER ANISTON, KATE HUDSON, JULIA ROBERTS, AND JASON SUDEIK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  BROTHER,  WHERE  ART  THOU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0 CRIME COMEDY MUSICAL FILM SET IN 1937 STARRED GEORGE CLOONEY AND JOHN TURTURR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RLEY'S  AU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23960" y="762120"/>
            <a:ext cx="7696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41 FILM STARRED JACK BENNY IN DRA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609480" y="4876920"/>
            <a:ext cx="7925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NAMES  OF  RELA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FILM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3 PSYCHOLOGICAL THRILLER FILM STARRING MACAULAY CULKIN AND ELIJAH WOOD HAD TAG LINE "EVIL HAS MANY FAC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66680" y="762120"/>
            <a:ext cx="70106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8 COMEDY FILM ABOUT REUNITING A STREET BASKETBALL SQUAD STARS SEVERAL EX-NBA PLAY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2 FILM STARRED WHOOPI GOLDBERG AS A NUN IN THE WITNESS PROTECTION PROGRAM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WHAT 1980 MUSICAL FILM DID SISSY SPACEK WIN HER BEST ACTRESS OSC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1 COMEDY STARRING STEVE MARTIN AND DIANE KEATON REMADE A 1950 FILM STARRING SPENCER TRACY AND ELIZABETH TAYL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2 COURTROOM COMEDY FILM STARRED JOE PESCI AND MARISA TOME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0 CRIME COMEDY MUSICAL FILM SET IN 1937 STARRED GEORGE CLOONEY AND JOHN TURTURR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0T17:58:42Z</dcterms:created>
  <dc:creator>Jennifer Budzinski</dc:creator>
  <dc:description/>
  <dc:language>en-US</dc:language>
  <cp:lastModifiedBy>Erich Friedman</cp:lastModifiedBy>
  <dcterms:modified xsi:type="dcterms:W3CDTF">2020-08-28T14:31:33Z</dcterms:modified>
  <cp:revision>416</cp:revision>
  <dc:subject/>
  <dc:title>Slide 1</dc:title>
</cp:coreProperties>
</file>