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3E42-B27E-41C9-B956-3DC011015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83F5-5933-4256-B3C5-4683A7040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2AC71-D89D-4DB2-8481-460B1D835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9A56-4398-4F1B-8254-A29AF4F8C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D097-2030-416D-865C-914B8871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DC35-EBFC-4F0F-B454-2C308B358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A8D8-A43C-4536-9237-C100300A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0062-B972-487B-BAF5-5B049FF89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8F5B-2B9B-4B09-841D-6E645CF02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EED9-2BE0-499F-AE72-1047D31C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405E-E518-48FD-929A-A62564F6E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D6BC-F864-43AD-9DDD-095E7BFED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35FF-3DE7-439C-A148-667584790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2E64-FEFE-46E7-AB04-0B2462E4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FD45-56CA-46E8-98D1-66DF38424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F4FF-69D2-4709-A008-1266CC7F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D3CC-B58A-40F2-A649-E00BA960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053D-0D4B-48A9-A33F-6938EBACF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1886-5616-433A-98D9-B8A0A5E5B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7920-BEC6-4B29-8E60-89FCF1F7B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5284-8B00-40A4-9771-DC56666DA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BC3A-1D38-484C-8360-941F6EE63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0937-9B30-4A9C-BA4C-09CDA176B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STARRED JACK BENNY IN DR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HER'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ROMANTIC COMEDY FILM STARED JENNIFER ANISTON, KATE HUDSON, JULIA ROBERTS, AND JASON SUDEIK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OD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SYCHOLOGICAL THRILLER FILM STARRING MACAULAY CULKIN AND ELIJAH WOOD HAD TAG LINE "EVIL HAS MANY FA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CLE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COMEDY FILM ABOUT REUNITING A STREET BASKETBALL SQUAD STARS SEVERAL EX-NBA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STER 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680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HOOPI GOLDBERG AS A NUN IN THE WITNESS PROTECTION PROGRAM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AL  MINER'S 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80 MUSICAL FILM DID SISSY SPACEK WIN HER BEST ACTRESS O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OMEDY STARRING STEVE MARTIN AND DIANE KEATON REMADE A 1950 FILM STARRING SPENCER TRACY AND ELIZABETH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COUSIN  VI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COURTROOM COMEDY FILM STARRED JOE PESCI AND MARISA TOME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ROMANTIC COMEDY FILM STARED JENNIFER ANISTON, KATE HUDSON, JULIA ROBERTS, AND JASON SUDEIK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  BROTHER,  WHERE  ART  TH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RIME COMEDY MUSICAL FILM SET IN 1937 STARRED GEORGE CLOONEY AND JOHN TURTUR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'S  A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STARRED JACK BENNY IN DR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REL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FILM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PSYCHOLOGICAL THRILLER FILM STARRING MACAULAY CULKIN AND ELIJAH WOOD HAD TAG LINE "EVIL HAS MANY FA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COMEDY FILM ABOUT REUNITING A STREET BASKETBALL SQUAD STARS SEVERAL EX-NBA PLAY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WHOOPI GOLDBERG AS A NUN IN THE WITNESS PROTECTION PROGR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80 MUSICAL FILM DID SISSY SPACEK WIN HER BEST ACTRESS O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COMEDY STARRING STEVE MARTIN AND DIANE KEATON REMADE A 1950 FILM STARRING SPENCER TRACY AND ELIZABETH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COURTROOM COMEDY FILM STARRED JOE PESCI AND MARISA TOME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CRIME COMEDY MUSICAL FILM SET IN 1937 STARRED GEORGE CLOONEY AND JOHN TURTUR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7:58:42Z</dcterms:created>
  <dc:creator>Jennifer Budzinski</dc:creator>
  <dc:description/>
  <dc:language>en-US</dc:language>
  <cp:lastModifiedBy>Erich Friedman</cp:lastModifiedBy>
  <dcterms:modified xsi:type="dcterms:W3CDTF">2020-08-28T14:31:33Z</dcterms:modified>
  <cp:revision>416</cp:revision>
  <dc:subject/>
  <dc:title>Slide 1</dc:title>
</cp:coreProperties>
</file>