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6D29-E94B-481D-B489-BB2EF6ADE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FCF7-8B1F-494A-8C45-0B9F99B9B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BA71-AEFE-48CD-963C-8C6AFE67D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1F04-57EA-4D64-AF27-597F0F53D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2190-AA6D-4313-ACD7-4646CBABC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650F-1271-41A6-9713-E65CB19CC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DE0B-030B-4978-A878-34E6780C6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4367-B4B7-4F05-8343-34BDCFD58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D034-9147-4D2F-A92E-B61B80E5B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2E06-D1CD-413F-8267-8EAB4AC24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E3C0-6C23-4A0C-83F9-F4523EC51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B426-1AFE-46AB-8AF7-94684A99A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A89C-565D-47C4-A690-72FC114A6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40E8-71B3-4A50-9262-3F7029E4E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6F44-8771-4DAD-895A-FEF36D6B5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BBE7-ADFD-4225-9FD0-C3E4FEA02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8AFD-FAE0-47CA-8946-7902E19AA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1D93-2556-4299-B18F-3F30CDE27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7DE4-28EA-4DF3-96D5-B86A7DFD0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8940-6CFC-4F95-AD0E-CA6B34F2F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7E61-208E-4CD0-88EC-57501D454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2781-B24C-4DC6-8A7C-868DBC4C0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FCB2-C85C-4716-B331-1FEDB4FD8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1 FILM STARRED JACK BENNY IN DRA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THER'S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ROMANTIC COMEDY FILM STARED JENNIFER ANISTON, KATE HUDSON, JULIA ROBERTS, AND JASON SUDEIK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OOD  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PSYCHOLOGICAL THRILLER FILM STARRING MACAULAY CULKIN AND ELIJAH WOOD HAD TAG LINE "EVIL HAS MANY FAC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CLE  DR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8 COMEDY FILM ABOUT REUNITING A STREET BASKETBALL SQUAD STARS SEVERAL EX-NBA PLAY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STER  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680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FILM STARRED WHOOPI GOLDBERG AS A NUN IN THE WITNESS PROTECTION PROGRA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AL  MINER'S  DAUGH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1980 MUSICAL FILM DID SISSY SPACEK WIN HER BEST ACTRESS OS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THER  OF  THE  B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COMEDY STARRING STEVE MARTIN AND DIANE KEATON REMADE A 1950 FILM STARRING SPENCER TRACY AND ELIZABETH TAYL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  COUSIN  VIN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COURTROOM COMEDY FILM STARRED JOE PESCI AND MARISA TOME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ROMANTIC COMEDY FILM STARED JENNIFER ANISTON, KATE HUDSON, JULIA ROBERTS, AND JASON SUDEIK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  BROTHER,  WHERE  ART  TH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 CRIME COMEDY MUSICAL FILM SET IN 1937 STARRED GEORGE CLOONEY AND JOHN TURTUR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Y'S  A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1 FILM STARRED JACK BENNY IN DR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REL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PSYCHOLOGICAL THRILLER FILM STARRING MACAULAY CULKIN AND ELIJAH WOOD HAD TAG LINE "EVIL HAS MANY FAC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8 COMEDY FILM ABOUT REUNITING A STREET BASKETBALL SQUAD STARS SEVERAL EX-NBA PLAY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FILM STARRED WHOOPI GOLDBERG AS A NUN IN THE WITNESS PROTECTION PROGRAM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1980 MUSICAL FILM DID SISSY SPACEK WIN HER BEST ACTRESS OSC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COMEDY STARRING STEVE MARTIN AND DIANE KEATON REMADE A 1950 FILM STARRING SPENCER TRACY AND ELIZABETH TAYL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COURTROOM COMEDY FILM STARRED JOE PESCI AND MARISA TOME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 CRIME COMEDY MUSICAL FILM SET IN 1937 STARRED GEORGE CLOONEY AND JOHN TURTURR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7:58:42Z</dcterms:created>
  <dc:creator>Jennifer Budzinski</dc:creator>
  <dc:description/>
  <dc:language>en-US</dc:language>
  <cp:lastModifiedBy>Erich Friedman</cp:lastModifiedBy>
  <dcterms:modified xsi:type="dcterms:W3CDTF">2020-08-28T14:31:33Z</dcterms:modified>
  <cp:revision>416</cp:revision>
  <dc:subject/>
  <dc:title>Slide 1</dc:title>
</cp:coreProperties>
</file>