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947D-2464-47B1-9BFA-35BC55263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0B26-586F-4656-98E6-2A4D90551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7F78-3CB5-48C8-AC11-297AF0197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920D-718C-4410-8D92-1ACAACD3B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5AA8-D468-42E1-92BD-6655E2A5B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9FEE-4AC5-4ACA-9363-A1E330460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2748-3A3B-49B3-964E-3B1833AB7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311E-9A8F-46EA-8C78-67F50059F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6273-0C69-48A5-B88A-D887B95B7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D825-53BD-4F3C-B503-A9D2E0F47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3B93-FC48-4EEC-85EF-E16038E94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3FD4-42A9-4FA4-965F-C96D3110E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02DB-2529-4FCC-8812-D7E18E005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ECC2-927B-4F1E-8B92-9A61A2F83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5120-2D22-439F-932A-B24749CF3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AB54-4EFF-4BC8-BFBC-4005A6C8F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E5B9-5B65-4BDF-A0AA-2E2466E78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B15A-F802-4837-AF57-ED1B2ED60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284F-2F83-49CA-8F92-D2B6D72A3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DF7F-2D84-4255-A06D-0568324A8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7D0C-F4A5-44E5-BBB9-0644E9F18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8B58-88CB-4F72-8891-6DEC2AE58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E1C7-8985-4EAC-BE32-96EC7634A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LONDON THEATER THAT WILLIAM SHAKESPEARE OWNED A 1/8 STAKE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THE EASTERNMOST OF UTAH'S 5 NATIONAL PA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GO FOR C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3000" y="762120"/>
            <a:ext cx="6858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LENGTH IS EQUAL TO 5.5 Y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5564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RICHARD GOSSAGE, ONE OF THE MOST DOMINATING CLOSERS IN ALL OF ML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PORT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5420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O" IN "EEOC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WHO IS TALLER AT AGE 12, BOYS OR GIR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APPEARS ON THE ILLINOIS STATE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THE EASTERNMOST OF UTAH'S 5 NATIONAL PAR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SHORT FOR THE AMOUNT OF MONEY COLLECTED FROM SELLING TICKETS TO A SPORTS EVENT OR CONCE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LONDON THEATER THAT WILLIAM SHAKESPEARE OWNED A 1/8 STAKE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GOLDE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GO FOR C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LENGTH IS EQUAL TO 5.5 Y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RICHARD GOSSAGE, ONE OF THE MOST DOMINATING CLOSERS IN ALL OF ML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O" IN "EEOC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WHO IS TALLER AT AGE 12, BOYS OR GIR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APPEARS ON THE ILLINOIS STATE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SHORT FOR THE AMOUNT OF MONEY COLLECTED FROM SELLING TICKETS TO A SPORTS EVENT OR CONCE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1T23:47:59Z</dcterms:created>
  <dc:creator>Jennifer Budzinski</dc:creator>
  <dc:description/>
  <dc:language>en-US</dc:language>
  <cp:lastModifiedBy>Erich Friedman</cp:lastModifiedBy>
  <dcterms:modified xsi:type="dcterms:W3CDTF">2020-08-28T14:32:28Z</dcterms:modified>
  <cp:revision>418</cp:revision>
  <dc:subject/>
  <dc:title>Slide 1</dc:title>
</cp:coreProperties>
</file>