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2AD1-F014-44EB-BF28-57ACEE0BD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50F5-ACD1-4A41-9084-EE81C71B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D828-724D-403C-AF25-0E521F4B3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47EE-A8D3-4E77-ADD4-E895CD5E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60B8-20F5-4198-BB00-8787FDE9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1F3D-7DE4-455C-943F-6DACEE3D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5176-50C0-49B2-B485-86A09C9DD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4A13-C23A-4F1D-82E8-ED0D17BB3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D204-1A1D-48B4-BFF1-B56117DA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A84D-3E1C-4B95-8422-6139B322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F4FD-1F3F-4568-A05C-E818AAB6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C67-252A-4B68-8DFC-0F0F175CA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7768-BEB5-4CEA-8C28-F524800C1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AB52-B9AD-4A36-B28A-51233814A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EB6A-95C8-4893-910D-76B442356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D4E8-6F5F-47B9-B36C-8F2B38F1D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330A-272E-4826-BEE3-F69D218A8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7D95-40D0-424A-A631-5F5D7653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9D4E-1244-49E4-BA47-F709F3AB4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14F6-5B00-4C4A-9218-33F761ABA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C6A-0B9A-4BB0-A0E9-C4DDDF6D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3B17-21C4-4B4E-ACC3-2F33B6262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8497-5EE2-47BA-B296-92CF26216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EASTERNMOST OF UTAH'S 5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564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ICHARD GOSSAGE, ONE OF THE MOST DOMINATING CLOSERS IN ALL OF ML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5420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IN "EEO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O IS TALLER AT AGE 12, BOYS 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APPEARS ON THE ILLINOIS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EASTERNMOST OF UTAH'S 5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SHORT FOR THE AMOUNT OF MONEY COLLECTED FROM SELLING TICKETS TO A SPORTS EVENT OR CONC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OLD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FOR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LENGTH IS EQUAL TO 5.5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ICHARD GOSSAGE, ONE OF THE MOST DOMINATING CLOSERS IN ALL OF ML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IN "EEO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O IS TALLER AT AGE 12, BOYS 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APPEARS ON THE ILLINOIS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SHORT FOR THE AMOUNT OF MONEY COLLECTED FROM SELLING TICKETS TO A SPORTS EVENT OR CONC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1T23:47:59Z</dcterms:created>
  <dc:creator>Jennifer Budzinski</dc:creator>
  <dc:description/>
  <dc:language>en-US</dc:language>
  <cp:lastModifiedBy>Erich Friedman</cp:lastModifiedBy>
  <dcterms:modified xsi:type="dcterms:W3CDTF">2020-08-28T14:32:28Z</dcterms:modified>
  <cp:revision>418</cp:revision>
  <dc:subject/>
  <dc:title>Slide 1</dc:title>
</cp:coreProperties>
</file>