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F661-7110-44F0-A23F-9CE8AAFC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CB93-3D9A-4DBC-B6A5-259CFFC1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AFA-90D2-4FA5-A603-8E244E434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1D1-88F0-4720-A857-F321447C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46E-9A97-45A5-81E9-880D5A37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4AD6-30AA-4328-B57F-EA8A5CC7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F2A-17B5-4366-A72A-BBB1E4B2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446-EDDF-4469-BE8A-3EAEA098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367-32F6-459B-AACA-ED74FC02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F6F-B7B0-4A3D-ABB0-6F111CE4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6695-53EC-4E67-A646-EE838676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C8D-D79C-4654-BA35-6D88CBF5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6B8-58F1-43B3-B282-3790FEBC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742C-F521-4CB3-B452-CDDB3CBD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667D-883D-4595-9ACB-9DD65D42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5E3E-4614-4DBB-AC6F-2B53D454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21B-3597-45AE-9624-3DC68C69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CB4-8756-4A9F-845A-4B743FC0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8F0-EE7C-4F8A-BBF5-3B30D073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338-494A-41ED-BF46-153F8106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CB90-8B47-42B9-B417-4D1CDAA3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1C2-DF8D-4C23-A3B8-E7D0C911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B2B2-ABFF-46BE-AAE5-987C9E11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564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5420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LD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1T23:47:59Z</dcterms:created>
  <dc:creator>Jennifer Budzinski</dc:creator>
  <dc:description/>
  <dc:language>en-US</dc:language>
  <cp:lastModifiedBy>Erich Friedman</cp:lastModifiedBy>
  <dcterms:modified xsi:type="dcterms:W3CDTF">2020-08-28T14:32:28Z</dcterms:modified>
  <cp:revision>418</cp:revision>
  <dc:subject/>
  <dc:title>Slide 1</dc:title>
</cp:coreProperties>
</file>