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5ADC-4C5A-4943-B4FB-18F5C7936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1C87-AA4A-477E-B101-8FCA728AA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71A6-059E-412B-BED3-8BCC28B90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6350-7A26-4013-9E3E-B862CFC65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B9B5-A075-4B7B-9F8B-2E173499C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374B-22B4-4C99-8700-AFF797E50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0A8E-041F-4708-B4DA-BF49ED5C9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662B-9920-4A25-BF4C-E4C2BADF7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31A6-F082-4702-AE5D-07216E31F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5A30-2E73-48CE-B00D-76D7A83B2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2825-BC5D-41EB-8733-223D9E28F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B184-03D6-4C80-B3E7-00923A55C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FA36-487D-4BC4-A341-25F2913DA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7920-77D6-4952-8F94-4646D52AA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4BBC-F3C8-4819-B27C-17CA0E3DB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965D-732A-4F38-BF2B-EDD8952E4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0D60-A0D2-49A2-BDF4-F72821034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5CA0-42A8-4EBC-BC83-858E9540C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8A1C-3F05-4CDB-ADBE-E6BB67B24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E125-6D48-431F-B108-C5861FE84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E372-1DA7-4316-8F22-2CD7CEE51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B5A4-3299-4B78-B954-FF45E0987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0A07-DFCB-4A55-8535-DDDB1DF99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15520" y="762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FILM STARS WILL SMITH AND HIS SON JADEN SMITH AS BEING HOMEL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LARGE SHIP'S CARGO SPAC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95240" y="762120"/>
            <a:ext cx="755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POLITICAL DRAMA FILM STARRED CATE BLANCHETT AND ROBERT RED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  (IN  BLA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28600" y="762120"/>
            <a:ext cx="8686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        OF 3 FILMS STARRING WILL SMITH AND TOMMY LEE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23760" y="782640"/>
            <a:ext cx="7296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NAME SUGAR SUBSTITUTE COMES IN BLUE PACK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31920" y="762120"/>
            <a:ext cx="8480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PETER O'TOOLE AS A SCIENTIST WANTING TO CLONE HIS DEAD WIFE, AND MARIEL HEMINGWAY AS HIS LOVE INTER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UGUSTE RODIN'S STATUE "THE THINKER", IS HIS CHIN RESTING ON HIS LEFT OR RIGHT H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09760" y="762120"/>
            <a:ext cx="81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UNIVERSAL CELLULAR AUTOMATON DEVISED BY JOHN CONWAY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2960" y="762120"/>
            <a:ext cx="7318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LARGE SHIP'S CARGO SPAC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USED TO BE KNOWN AS LYNCHBURG BAPTIST COLLE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URSUIT  OF  HAPPY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FILM STARS WILL SMITH AND HIS SON JADEN SMITH AS BEING HOMEL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87520" y="3733920"/>
            <a:ext cx="7967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HE  FIRST SENTENCE  OF  THE  PREAMBLE  TO  THE  U. S.  CONSTITU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06640" y="761760"/>
            <a:ext cx="6929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POLITICAL DRAMA FILM STARRED CATE BLANCHETT AND ROBERT REDF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2860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        OF 3 FILMS STARRING WILL SMITH AND TOMMY LEE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NAME SUGAR SUBSTITUTE COMES IN BLUE PACK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PETER O'TOOLE AS A SCIENTIST WANTING TO CLONE HIS DEAD WIFE, AND MARIEL HEMINGWAY AS HIS LOVE INTER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UGUSTE RODIN'S STATUE "THE THINKER", IS HIS CHIN RESTING ON HIS LEFT OR RIGHT H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UNIVERSAL CELLULAR AUTOMATON DEVISED BY JOHN CONWAY IN 197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16040" y="762120"/>
            <a:ext cx="77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USED TO BE KNOWN AS LYNCHBURG BAPTIST COLLE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28T14:33:19Z</dcterms:modified>
  <cp:revision>454</cp:revision>
  <dc:subject/>
  <dc:title>Slide 1</dc:title>
</cp:coreProperties>
</file>