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DF03-7021-41D5-9041-FD80DC4B5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BE25-4C95-4048-8EDD-E1A97E5CE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919D-7349-4978-BCA0-4FFB65E03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2088-6369-4105-BE69-DE87538D1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90DD-3EA5-4ECF-8B22-002C43371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B986-BFCB-465C-85BE-2CADD14B7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E1F5-39A6-4B28-B5F1-A94CB611E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6827-26F1-4389-9AAF-698DA9589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FDF7-27CE-4973-A82C-F7B944BC2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7A9F-87AF-4919-8BB4-AC3BFA322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8FDF-37F9-4ED0-8854-768D3EF39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278F-EC85-4C5C-BEB6-B2D7E92DB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7DF3-D98E-4118-93FF-94DAB6D50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4409-A41E-4B09-BC50-AE0D94036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4645-65FF-4543-B68D-D7B0A1D62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51CA-F17A-4348-983B-AD12604EC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CA36-3A80-48E0-AFCD-0B7221D6A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46F1-68F8-420D-B4DA-6363068B6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128A-2830-4BF7-83B2-D9B8FC7CA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8805-4AB2-42A2-8989-AD17AA907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47E7-5B71-4AF7-8BF5-42C1D369E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41E0-11B0-48B3-9C65-EEB36E365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1F73-4E7A-4540-BB70-44ACF8A8F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15520" y="762120"/>
            <a:ext cx="8110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6 FILM STARS WILL SMITH AND HIS SON JADEN SMITH AS BEING HOMEL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66720" y="762120"/>
            <a:ext cx="7810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LARGE SHIP'S CARGO SPACE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95240" y="762120"/>
            <a:ext cx="7553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 POLITICAL DRAMA FILM STARRED CATE BLANCHETT AND ROBERT REDF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N  (IN  BLAC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228600" y="762120"/>
            <a:ext cx="8686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        OF 3 FILMS STARRING WILL SMITH AND TOMMY LEE J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Q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23760" y="782640"/>
            <a:ext cx="7296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NAME SUGAR SUBSTITUTE COMES IN BLUE PACK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E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31920" y="762120"/>
            <a:ext cx="8480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FILM STARS PETER O'TOOLE AS A SCIENTIST WANTING TO CLONE HIS DEAD WIFE, AND MARIEL HEMINGWAY AS HIS LOVE INTER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62040" y="762120"/>
            <a:ext cx="78199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UGUSTE RODIN'S STATUE "THE THINKER", IS HIS CHIN RESTING ON HIS LEFT OR RIGHT H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333440" y="487692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09760" y="762120"/>
            <a:ext cx="8124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UNIVERSAL CELLULAR AUTOMATON DEVISED BY JOHN CONWAY IN 197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2960" y="762120"/>
            <a:ext cx="7318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LARGE SHIP'S CARGO SPACE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B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VERSITY USED TO BE KNOWN AS LYNCHBURG BAPTIST COLLE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URSUIT  OF  HAPPY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0120" y="762120"/>
            <a:ext cx="7943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6 FILM STARS WILL SMITH AND HIS SON JADEN SMITH AS BEING HOMEL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87520" y="3733920"/>
            <a:ext cx="7967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DS  IN  THE  FIRST SENTENCE  OF  THE  PREAMBLE  TO  THE  U. S.  CONSTITUT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06640" y="761760"/>
            <a:ext cx="6929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 POLITICAL DRAMA FILM STARRED CATE BLANCHETT AND ROBERT REDF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228600" y="76212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        OF 3 FILMS STARRING WILL SMITH AND TOMMY LEE J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33480" y="762120"/>
            <a:ext cx="7277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NAME SUGAR SUBSTITUTE COMES IN BLUE PACKE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85840" y="762120"/>
            <a:ext cx="8572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FILM STARS PETER O'TOOLE AS A SCIENTIST WANTING TO CLONE HIS DEAD WIFE, AND MARIEL HEMINGWAY AS HIS LOVE INTER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90480" y="761760"/>
            <a:ext cx="7763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UGUSTE RODIN'S STATUE "THE THINKER", IS HIS CHIN RESTING ON HIS LEFT OR RIGHT H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66560" y="762120"/>
            <a:ext cx="8210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UNIVERSAL CELLULAR AUTOMATON DEVISED BY JOHN CONWAY IN 197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16040" y="762120"/>
            <a:ext cx="77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VERSITY USED TO BE KNOWN AS LYNCHBURG BAPTIST COLLE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08-28T14:33:19Z</dcterms:modified>
  <cp:revision>454</cp:revision>
  <dc:subject/>
  <dc:title>Slide 1</dc:title>
</cp:coreProperties>
</file>