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C24B-6C8B-42ED-90B7-36D8656E5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C0CF-47E1-4B25-A8A5-95420ED87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A6D8-161B-42F2-9BE7-E38EF4F7F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D828-3F90-4712-BBE0-084034B6F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A14E-9FA0-404A-B322-EFA13BF03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283F-37F8-4D55-BD83-0E80B1171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C26A-6C92-41C6-96AB-3C3C5CE05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48C0-0219-4A49-9CC0-2EB30C6F4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172D-611F-4B7C-A26A-2D67C0455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A3C7-4528-4325-858A-CD6CE6CC3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B580-4662-4B93-941D-D1AD7AD4C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6932-19C3-431D-8BBA-A030360D9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FD73-25FC-46EA-8CBD-8F1AFA758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4439-A54E-4BF9-B72E-535042824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FA43-D6F4-4E76-9C7C-49B20D0BD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6603-14EA-4968-9A7C-B01C29A8A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0573-7C5D-4F6A-95AC-69646A96C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F05A-4528-4579-87E2-B9D9442EB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0B83-3D2C-4FA7-8BF2-FF6AD2E60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2D9B-274C-4ACF-9111-178DC805A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BAEB-09D2-49F9-B925-DAE671174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1AEF-3BD7-4C1E-8877-18CBC1656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D837-2DF6-447C-9DE2-D45FB3585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15520" y="762120"/>
            <a:ext cx="8110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 FILM STARS WILL SMITH AND HIS SON JADEN SMITH AS BEING HOMEL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LARGE SHIP'S CARGO SPAC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95240" y="762120"/>
            <a:ext cx="7553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POLITICAL DRAMA FILM STARRED CATE BLANCHETT AND ROBERT REDF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N  (IN  BLAC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28600" y="762120"/>
            <a:ext cx="8686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        OF 3 FILMS STARRING WILL SMITH AND TOMMY LEE J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Q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23760" y="782640"/>
            <a:ext cx="7296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NAME SUGAR SUBSTITUTE COMES IN BLUE PACK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31920" y="762120"/>
            <a:ext cx="8480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STARS PETER O'TOOLE AS A SCIENTIST WANTING TO CLONE HIS DEAD WIFE, AND MARIEL HEMINGWAY AS HIS LOVE INTER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62040" y="762120"/>
            <a:ext cx="78199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UGUSTE RODIN'S STATUE "THE THINKER", IS HIS CHIN RESTING ON HIS LEFT OR RIGHT H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33440" y="487692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09760" y="762120"/>
            <a:ext cx="81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UNIVERSAL CELLULAR AUTOMATON DEVISED BY JOHN CONWAY IN 197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2960" y="762120"/>
            <a:ext cx="7318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LARGE SHIP'S CARGO SPAC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USED TO BE KNOWN AS LYNCHBURG BAPTIST COLLE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URSUIT  OF  HAPPY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0120" y="762120"/>
            <a:ext cx="7943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 FILM STARS WILL SMITH AND HIS SON JADEN SMITH AS BEING HOMEL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87520" y="3733920"/>
            <a:ext cx="7967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S  IN  THE  FIRST SENTENCE  OF  THE  PREAMBLE  TO  THE  U. S.  CONSTITUT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06640" y="761760"/>
            <a:ext cx="6929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POLITICAL DRAMA FILM STARRED CATE BLANCHETT AND ROBERT REDF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28600" y="7621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        OF 3 FILMS STARRING WILL SMITH AND TOMMY LEE J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NAME SUGAR SUBSTITUTE COMES IN BLUE PACK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STARS PETER O'TOOLE AS A SCIENTIST WANTING TO CLONE HIS DEAD WIFE, AND MARIEL HEMINGWAY AS HIS LOVE INTER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90480" y="761760"/>
            <a:ext cx="7763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UGUSTE RODIN'S STATUE "THE THINKER", IS HIS CHIN RESTING ON HIS LEFT OR RIGHT H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66560" y="762120"/>
            <a:ext cx="8210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UNIVERSAL CELLULAR AUTOMATON DEVISED BY JOHN CONWAY IN 197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16040" y="762120"/>
            <a:ext cx="77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USED TO BE KNOWN AS LYNCHBURG BAPTIST COLLE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8-28T14:33:19Z</dcterms:modified>
  <cp:revision>454</cp:revision>
  <dc:subject/>
  <dc:title>Slide 1</dc:title>
</cp:coreProperties>
</file>