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D6B9F-7698-4468-B993-1AB98DB326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1A29D-C457-4EAB-A593-9CB326A7EF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2F9C6-4445-4DE7-A9A9-8A24E7771B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2F7E0-1013-4290-9411-59786370E1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5BCEC-078A-48C0-8030-7B7C687F64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21CD9-592A-4F06-9EBB-089721954B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B0317-067E-441D-ADD0-2941257AAC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B7F0E-F17C-4BE7-8C73-EE1822F65A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CD58E-836E-4210-A08B-A7EB56DFE2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B07A5-C0E0-4021-BEA9-8652B5503E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A801C-F3C3-4482-9CE2-92EF5F226C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34A09-0FEE-4B7C-BCC2-77663665E4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E0CB3-BA2C-490B-B18A-6A27EEF6DD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878B9-F80D-4735-A06F-710C38EE6A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41D9C-36E4-47FE-8637-51C8B94795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737C2-7DC5-4E4F-B135-5EE4D04FC4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76213-D447-49BD-9D4B-3297E50D30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9615D-76DB-4801-847F-105CC2D66C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C5336-F403-4300-AD6E-D330805B7E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8E5AC-DA2A-4687-AB1B-CD04C42FE2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838CA-0FDC-4689-A2D5-EEC6790D82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B5706-4E25-4BC3-BEEE-0CDA5F0C4C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1B779-93C0-419D-9719-B7C842899A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ICKNAME IS GIVEN TO THE 6 COUNTIES OF NEW YORK STATE THAT ARE CLOSEST TO MONTRE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NS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1333440" y="762120"/>
            <a:ext cx="64771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NERGY DRINK HAS THIS LOG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3" descr="monster-energy-drink-logo-88E510B15A-seeklogo.com.png"/>
          <p:cNvPicPr/>
          <p:nvPr/>
        </p:nvPicPr>
        <p:blipFill>
          <a:blip r:embed="rId1"/>
          <a:stretch/>
        </p:blipFill>
        <p:spPr>
          <a:xfrm>
            <a:off x="3505320" y="2514600"/>
            <a:ext cx="2133360" cy="223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838080" y="4876920"/>
            <a:ext cx="7467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IN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143000" y="762120"/>
            <a:ext cx="68580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SPANISH SLANG FOR AN AMERICAN NOT OF LATINO DESC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457200" y="48672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5  MINU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343080" y="76212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1/96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OF A DAY USUALLY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609480" y="4876920"/>
            <a:ext cx="79250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THE)  CELEBRITY  (APPRENTI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066680" y="762120"/>
            <a:ext cx="7010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WAS ADDED TO THE TITLE OF DONALD TRUMP'S TV SERIES FOR THE LAST 7 SEAS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ROAD  (NOT  TAKE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066680" y="762120"/>
            <a:ext cx="70106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HALF OF THE TITLE OF ROBERT FROST'S MOST POPULAR POEM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OMETHE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295280" y="762120"/>
            <a:ext cx="655344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EEK TITAN SUPPOSEDLY FORMED MANKIND FROM CLAY AND GAVE THEM FIR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981080" y="4876920"/>
            <a:ext cx="5181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IAL  AND  ERR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00280" y="762120"/>
            <a:ext cx="7543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BC LAW COMEDY STARRED JOHN LITHGOW IN SEASON 1 AND KRISTIN CHENOWETH IN SEASON 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447920" y="762120"/>
            <a:ext cx="6248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NERGY DRINK HAS THIS LOG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monster-energy-drink-logo-88E510B15A-seeklogo.com.png"/>
          <p:cNvPicPr/>
          <p:nvPr/>
        </p:nvPicPr>
        <p:blipFill>
          <a:blip r:embed="rId1"/>
          <a:stretch/>
        </p:blipFill>
        <p:spPr>
          <a:xfrm>
            <a:off x="3408480" y="2666880"/>
            <a:ext cx="2327040" cy="24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INDEER  GA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19040" y="762120"/>
            <a:ext cx="83059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A FAMOUS HOLIDAY SONG, WHAT WOULDN'T RUDOLPH'S FRIENDS LET HIM JOIN 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22860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RTH  COUN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723960" y="762120"/>
            <a:ext cx="76960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ICKNAME IS GIVEN TO THE 6 COUNTIES OF NEW YORK STATE THAT ARE CLOSEST TO MONTRE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1447920" y="4343400"/>
            <a:ext cx="6248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CHARLIZE  THERON  FIL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SPANISH SLANG FOR AN AMERICAN NOT OF LATINO DESC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1/96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OF A DAY USUALLY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95320" y="762120"/>
            <a:ext cx="73533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WAS ADDED TO THE TITLE OF DONALD TRUMP'S TV SERIES FOR THE LAST 7 SEASO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028520" y="761760"/>
            <a:ext cx="70866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HALF OF THE TITLE OF ROBERT FROST'S MOST POPULAR POEM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104840" y="761760"/>
            <a:ext cx="6934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EEK TITAN SUPPOSEDLY FORMED MANKIND FROM CLAY AND GAVE THEM FIRE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BC LAW COMEDY STARRED JOHN LITHGOW IN SEASON 1 AND KRISTIN CHENOWETH IN SEASON 2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A FAMOUS HOLIDAY SONG, WHAT WOULDN'T RUDOLPH'S FRIENDS LET HIM JOIN I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9T19:12:22Z</dcterms:created>
  <dc:creator>Jennifer Budzinski</dc:creator>
  <dc:description/>
  <dc:language>en-US</dc:language>
  <cp:lastModifiedBy>Erich Friedman</cp:lastModifiedBy>
  <dcterms:modified xsi:type="dcterms:W3CDTF">2020-08-28T20:55:49Z</dcterms:modified>
  <cp:revision>355</cp:revision>
  <dc:subject/>
  <dc:title>Slide 1</dc:title>
</cp:coreProperties>
</file>