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6824-C125-4824-8F98-3F632177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15CE-B9E9-48E3-96CE-28D228EE2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C9BF-7DBC-48A0-B365-4F7696E8A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C6D-1975-483B-BB2D-E5F73F7F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01D-0B41-441E-B576-B4B09E4C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3852-BFFA-4507-9673-CA16522E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EF9C-8A7E-4E17-A95B-D1D61658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7595-797E-4067-8302-E3EEE1B1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EA13-D1D7-48A6-B84D-269396B77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DFDE-970B-42A9-B058-9D0E00BC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1415-2F3F-45A8-887C-00C3E6C3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767-4CB9-426C-8C95-114C98A0A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6506-8859-4824-9A27-E87928C6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032B-EB38-410A-B89F-EE043DEE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387E-771B-483A-82DE-51745A225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56F8-A626-4F15-A542-14B44E16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D12-9726-4FD9-9E1A-7C6C4C6AE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95B-F379-479F-A928-D9278F0A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1159-0D68-4486-A3BD-76A98C9E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2692-8FBE-472F-BB4B-623078C7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D73E-BF53-439D-974F-3153D5DD8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12F4-D34B-44DC-BBC7-A3702D4EF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A6D2-131E-44F2-BB03-EAF7E17B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IS GIVEN TO THE 6 COUNTIES OF NEW YORK STATE THAT ARE CLOSEST TO MONTR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Y DRINK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monster-energy-drink-logo-88E510B15A-seeklogo.com.png"/>
          <p:cNvPicPr/>
          <p:nvPr/>
        </p:nvPicPr>
        <p:blipFill>
          <a:blip r:embed="rId1"/>
          <a:stretch/>
        </p:blipFill>
        <p:spPr>
          <a:xfrm>
            <a:off x="3505320" y="2514600"/>
            <a:ext cx="213336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PANISH SLANG FOR AN AMERICAN NOT OF LATINO DESC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67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/9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AY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CELEBRITY  (APPRENT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THE TITLE OF DONALD TRUMP'S TV SERIES FOR THE LAST 7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AD  (NOT  TAK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ROBERT FROST'S MOST POPULAR PO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ETH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TITAN SUPPOSEDLY FORMED MANKIND FROM CLAY AND GAVE THEM FI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L  AND 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LAW COMEDY STARRED JOHN LITHGOW IN SEASON 1 AND KRISTIN CHENOWETH IN SEASON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Y DRINK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onster-energy-drink-logo-88E510B15A-seeklogo.com.png"/>
          <p:cNvPicPr/>
          <p:nvPr/>
        </p:nvPicPr>
        <p:blipFill>
          <a:blip r:embed="rId1"/>
          <a:stretch/>
        </p:blipFill>
        <p:spPr>
          <a:xfrm>
            <a:off x="3408480" y="2666880"/>
            <a:ext cx="23270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NDEER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HOLIDAY SONG, WHAT WOULDN'T RUDOLPH'S FRIENDS LET HIM JOIN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IS GIVEN TO THE 6 COUNTIES OF NEW YORK STATE THAT ARE CLOSEST TO MONTR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47920" y="4343400"/>
            <a:ext cx="624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HARLIZE  THER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PANISH SLANG FOR AN AMERICAN NOT OF LATINO DESC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/9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AY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THE TITLE OF DONALD TRUMP'S TV SERIES FOR THE LAST 7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ROBERT FROST'S MOST POPULAR POE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TITAN SUPPOSEDLY FORMED MANKIND FROM CLAY AND GAVE THEM FI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LAW COMEDY STARRED JOHN LITHGOW IN SEASON 1 AND KRISTIN CHENOWETH IN SEASON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HOLIDAY SONG, WHAT WOULDN'T RUDOLPH'S FRIENDS LET HIM JOIN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9:12:22Z</dcterms:created>
  <dc:creator>Jennifer Budzinski</dc:creator>
  <dc:description/>
  <dc:language>en-US</dc:language>
  <cp:lastModifiedBy>Erich Friedman</cp:lastModifiedBy>
  <dcterms:modified xsi:type="dcterms:W3CDTF">2020-08-28T20:55:49Z</dcterms:modified>
  <cp:revision>355</cp:revision>
  <dc:subject/>
  <dc:title>Slide 1</dc:title>
</cp:coreProperties>
</file>