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0B11-CCE4-4321-871E-5B3D52A07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2ED85-1641-4B19-B499-8C990A070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D848-FA59-4E11-8F33-044C53FCA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6A36-1449-45F5-82E5-FB95CFE5A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6D49-29A3-408F-8FFB-AAD40718A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03EE-2ACD-4EAB-8493-056B7F468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B0CF-ABD4-4E76-A8E0-2EC936C51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7A0D-62BB-4344-A28D-FA1913997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FF8-ADCB-4B05-A038-8AE0C2DDF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28632-A18E-4D31-B211-DA78E30C5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AF3C-BC35-40C4-9355-38B747A2F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C704-6B0B-47ED-95A6-57DB1DEB1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7245-89E6-420A-8BC1-FE45504F5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DAF2-C2C6-42F1-BFB8-A771EEA1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4ED4-A911-427A-BF4A-A3294A50C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EAF-971C-459C-946E-0DC944B5B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EDC7-D4DD-4D6D-98C6-34AD2D69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E9EA-5DFA-4B72-8924-59D3603F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431D-8108-4D76-9AE7-6A7DF22C9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315D-6FE8-4EAF-BC32-DB77404F6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DB5-C6AE-4C09-8BB5-09E35A1BC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961-8CD0-4014-90A2-269164EE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F3BE-3E14-422C-BA5E-531C46BB1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505320" y="2514600"/>
            <a:ext cx="2133360" cy="22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67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5  MIN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HE)  CELEBRITY  (APPRENTI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AD  (NOT  TAKE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ETH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AL  AND 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ERGY DRINK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onster-energy-drink-logo-88E510B15A-seeklogo.com.png"/>
          <p:cNvPicPr/>
          <p:nvPr/>
        </p:nvPicPr>
        <p:blipFill>
          <a:blip r:embed="rId1"/>
          <a:stretch/>
        </p:blipFill>
        <p:spPr>
          <a:xfrm>
            <a:off x="3408480" y="2666880"/>
            <a:ext cx="23270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INDEER  G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NAME IS GIVEN TO THE 6 COUNTIES OF NEW YORK STATE THAT ARE CLOSEST TO MONT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447920" y="434340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HARLIZE  THERON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PANISH SLANG FOR AN AMERICAN NOT OF LATINO DESC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1/9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AY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WAS ADDED TO THE TITLE OF DONALD TRUMP'S TV SERIES FOR THE LAST 7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ROBERT FROST'S MOST POPULAR POE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TITAN SUPPOSEDLY FORMED MANKIND FROM CLAY AND GAVE THEM FIR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LAW COMEDY STARRED JOHN LITHGOW IN SEASON 1 AND KRISTIN CHENOWETH IN SEASON 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HOLIDAY SONG, WHAT WOULDN'T RUDOLPH'S FRIENDS LET HIM JOIN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9T19:12:22Z</dcterms:created>
  <dc:creator>Jennifer Budzinski</dc:creator>
  <dc:description/>
  <dc:language>en-US</dc:language>
  <cp:lastModifiedBy>Erich Friedman</cp:lastModifiedBy>
  <dcterms:modified xsi:type="dcterms:W3CDTF">2020-08-28T20:55:49Z</dcterms:modified>
  <cp:revision>355</cp:revision>
  <dc:subject/>
  <dc:title>Slide 1</dc:title>
</cp:coreProperties>
</file>