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7A1B-F09F-4FD4-B47D-DB395C47D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19B2-FE60-47A7-B1C6-50C1609A1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E6DA-DE80-4CC6-B6C3-FF7FEF5BA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7168-D4D0-450C-AB9E-8B1875495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05EC-4FAF-48D5-A679-F97645010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5FF2-DF94-460A-BBC2-C29C4CFAE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8D15-3F17-4C68-AAF6-C759FDED1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6EA0-459F-467D-8FB0-D140E0B78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7732-594D-45C8-B51D-1961203B3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9F37-A62E-49E9-AFB8-E215FFEDA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0EC1-55FD-4B50-8B98-3D24EAA7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7B38-B25D-4DEC-BEF2-37F011CDB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2F99-1356-4927-BE10-1D9ED8B3B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A836-14FD-4E74-8A83-B321C279D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9F22-1675-4CEB-A7E9-D426A3189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E724-65A2-4F74-A9F9-93BAE83F8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13DE-5BD0-4685-9573-E369628FE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3B12B-A71D-40C8-9640-C10EC58BE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FD69-C2A0-47F0-9BC9-D318463B9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F625-12A6-42A7-9D69-1FDB814B5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C435-0393-4342-BEBF-B981F27E9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B960-F40D-408B-8F01-D010F97E8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4A2D-38DC-480C-BB22-2E5CC1E4B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IS THE FASTEST SWIMM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J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SONG BEGINS WITH THE LYRICS "SOME PEOPLE CALL ME A SPACE COWBO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THE FIFTH ELEMENT, "THE SIXTH SENSE", AND "THE WHOLE NINE YA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BIRD OF WISCONSIN, MICHIGAN, AND CONNECTIC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AKES SENSE BEFORE COD OR CO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YNE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MR. LAS VEGAS", AND HAD "DANKE SCHOEN" AS HIS SIGNATUR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MMOTH, ELLISON'S, JEWEL, AND NIAGARA ARE ALL NAME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  HITCH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PSYCHO" AND "THE BIR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SONG BEGINS WITH THE LYRICS "SOME PEOPLE CALL ME A SPACE COWBO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LIGHT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NDOWN" AND "IF YOU COULD READ MY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GU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IRD IS THE FASTEST SWI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04840" y="4343400"/>
            <a:ext cx="6934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THINGS  HAVING  TO  DO  WITH  BA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THE FIFTH ELEMENT, "THE SIXTH SENSE", AND "THE WHOLE NINE YAR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BIRD OF WISCONSIN, MICHIGAN, AND CONNECTIC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AKES SENSE BEFORE COD OR CO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23960"/>
            <a:ext cx="7010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 "MR. LAS VEGAS", AND HAD "DANKE SCHOEN" AS HIS SIGNATUR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MMOTH, ELLISON'S, JEWEL, AND NIAGARA ARE ALL NAMES OF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PSYCHO" AND "THE BIRD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UNDOWN" AND "IF YOU COULD READ MY MI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0T13:35:32Z</dcterms:created>
  <dc:creator>Jennifer Budzinski</dc:creator>
  <dc:description/>
  <dc:language>en-US</dc:language>
  <cp:lastModifiedBy>Erich Friedman</cp:lastModifiedBy>
  <dcterms:modified xsi:type="dcterms:W3CDTF">2020-08-23T16:53:55Z</dcterms:modified>
  <cp:revision>334</cp:revision>
  <dc:subject/>
  <dc:title>Slide 1</dc:title>
</cp:coreProperties>
</file>