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AB67-607E-4E9A-ACEB-E7B34B0C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BDD8-F78E-4CC4-AA98-0A067EB0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9D2-6B47-4815-AEB0-44F1BA11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9F42-37CF-4C34-B67B-86D88AF3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B54C-D2DF-4D63-8158-2AD1283E3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614A-0E68-44C9-81F2-001D85C02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098E-EF9A-4016-B920-212A9ECF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D974-A318-4552-A601-2380CEEB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F3F5-6F90-42E9-B056-D27B4E34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0571-9AFA-4959-A408-89C93A81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4B1-1BF3-4E33-ADF7-C3EB7064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45E4-EBA2-48B6-AFD0-9E1C4B32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20FC-CBF8-4402-8A35-C20CD3EF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2AFD-77C2-4A19-ADC3-051EBA087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1232-AA91-4994-A020-7F6F5F9C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593-6987-4D05-9FD2-B70FC480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3FB-2E64-4F1D-A7DE-63BC33480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F14-0B15-4FB2-B5D7-549304EA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DE5-3AE0-47A3-8204-8862FDF5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95E-48C9-41BC-854B-CADB12DE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C32B-2D6E-47F8-B4B2-792315D5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ADF9-908F-437B-A4B1-401674C8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0B76-F384-4044-8072-45252E12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E FASTEST SWI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SONG BEGINS WITH THE LYRICS "SOME PEOPLE CALL ME A SPACE COW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FIFTH ELEMENT, "THE SIXTH SENSE", AND "THE WHOLE NINE Y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WISCONSIN, MICHIGAN, AND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AKES SENSE BEFORE COD OR C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MR. LAS VEGAS", AND HAD "DANKE SCHOEN" AS HI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MMOTH, ELLISON'S, JEWEL, AND NIAGARA ARE ALL NAME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PSYCHO" AND "THE BI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SONG BEGINS WITH THE LYRICS "SOME PEOPLE CALL ME A SPACE COW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NDOWN" AND "IF YOU COULD READ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E FASTEST SWI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3434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HAVING  TO  DO  WITH  BA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FIFTH ELEMENT, "THE SIXTH SENSE", AND "THE WHOLE NINE Y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WISCONSIN, MICHIGAN, AND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AKES SENSE BEFORE COD OR C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23960"/>
            <a:ext cx="701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 "MR. LAS VEGAS", AND HAD "DANKE SCHOEN" AS HI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MMOTH, ELLISON'S, JEWEL, AND NIAGARA ARE ALL NAMES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PSYCHO" AND "THE BI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NDOWN" AND "IF YOU COULD READ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3:35:32Z</dcterms:created>
  <dc:creator>Jennifer Budzinski</dc:creator>
  <dc:description/>
  <dc:language>en-US</dc:language>
  <cp:lastModifiedBy>Erich Friedman</cp:lastModifiedBy>
  <dcterms:modified xsi:type="dcterms:W3CDTF">2020-08-23T16:53:55Z</dcterms:modified>
  <cp:revision>334</cp:revision>
  <dc:subject/>
  <dc:title>Slide 1</dc:title>
</cp:coreProperties>
</file>