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7F02-8CF1-4DE8-8A41-67347324D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4D9-8758-44D0-B23E-79A1B249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D2D-3B10-4327-9548-EBDDBDCB9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242-9C71-40CE-8712-36DF2DA9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D796-8F6E-4AC4-9A68-D72DD71E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F14-B764-478A-9503-BC3A2514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68C2-0ED2-4796-AD83-23AF388B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E56-1BC5-4240-AC60-5F5048FF2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23EE-E1F4-4DAF-887D-5830F80B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F70-2777-43E2-88BF-62D2E5CA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AC16-DB3C-4EAF-A9B4-326A4613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DEA-7D43-47EC-BB9A-C5E389CA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4FF-055B-4C40-A6E4-9BA074106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977C-B84E-4A95-B42F-D4ECA43F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D977-21AE-473C-A346-085C5687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6BA-86C2-44FE-8288-FCE590DA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F88-A8B3-4199-BBFB-16B216AC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9F7A-86AB-4F7E-A486-AB08F497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48F0-FD51-4416-B4C7-AEA0439B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9259-BDA5-4A17-8999-0F58721A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05F-12AF-44BE-98B1-FD5839E30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5331-8D9A-44C8-B12B-B757FE1A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A49D-1303-4A35-A888-D61DF341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E FASTEST SWI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SONG BEGINS WITH THE LYRICS "SOME PEOPLE CALL ME A SPACE COW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FIFTH ELEMENT, "THE SIXTH SENSE", AND "THE WHOLE NINE Y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WISCONSIN, MICHIGAN, AND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AKES SENSE BEFORE COD OR C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MR. LAS VEGAS", AND HAD "DANKE SCHOEN" AS HI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MMOTH, ELLISON'S, JEWEL, AND NIAGARA ARE ALL NAME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PSYCHO" AND "THE BI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SONG BEGINS WITH THE LYRICS "SOME PEOPLE CALL ME A SPACE COW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NDOWN" AND "IF YOU COULD READ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E FASTEST SWI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3434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HAVING  TO  DO  WITH  BA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FIFTH ELEMENT, "THE SIXTH SENSE", AND "THE WHOLE NINE Y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WISCONSIN, MICHIGAN, AND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AKES SENSE BEFORE COD OR C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23960"/>
            <a:ext cx="70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 "MR. LAS VEGAS", AND HAD "DANKE SCHOEN" AS HI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MMOTH, ELLISON'S, JEWEL, AND NIAGARA ARE ALL NAMES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PSYCHO" AND "THE BI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NDOWN" AND "IF YOU COULD READ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3:35:32Z</dcterms:created>
  <dc:creator>Jennifer Budzinski</dc:creator>
  <dc:description/>
  <dc:language>en-US</dc:language>
  <cp:lastModifiedBy>Erich Friedman</cp:lastModifiedBy>
  <dcterms:modified xsi:type="dcterms:W3CDTF">2020-08-23T16:53:55Z</dcterms:modified>
  <cp:revision>334</cp:revision>
  <dc:subject/>
  <dc:title>Slide 1</dc:title>
</cp:coreProperties>
</file>