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051F-B458-43A4-9C65-253FEF65C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91B5-5B76-4AC2-862B-926665FBE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B5C1-B419-4011-81CF-DF1447D06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BB37-5902-4990-8CC0-4D69C103E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276B-4C1F-4406-95F6-F26E4F081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CAA7-D118-4817-BF7F-40D813097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CB33-6A0F-45DA-8272-9E1B9B00D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7CF7-2C51-4E04-9D8D-3A38D3D33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E09A-B8B2-4135-BC29-B32689FC7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61C0-AFB5-426C-93D1-426D064CF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21B5-9C07-4549-A5FC-DDD84FD8A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3654-DB3E-41C8-890A-B9548F58B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9082-8DED-43FC-967D-2449A7183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4A15-A3B4-41C1-AE45-28482EDA4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63C0-C47D-4C15-BC4D-E256648F9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8D0F-AAF8-4A4D-9222-63A97A971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620B-76D5-4D20-A453-6226E58C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77E9-AC68-450F-965D-F2E0D315A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F052-140A-413E-B5C4-F476CBE90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C9D3-0600-4BBE-8044-49807ED43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CD08-F097-4E85-BC46-1DC9C418E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46D4-F288-42EC-8411-F9DBCA45B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C428-5C11-4C26-AC50-AF5448F0B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PRODUCING "ONE FLEW OVER THE CUCKOO'S NEST" AND ACTING IN "WALL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.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OES JOSH BROLIN PORTRAY IN THE TITLE ROLE OF A 2008 FILM DIRECTED BY OLIVER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YTON  M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OLDS THE RECORDS FOR NUMBER OF TOUCHDOWN PASSES AND TOTAL PASSING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N  LE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VALOTTE" AND  "TOO LATE FOR GOODBY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  STRA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IAN COMPOSED THE BLUE DANUBE WALTZ AND THE EMPEROR WALT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EFER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UER ON THE TV SERIES "2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GRIFF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ERFIELDER FOR THE REDS HIT 630 HOME RUNS, WON 10 GOLDEN GLOVE AWARDS, AND WAS A 13-TIME ALL-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ULEE'S G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OES JOSH BROLIN PORTRAY IN THE TITLE ROLE OF A 2008 FILM DIRECTED BY OLIVER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RIQUE  IGLES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KING OF LATIN POP, WITH OVER 150 #1 H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DOUG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PRODUCING "ONE FLEW OVER THE CUCKOO'S NEST" AND ACTING IN "WALL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THE  SAME  PROFESSION AS  THEIR  F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OLDS THE RECORDS FOR NUMBER OF TOUCHDOWN PASSES AND TOTAL PASSING Y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VALOTTE" AND  "TOO LATE FOR GOODBY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IAN COMPOSED THE BLUE DANUBE WALTZ AND THE EMPEROR WALT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UER ON THE TV SERIES "2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ERFIELDER FOR THE REDS HIT 630 HOME RUNS, WON 10 GOLDEN GLOVE AWARDS, AND WAS A 13-TIME ALL-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ULEE'S G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KING OF LATIN POP, WITH OVER 150 #1 H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22:47:16Z</dcterms:created>
  <dc:creator>Jennifer Budzinski</dc:creator>
  <dc:description/>
  <dc:language>en-US</dc:language>
  <cp:lastModifiedBy>Erich Friedman</cp:lastModifiedBy>
  <dcterms:modified xsi:type="dcterms:W3CDTF">2020-08-24T12:04:05Z</dcterms:modified>
  <cp:revision>384</cp:revision>
  <dc:subject/>
  <dc:title>Slide 1</dc:title>
</cp:coreProperties>
</file>