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26F8-242B-4B8D-B658-D9B1D02EB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C9B5-72D8-4A42-B701-154BF442B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E2E4-2CD6-4A70-911B-4F42FD470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C95A-3D01-4B38-AC69-EA1018A9A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971F-9F0E-468A-8C77-537E25C11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950F-E98D-46DA-823C-A8D80C903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36BA-C85C-42A1-BCAA-9818BC357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583F-9A2E-4DB5-B243-D1F9C969A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264E-8502-4EDB-97C4-312AAC2B3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1E12-A28C-4CB3-BF5D-67FFF53B0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04E5-60D1-4F1E-B7CC-73EC3A686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2B4E-902B-4EA2-AE1E-A551705EC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CB69-CF0F-4C5E-9AE3-F172F02DC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FC9A0-4237-4FBE-803A-E549A1B64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0598-ADF9-464D-89C3-1ABD6F2F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F29D-EC53-485B-A0FE-FF3BC008F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02D8-4A13-4E5B-B5D9-D118BE32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9A06-B9C7-465E-8570-B7A388D91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92BE-922D-4779-99EB-7C1C02F62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34D7-59F7-4484-AB35-981441DAF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800D-5C62-4A06-9A3E-2EC72E7B8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EE54-28A5-4295-9570-026F1D082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C645-FFA8-419B-AEB5-32F2638DB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PRODUCING "ONE FLEW OVER THE CUCKOO'S NEST" AND ACTING IN "WALL STR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.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OES JOSH BROLIN PORTRAY IN THE TITLE ROLE OF A 2008 FILM DIRECTED BY OLIVER 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YTON  M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OLDS THE RECORDS FOR NUMBER OF TOUCHDOWN PASSES AND TOTAL PASS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N  LEN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ALOTTE" AND  "TOO LATE FOR GOODB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  STRA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MPOSED THE BLUE DANUBE WALTZ AND THE EMPEROR WALT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  GRIFF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FIELDER FOR THE REDS HIT 630 HOME RUNS, WON 10 GOLDEN GLOVE AWARDS, AND WAS A 13-TIME ALL-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ULEE'S G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OES JOSH BROLIN PORTRAY IN THE TITLE ROLE OF A 2008 FILM DIRECTED BY OLIVER 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RIQUE  IGLES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KING OF LATIN POP, WITH OVER 150 #1 H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PRODUCING "ONE FLEW OVER THE CUCKOO'S NEST" AND ACTING IN "WALL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38080" y="434340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THE  SAME  PROFESSION AS  THEIR  FA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HOLDS THE RECORDS FOR NUMBER OF TOUCHDOWN PASSES AND TOTAL PASSING Y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ALOTTE" AND  "TOO LATE FOR GOODB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STRIAN COMPOSED THE BLUE DANUBE WALTZ AND THE EMPEROR WALT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UER ON THE TV SERIES "24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ERFIELDER FOR THE REDS HIT 630 HOME RUNS, WON 10 GOLDEN GLOVE AWARDS, AND WAS A 13-TIME ALL-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"ULEE'S G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ONSIDERED THE KING OF LATIN POP, WITH OVER 150 #1 HI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5T22:47:16Z</dcterms:created>
  <dc:creator>Jennifer Budzinski</dc:creator>
  <dc:description/>
  <dc:language>en-US</dc:language>
  <cp:lastModifiedBy>Erich Friedman</cp:lastModifiedBy>
  <dcterms:modified xsi:type="dcterms:W3CDTF">2020-08-24T12:04:05Z</dcterms:modified>
  <cp:revision>384</cp:revision>
  <dc:subject/>
  <dc:title>Slide 1</dc:title>
</cp:coreProperties>
</file>