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0A35-407D-491C-B5A0-AA4E4AFB2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7694-6A72-45EE-B88B-55BDF599A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AC4A-E4DB-4389-A8A8-33A259071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BB47-6BE2-4155-BAAF-DAD2EC04D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4704-6662-4E26-B2B0-0AD3304FD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5480-E540-4ECC-ABE7-53A5335BF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C234-D076-47EC-B35E-BCB64C2A1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DB5F-90EC-429E-A8EE-984F45D9B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42E5-6C0D-4DC5-ACD3-9B4AF509D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17B2-C531-4000-91EA-9206B61CD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68A3-E345-4F10-BB3E-0250E5023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8E90-AB4E-459A-9ACF-601E3DFD2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902B-F7DE-4B4A-9FC0-3B24CD013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5B83-316B-4250-BA77-C312B07F9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0E77-0C76-4EC8-85AA-E31337FBF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2DE9-C3DC-48F3-A60B-3008BE054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5F8A-8D1F-47A7-80D1-E01590C8F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EC39-32AE-4D72-9428-24A058E5E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D35D-1F84-48AE-91DA-452BEE3B4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EB4E-3577-447C-B448-9C7CEAEC3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B65D-FEB1-46F7-A37A-2A14C090F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5D86-DD05-4C9A-838D-861480C0F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9451-B031-4DE7-A398-E26E1FE21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0666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OSCARS FOR PRODUCING "ONE FLEW OVER THE CUCKOO'S NEST" AND ACTING IN "WALL STRE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W.  B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OES JOSH BROLIN PORTRAY IN THE TITLE ROLE OF A 2008 FILM DIRECTED BY OLIVER ST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YTON  M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HOLDS THE RECORDS FOR NUMBER OF TOUCHDOWN PASSES AND TOTAL PASSING Y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AN  LEN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VALOTTE" AND  "TOO LATE FOR GOODBY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AN  STRAU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2120"/>
            <a:ext cx="7543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STRIAN COMPOSED THE BLUE DANUBE WALTZ AND THE EMPEROR WALT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EFER  SUTH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CK BAUER ON THE TV SERIES "24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  GRIFFEY  J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NTERFIELDER FOR THE REDS HIT 630 HOME RUNS, WON 10 GOLDEN GLOVE AWARDS, AND WAS A 13-TIME ALL-ST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R  FO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28600" y="762120"/>
            <a:ext cx="8686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IN "ULEE'S GO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OES JOSH BROLIN PORTRAY IN THE TITLE ROLE OF A 2008 FILM DIRECTED BY OLIVER ST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RIQUE  IGLES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ONSIDERED THE KING OF LATIN POP, WITH OVER 150 #1 HI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DOUG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OSCARS FOR PRODUCING "ONE FLEW OVER THE CUCKOO'S NEST" AND ACTING IN "WALL STRE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8080" y="4343400"/>
            <a:ext cx="7467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VE  THE  SAME  PROFESSION AS  THEIR  FA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HOLDS THE RECORDS FOR NUMBER OF TOUCHDOWN PASSES AND TOTAL PASSING Y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VALOTTE" AND  "TOO LATE FOR GOODBY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STRIAN COMPOSED THE BLUE DANUBE WALTZ AND THE EMPEROR WALTZ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CK BAUER ON THE TV SERIES "24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NTERFIELDER FOR THE REDS HIT 630 HOME RUNS, WON 10 GOLDEN GLOVE AWARDS, AND WAS A 13-TIME ALL-ST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IN "ULEE'S GO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ONSIDERED THE KING OF LATIN POP, WITH OVER 150 #1 HI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22:47:16Z</dcterms:created>
  <dc:creator>Jennifer Budzinski</dc:creator>
  <dc:description/>
  <dc:language>en-US</dc:language>
  <cp:lastModifiedBy>Erich Friedman</cp:lastModifiedBy>
  <dcterms:modified xsi:type="dcterms:W3CDTF">2020-08-24T12:04:05Z</dcterms:modified>
  <cp:revision>384</cp:revision>
  <dc:subject/>
  <dc:title>Slide 1</dc:title>
</cp:coreProperties>
</file>