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26F2-B1D3-4020-A619-FCB2014D7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61EF-6A2A-44AA-A994-851522F37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0E52-E079-4B84-A714-E2C7124AD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8501-62FB-4ADB-9BA9-9C48C33D8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14FB-B8B4-4F9F-A20E-CBC696854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08B5-75CB-4A8D-819D-68DB9DB6C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7924-07A8-416B-B45A-472D6B61A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072A-4EEF-40D7-90E9-1E74D7494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FB84-2A4A-4E8C-BD93-8F126EA21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9231-36CB-49B2-938D-8E1C4C1B2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C164-17D4-4D68-8C39-0FF6133A9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D647-3BF2-402B-898D-736D5E544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DCB5-398F-4D07-AE89-0420BD804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9E82-B085-4F13-AA9E-0A2B97282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3ADF-985C-448E-AE02-1E79F83F3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B09F-25E5-4053-A19B-4EB01DA6B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5DE0-A976-463E-B6C5-FF7E3EBF7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DC94-D79E-4947-BDF6-24F3E0B2E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B115-CFC0-4994-8BC9-232395712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8DA4-FF7C-4454-BF83-74F040FBF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898D-E148-4F28-8E85-F2E5E24A5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D86B-5C7A-4D47-9E78-1000A493F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07F9-3773-4543-8C58-D5E8B0005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4190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ALLER OF THESE 2 MUP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5874eb1142e4d62873855a4a.jpg"/>
          <p:cNvPicPr/>
          <p:nvPr/>
        </p:nvPicPr>
        <p:blipFill>
          <a:blip r:embed="rId1"/>
          <a:stretch/>
        </p:blipFill>
        <p:spPr>
          <a:xfrm>
            <a:off x="4800600" y="1143000"/>
            <a:ext cx="38829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RICK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ULT COMIC VOICED MR. POTATO HEAD IN THE "TOY STORY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GGY  LI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200240" y="762120"/>
            <a:ext cx="674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LOWER CHILD JULIE BARNES IN TV'S "THE MOD SQU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NCINNATI REDS PLAYER / MANAGER WAS BANNED FROM BASEBALL FOR GAMB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IRST LADY WAS THE FIRST TO ANNOUNCE SHE HAD A LONG-RUNNING BATTLE WITH ADD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OF  A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ROINE OF FRANCE WAS NICKNAMED "THE MAID OF ORLÉA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FED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7796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TENNIS PLAYER HAS WON THE MOST MAJOR TIT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2895480" y="4876920"/>
            <a:ext cx="3353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DOCUMENTARIES "THE CIVIL WAR", "BASEBALL", AND "PROHIBI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ULT COMIC VOICED MR. POTATO HEAD IN THE "TOY STORY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HOU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LLUSIONIST BORN EHRICH WEISS WAS NOTED FOR HIS SENSATIONAL ESCAPE ACTS AND DEBUNKING FAKE SPIRITUAL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8808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990720"/>
            <a:ext cx="4648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ALLER OF THESE 2 MUP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5874eb1142e4d62873855a4a.jpg"/>
          <p:cNvPicPr/>
          <p:nvPr/>
        </p:nvPicPr>
        <p:blipFill>
          <a:blip r:embed="rId1"/>
          <a:stretch/>
        </p:blipFill>
        <p:spPr>
          <a:xfrm>
            <a:off x="4800600" y="1143000"/>
            <a:ext cx="38829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800280" y="434340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FIRST  NAMES  OF  CHARACTERS  ON  "MAD  M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LOWER CHILD JULIE BARNES IN TV'S "THE MOD SQU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NCINNATI REDS PLAYER / MANAGER WAS BANNED FROM BASEBALL FOR GAMB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IRST LADY WAS THE FIRST TO ANNOUNCE SHE HAD A LONG-RUNNING BATTLE WITH ADD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ROINE OF FRANCE WAS NICKNAMED "THE MAID OF ORLÉA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TENNIS PLAYER HAS WON THE MOST MAJOR TITL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DOCUMENTARIES "THE CIVIL WAR", "BASEBALL", AND "PROHIBI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LLUSIONIST BORN EHRICH WEISS WAS NOTED FOR HIS SENSATIONAL ESCAPE ACTS AND DEBUNKING FAKE SPIRITUALIS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0T17:39:24Z</dcterms:created>
  <dc:creator>Jennifer Budzinski</dc:creator>
  <dc:description/>
  <dc:language>en-US</dc:language>
  <cp:lastModifiedBy>Erich Friedman</cp:lastModifiedBy>
  <dcterms:modified xsi:type="dcterms:W3CDTF">2020-08-28T20:56:26Z</dcterms:modified>
  <cp:revision>339</cp:revision>
  <dc:subject/>
  <dc:title>Slide 1</dc:title>
</cp:coreProperties>
</file>