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E87F-9AA2-4349-B752-0ECD421D7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FEC9-B857-42D3-B92C-78BA04C7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91DA-CA07-4D88-BC24-A52558453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5753-BC5F-41B6-B787-F57D81CEE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DE85-690C-48B1-9EF2-CB3E0D997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168F-7F0E-440F-966D-6BF57D99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DD52-F39F-4FCE-870E-AB7A3DA4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BF0F-0FFC-44FF-8311-0A7DBBC1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FE56-A0BF-45F9-B9B1-FB7CC8566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BF83-F135-4D9A-99D2-AB3B94A85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450A-7AB3-434A-939B-914F5B018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13AA-F621-411C-BFCD-DF1FBB4F8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5175-D957-4078-AD74-82DF56D25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9ED2-83D8-4752-8089-B11C12B7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C8DA-899E-4D69-BE01-0AFDB9B35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5957-877A-4C31-B99C-965CD1283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BEBE-BC8F-4D9C-80C4-B795E0AC9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2DCE-C763-48A1-B2FE-D45DA3C45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46FF-0433-4B1F-A8A9-EA4B57730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A8B2-4A02-4B76-B653-010E00AF9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54EA-55F7-4B63-B005-BD10768CF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F804-7E4D-491F-B6A1-E397E9644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7A78-8577-4224-9D48-54B191684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5960" y="106632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ALLER OF THESE 2 MUP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5874eb1142e4d62873855a4a.jpg"/>
          <p:cNvPicPr/>
          <p:nvPr/>
        </p:nvPicPr>
        <p:blipFill>
          <a:blip r:embed="rId1"/>
          <a:stretch/>
        </p:blipFill>
        <p:spPr>
          <a:xfrm>
            <a:off x="4800600" y="1143000"/>
            <a:ext cx="38829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RICK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ULT COMIC VOICED MR. POTATO HEAD IN THE "TOY STORY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GGY  LI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200240" y="762120"/>
            <a:ext cx="674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LOWER CHILD JULIE BARNES IN TV'S "THE MOD SQU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S PLAYER / MANAGER WAS BANNED FROM BASEBALL FOR GAMB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WAS THE FIRST TO ANNOUNCE SHE HAD A LONG-RUNNING BATTLE WITH ADD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OF  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OINE OF FRANCE WAS NICKNAMED "THE MAID OF ORLÉA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FEDE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7796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TENNIS PLAYER HAS WON THE MOST MAJOR TIT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2895480" y="4876920"/>
            <a:ext cx="3353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DOCUMENTARIES "THE CIVIL WAR", "BASEBALL", AND "PROHIBI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ULT COMIC VOICED MR. POTATO HEAD IN THE "TOY STORY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HOUD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LLUSIONIST BORN EHRICH WEISS WAS NOTED FOR HIS SENSATIONAL ESCAPE ACTS AND DEBUNKING FAKE SPIRITUALIS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8808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990720"/>
            <a:ext cx="4648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ALLER OF THESE 2 MUP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5874eb1142e4d62873855a4a.jpg"/>
          <p:cNvPicPr/>
          <p:nvPr/>
        </p:nvPicPr>
        <p:blipFill>
          <a:blip r:embed="rId1"/>
          <a:stretch/>
        </p:blipFill>
        <p:spPr>
          <a:xfrm>
            <a:off x="4800600" y="1143000"/>
            <a:ext cx="38829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00280" y="434340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 CHARACTERS  ON  "MAD  ME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LOWER CHILD JULIE BARNES IN TV'S "THE MOD SQU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NCINNATI REDS PLAYER / MANAGER WAS BANNED FROM BASEBALL FOR GAMB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IRST LADY WAS THE FIRST TO ANNOUNCE SHE HAD A LONG-RUNNING BATTLE WITH ADD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ROINE OF FRANCE WAS NICKNAMED "THE MAID OF ORLÉA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TENNIS PLAYER HAS WON THE MOST MAJOR TITL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DOCUMENTARIES "THE CIVIL WAR", "BASEBALL", AND "PROHIBI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LLUSIONIST BORN EHRICH WEISS WAS NOTED FOR HIS SENSATIONAL ESCAPE ACTS AND DEBUNKING FAKE SPIRITUALIS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17:39:24Z</dcterms:created>
  <dc:creator>Jennifer Budzinski</dc:creator>
  <dc:description/>
  <dc:language>en-US</dc:language>
  <cp:lastModifiedBy>Erich Friedman</cp:lastModifiedBy>
  <dcterms:modified xsi:type="dcterms:W3CDTF">2020-08-28T20:56:26Z</dcterms:modified>
  <cp:revision>339</cp:revision>
  <dc:subject/>
  <dc:title>Slide 1</dc:title>
</cp:coreProperties>
</file>