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0CDE-1EEE-4868-BA20-1FC8B67C8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BD6F-9473-429B-983D-A58B63FE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0406-D057-4398-9889-834766EC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3800-BC6A-44DF-9FA0-E99AD52A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9788-5741-4BC3-9A38-CBFD5E84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054-9DD6-4392-AA34-40DCCD22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4F9-F438-4A2A-AF6E-2789377D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D40-E751-4F25-AD19-D951C1B3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07F-6B05-44A7-9449-EF49ED51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514-8765-4668-AAE5-4FF7CDA54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1F24-0954-4802-86DB-FBF072183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C146-B156-4774-A5E5-D5E1DC46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6EA1-BFC8-4594-B53E-F94198CB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2669-E607-4BF9-94A0-FACECBEE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5A04-4F61-4A09-B323-7EB3E5B85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586-BB7A-48E9-A3EB-3C2687419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4312-7D43-4D26-87EB-8E4213BE6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83E-8355-4280-9D78-6B117B1A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B1A4-65F4-418E-83C1-C41FFE5A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C82-456E-46F2-BC84-D3173CE6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45F-E03B-421B-8E31-448EFEF3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A29-5D25-40F3-AC4B-3ED79ADB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CFD-46DB-4450-BEF0-6939B2B8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LLER OF THESE 2 M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5874eb1142e4d62873855a4a.jpg"/>
          <p:cNvPicPr/>
          <p:nvPr/>
        </p:nvPicPr>
        <p:blipFill>
          <a:blip r:embed="rId1"/>
          <a:stretch/>
        </p:blipFill>
        <p:spPr>
          <a:xfrm>
            <a:off x="4800600" y="1143000"/>
            <a:ext cx="3882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LT COMIC VOICED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I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200240" y="762120"/>
            <a:ext cx="674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IN TV'S "THE MOD SQU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/ MANAGER WAS BANNED FROM BASEBALL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WAS THE FIRST TO ANNOUNCE SHE HAD A LONG-RUNNING BATTLE WITH AD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OINE OF FRANCE WAS NICKNAMED "THE MAID OF ORLÉ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7796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TENNIS PLAYER HAS WON THE MOST MAJOR TIT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2895480" y="4876920"/>
            <a:ext cx="33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DOCUMENTARIES "THE CIVIL WAR", "BASEBALL", AND "PROHIBI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LT COMIC VOICED MR. POTATO HEAD IN THE "TOY STORY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LLUSIONIST BORN EHRICH WEISS WAS NOTED FOR HIS SENSATIONAL ESCAPE ACTS AND DEBUNKING FAKE SPIRITUAL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8808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LLER OF THESE 2 M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5874eb1142e4d62873855a4a.jpg"/>
          <p:cNvPicPr/>
          <p:nvPr/>
        </p:nvPicPr>
        <p:blipFill>
          <a:blip r:embed="rId1"/>
          <a:stretch/>
        </p:blipFill>
        <p:spPr>
          <a:xfrm>
            <a:off x="4800600" y="1143000"/>
            <a:ext cx="3882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00280" y="434340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 CHARACTERS  ON  "MAD  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IN TV'S "THE MOD SQU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/ MANAGER WAS BANNED FROM BASEBALL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WAS THE FIRST TO ANNOUNCE SHE HAD A LONG-RUNNING BATTLE WITH ADD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OINE OF FRANCE WAS NICKNAMED "THE MAID OF ORLÉ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TENNIS PLAYER HAS WON THE MOST MAJOR TITL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DOCUMENTARIES "THE CIVIL WAR", "BASEBALL", AND "PROHIBI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LLUSIONIST BORN EHRICH WEISS WAS NOTED FOR HIS SENSATIONAL ESCAPE ACTS AND DEBUNKING FAKE SPIRITUALIS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7:39:24Z</dcterms:created>
  <dc:creator>Jennifer Budzinski</dc:creator>
  <dc:description/>
  <dc:language>en-US</dc:language>
  <cp:lastModifiedBy>Erich Friedman</cp:lastModifiedBy>
  <dcterms:modified xsi:type="dcterms:W3CDTF">2020-08-28T20:56:26Z</dcterms:modified>
  <cp:revision>339</cp:revision>
  <dc:subject/>
  <dc:title>Slide 1</dc:title>
</cp:coreProperties>
</file>