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A397-9434-4961-A6F4-7972AA585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8E62-3F84-4B08-9CB3-68DFA863A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81B6-C35C-4ACB-8080-60BB231D9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13E1-2CA9-4CFF-84E0-D70E53E22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785B-9172-450E-9F30-AD3EE175B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1248-7D5C-4220-AFE7-93ED654E6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CF91-3A67-478B-BA37-4154FBAF6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B94C-2125-469F-99F4-13F78B8C6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2CD3-D16C-4F70-A35B-FEC150095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3F2C-79B8-4873-8D69-57CAC0822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3B52-4FBE-443A-80AA-A30B32FE3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C4AD-4F21-4EA0-A796-1E20D866E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1063-AC10-49AC-A5BB-7AAEB6A10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1A2D-EB1D-4D07-BC3E-B772B2C5B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B3B9-4D42-4522-962C-43A8039E7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E997-72D1-40B5-9323-3B8B66FF3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D19B-CF18-4821-BE65-9C21ABA0D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7CFE-5722-461E-897A-764280CF2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FB17-7574-437F-81F2-C65B7AFAE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6B10-60E0-4335-AD04-FBAF42CE9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2BA0-745C-4FB4-B9C8-1F0F1F2B5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F7C2-0575-4B03-B23E-3309D82B7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D489-92FB-4674-9057-A234F87C9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INSECT REPELL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676520" y="4800600"/>
            <a:ext cx="5790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X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143000" y="76212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 IS "MILLION DOLLAR BABY" AB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838080" y="480060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RESIDENT DWIGHT EISENHOWER'S MIDDLE INIT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B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NTER-LEFT PARTY IN THE U.K. WAS LAST IN POWER FROM 1997 TO 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295280" y="480060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RESA) 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REVIOUS PRIME MINISTER OF THE U.K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9744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RIS  (KEARNS  GOODW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0" y="914400"/>
            <a:ext cx="4343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IS PRESIDENTIAL HISTORIA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330px-Doris_Kearns_Goodwin_(11131).jpg"/>
          <p:cNvPicPr/>
          <p:nvPr/>
        </p:nvPicPr>
        <p:blipFill>
          <a:blip r:embed="rId1"/>
          <a:stretch/>
        </p:blipFill>
        <p:spPr>
          <a:xfrm>
            <a:off x="4495680" y="990720"/>
            <a:ext cx="43261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TI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ORMING OF WHAT POLITICAL PRISON WAS THE FLASHPOINT OF THE FRENCH REVOLU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OBJECT IN OUR SOLAR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 IS "MILLION DOLLAR BABY" ABOU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FILM ABOUT    HIGH SCHOOL STARRED MATTHEW BRODERICK AND REESE WITHERSP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43000" y="762120"/>
            <a:ext cx="6858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INSECT REPELL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295280" y="4343400"/>
            <a:ext cx="6553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BY  THE  WORD  "DA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RESIDENT DWIGHT EISENHOWER'S MIDDLE INITI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NTER-LEFT PARTY IN THE U.K. WAS LAST IN POWER FROM 1997 TO 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REVIOUS PRIME MINISTER OF THE U.K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-360" y="9144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IS PRESIDENTIAL HISTORIA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330px-Doris_Kearns_Goodwin_(11131).jpg"/>
          <p:cNvPicPr/>
          <p:nvPr/>
        </p:nvPicPr>
        <p:blipFill>
          <a:blip r:embed="rId1"/>
          <a:stretch/>
        </p:blipFill>
        <p:spPr>
          <a:xfrm>
            <a:off x="4495680" y="990720"/>
            <a:ext cx="43261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ORMING OF WHAT POLITICAL PRISON WAS THE FLASHPOINT OF THE FRENCH REVOLUTI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OBJECT IN OUR SOLAR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FILM ABOUT  HIGH SCHOOL STARRED MATTHEW BRODERICK AND REESE WITHERSP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9T18:55:19Z</dcterms:created>
  <dc:creator>Jennifer Budzinski</dc:creator>
  <dc:description/>
  <dc:language>en-US</dc:language>
  <cp:lastModifiedBy>Erich Friedman</cp:lastModifiedBy>
  <dcterms:modified xsi:type="dcterms:W3CDTF">2020-08-28T20:57:32Z</dcterms:modified>
  <cp:revision>357</cp:revision>
  <dc:subject/>
  <dc:title>Slide 1</dc:title>
</cp:coreProperties>
</file>