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B1DA-DAEE-4D46-AD42-F4E2576CD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A96-C1FB-41DA-8BE8-774F6BEE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05D1-E86C-4E4D-98E8-EEB5B5E4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EEE-B17E-4345-961B-757174AE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3BC-9DF3-4F32-BEE4-15382098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BF4-FBDA-4C54-8E08-2DF144A7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569-55FC-4301-9FE4-5E5FA1CA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6A42-2379-4969-9F77-D4C7192C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53D-10C6-4C8F-88C5-22AABC9D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5554-FCE1-46AC-903A-66E2138C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4AB8-E6CD-429A-883F-700ED53C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D2D5-5EB3-4A81-8139-70A5FB74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ABE1-EBD7-4CE5-A567-78B6DA27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188-50B3-4BE8-96AF-7ECAEFA2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BDB-791D-4924-B3EA-221F7288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D7D1-1A57-4E12-B97B-AC4D4619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3E44-983D-4AB9-BF28-285B970F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5ED-8C71-4EA3-BCC5-ADADC700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219-78F1-4E67-B8CE-7127FA85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5D0-AB09-4E52-AF7C-CBEAF3C1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A73C-7732-440D-8C67-0B317B03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7BC-FBC7-4019-AEB6-F573E73D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63DB-0589-443F-BE49-0A33BF7A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952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RESA)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974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(KEARNS  GOODW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91440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T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  HIGH SCHOOL STARRED MATTHEW BRODERICK AND REESE WITHERSP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D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HIGH SCHOOL STARRED MATTHEW BRODERICK AND REESE WITHERSP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18:55:19Z</dcterms:created>
  <dc:creator>Jennifer Budzinski</dc:creator>
  <dc:description/>
  <dc:language>en-US</dc:language>
  <cp:lastModifiedBy>Erich Friedman</cp:lastModifiedBy>
  <dcterms:modified xsi:type="dcterms:W3CDTF">2020-08-28T20:57:32Z</dcterms:modified>
  <cp:revision>357</cp:revision>
  <dc:subject/>
  <dc:title>Slide 1</dc:title>
</cp:coreProperties>
</file>