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3DF4-9601-4A9B-9C94-390533450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0207-68E1-4B18-9F53-7B382065A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3817-9CA9-4DC5-8CBD-55B99410C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919C-71F0-4BAC-A9F6-0AD08B60C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B1C7-9604-46B7-8395-529C487E0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8047-7D87-4494-B114-5452DF292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711C-9ACF-46BB-8CBD-264C04C83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7038-1C67-4767-B7A0-DC2E8BBE7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2150-AC6E-4530-9EAC-038E26738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09ED-BBF2-444A-B6BE-57ECE2E4B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E14D-5A22-424D-B28C-879E15C4A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5628-20CE-4E43-9D71-08ADB7756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C8CC-3B52-4EAA-B484-EEAEACC68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7E56-49C7-411D-B7F9-7474282D5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C861-B8FE-4FB9-BDB6-24FD441E2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C7EA-FDA4-4E32-A66E-5E05681D9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EB4B-20F2-45A3-A5C4-C6156B1B3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A55C-9321-4EEA-94EE-391904FB6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F341-B26E-4519-BF92-F93C036D0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0333-6EA2-4DA0-B02C-F22F1339A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F326-4254-496B-9ACC-683B5309D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70AF-5DC5-4063-87AC-5A752C941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E05C-9D38-4E07-A2C9-84684445C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INSECT REPELL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00600"/>
            <a:ext cx="5790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X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 IS "MILLION DOLLAR BABY"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838080" y="480060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RESIDENT DWIGHT EISENHOWER'S MIDDLE INIT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B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NTER-LEFT PARTY IN THE U.K. WAS LAST IN POWER FROM 1997 TO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295280" y="480060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RESA) 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REVIOUS PRIME MINISTER OF THE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9744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IS  (KEARNS  GOODW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0" y="914400"/>
            <a:ext cx="4343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IS PRESIDENTIAL HISTORI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330px-Doris_Kearns_Goodwin_(11131).jpg"/>
          <p:cNvPicPr/>
          <p:nvPr/>
        </p:nvPicPr>
        <p:blipFill>
          <a:blip r:embed="rId1"/>
          <a:stretch/>
        </p:blipFill>
        <p:spPr>
          <a:xfrm>
            <a:off x="4495680" y="990720"/>
            <a:ext cx="43261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T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ORMING OF WHAT POLITICAL PRISON WAS THE FLASHPOINT OF THE FRENCH REVOLU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OBJECT IN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 IS "MILLION DOLLAR BABY" ABO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ABOUT    HIGH SCHOOL STARRED MATTHEW BRODERICK AND REESE WITHERSP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RAND OF INSECT REPELL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95280" y="4343400"/>
            <a:ext cx="6553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DA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RESIDENT DWIGHT EISENHOWER'S MIDDLE INIT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NTER-LEFT PARTY IN THE U.K. WAS LAST IN POWER FROM 1997 TO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REVIOUS PRIME MINISTER OF THE U.K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-360" y="9144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IS PRESIDENTIAL HISTORI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330px-Doris_Kearns_Goodwin_(11131).jpg"/>
          <p:cNvPicPr/>
          <p:nvPr/>
        </p:nvPicPr>
        <p:blipFill>
          <a:blip r:embed="rId1"/>
          <a:stretch/>
        </p:blipFill>
        <p:spPr>
          <a:xfrm>
            <a:off x="4495680" y="990720"/>
            <a:ext cx="43261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ORMING OF WHAT POLITICAL PRISON WAS THE FLASHPOINT OF THE FRENCH REVOLUTI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OBJECT IN OUR SOLAR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ABOUT  HIGH SCHOOL STARRED MATTHEW BRODERICK AND REESE WITHERSP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9T18:55:19Z</dcterms:created>
  <dc:creator>Jennifer Budzinski</dc:creator>
  <dc:description/>
  <dc:language>en-US</dc:language>
  <cp:lastModifiedBy>Erich Friedman</cp:lastModifiedBy>
  <dcterms:modified xsi:type="dcterms:W3CDTF">2020-08-28T20:57:32Z</dcterms:modified>
  <cp:revision>357</cp:revision>
  <dc:subject/>
  <dc:title>Slide 1</dc:title>
</cp:coreProperties>
</file>