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060E-7F6A-4139-8E31-DEB871999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A976F-A9B4-47AA-97D5-B154A73E73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1563-89E5-44C4-955B-EB697B888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6C71-3338-4071-BA41-39D43CBA1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EF44-D93F-458C-B794-8843567BEC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DE8D-65FC-43B6-9993-9F389E8D85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0EE6-4B5A-48A1-B12E-D4D89509B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D30D-2FF6-4E83-9F9A-A7DCC7DCA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108A-964B-46BB-AEF0-17920F831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C55C-8AEB-4A45-A668-80215B954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BDE0-BB10-45C5-90B8-CDA78DEB7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0214-BF6F-488E-BC7D-74812AFFB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AA88-7621-49CB-94FA-55CF1E9CD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B629-C1C4-43DA-AC29-2D2C64A25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C2F1-2B64-413B-A270-99B5FEDCD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4885-2E19-4382-8966-83AC0CA95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E940-2245-48A0-8BA4-C7915348A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094D-ED84-45F2-A676-BF12F0D6C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2947-39B1-4C75-8896-CCD8F7790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72A0-C562-43BE-9E69-7EB171934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856A-9FD1-468A-ADA7-8993CA037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2EFD-427B-4F7D-811D-1F8143A95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E908-F0E9-49DA-8D30-033F2CA15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581120" y="990360"/>
            <a:ext cx="5981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1940-1945 AND 1951-195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ARW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8880" y="762120"/>
            <a:ext cx="7086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BLISHED "ON THE ORIGIN OF SPEC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WA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361800" y="762120"/>
            <a:ext cx="8420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IMPROVED THE NEWCOMEN STEAM ENGINE PROVING FUNDAMENTAL TO THE INDUSTRIAL REVOL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IZABETH  F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6212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KER WAS KNOWN AS "THE ANGEL OF PRISONS" FOR HER EFFORTS AT PRISON R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SM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WEALTH OF NATIONS", THE FIRST MODERN WORK OF ECONOM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DICK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LIVER TWIS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LIAM  SHAKESPE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143000" y="762120"/>
            <a:ext cx="6858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BARD OF AV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76920"/>
            <a:ext cx="5943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E  AUS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UBLISHED "ON THE ORIGIN OF SPEC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295280" y="4876920"/>
            <a:ext cx="6553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ORENCE  NIGHTING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R OF NURSES DURING THE CRIMEAN WAR FOUNDED THE FIRST SECULAR NURSING SCHOOL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STON  CHUR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1940-1945 AND 1951-195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0" y="4876920"/>
            <a:ext cx="9144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PPEARED  ON  BRITISH  CURR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42720" y="76176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IMPROVED THE NEWCOMEN STEAM ENGINE, PROVING FUNDAMENTAL TO THE INDUSTRIAL REVOL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KER WAS KNOWN AS "THE ANGEL OF PRISONS" FOR HER EFFORTS AT PRISON REFOR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THE WEALTH OF NATIONS", THE FIRST MODERN WORK OF ECONOM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OLIVER TWIS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KNOWN AS "THE BARD OF AV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"PRIDE AND PREJUDI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NAGER OF NURSES DURING THE CRIMEAN WAR FOUNDED THE FIRST SECULAR NURSING SCHOOL IN THE WORL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6:02:54Z</dcterms:created>
  <dc:creator>Jennifer Budzinski</dc:creator>
  <dc:description/>
  <dc:language>en-US</dc:language>
  <cp:lastModifiedBy>Erich Friedman</cp:lastModifiedBy>
  <dcterms:modified xsi:type="dcterms:W3CDTF">2020-08-28T20:58:38Z</dcterms:modified>
  <cp:revision>414</cp:revision>
  <dc:subject/>
  <dc:title>Slide 1</dc:title>
</cp:coreProperties>
</file>