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97A4-2430-40B8-9289-B62B04D33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E5AD-1276-47A1-9DD3-9757DBB32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2488-9B3E-432C-98CD-FA7CEAD00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FAD7-98D2-4FF4-9D6A-1C26A1DB2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FD78-B93A-4BCA-B107-3A33E87B9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FB19-593E-4965-9941-A1310FD92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E6C7-C285-4D6A-9272-2AEE2EEB9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F5D6-67C5-4492-9E19-7E923F7DA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FE3C-FA8D-40FB-AAA0-BF05649A0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B199-19A7-4701-A1EA-8E9435169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4AED-5E8C-4716-8109-936EF90D4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E683-26BC-4423-A5E3-385E76BC9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C40E-20F2-446D-B326-E5D4A097B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EE63-D142-4AFD-A6EE-FD466809E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96FD-2EAC-4A97-8A89-1B2BEA6FB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03CC-7B60-496D-BF89-29E0F7FF2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A3FD-26B7-4CFC-AA3D-8D4B4D1F4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8646-6288-4BAC-B181-7EB12744D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B41A-095C-42C8-B535-9C37E89B0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96EE-16AC-44C9-9053-340C2F9BB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13DB-7B68-4ADF-A5B0-3A1953DD7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B814-FF48-44F7-88BA-3D614A592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3F1F-D687-476D-BB5C-D6C5BD728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81120" y="990360"/>
            <a:ext cx="5981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IME MINISTER OF THE U.K. 1940-1945 AND 1951-195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DARW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UBLISHED "ON THE ORIGIN OF SPEC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WA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61800" y="762120"/>
            <a:ext cx="8420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VENTOR IMPROVED THE NEWCOMEN STEAM ENGINE PROVING FUNDAMENTAL TO THE INDUSTRIAL REVOL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IZABETH  F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KER WAS KNOWN AS "THE ANGEL OF PRISONS" FOR HER EFFORTS AT PRISON REFOR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AM  SM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38120" y="762120"/>
            <a:ext cx="826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WEALTH OF NATIONS", THE FIRST MODERN WORK OF ECONOM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DICK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OLIVER TWI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SHAKESPE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43000" y="762120"/>
            <a:ext cx="6858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KNOWN AS "THE BARD OF AV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E  AUS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333440" y="762120"/>
            <a:ext cx="6477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PRIDE AND PREJUD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UBLISHED "ON THE ORIGIN OF SPECI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RENCE  NIGHTING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NAGER OF NURSES DURING THE CRIMEAN WAR FOUNDED THE FIRST SECULAR NURSING SCHOOL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STON  CHURC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IME MINISTER OF THE U.K. 1940-1945 AND 1951-195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769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PEARED  ON  BRITISH  CURR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VENTOR IMPROVED THE NEWCOMEN STEAM ENGINE, PROVING FUNDAMENTAL TO THE INDUSTRIAL REVOL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KER WAS KNOWN AS "THE ANGEL OF PRISONS" FOR HER EFFORTS AT PRISON REFOR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WEALTH OF NATIONS", THE FIRST MODERN WORK OF ECONOM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OLIVER TWI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333440" y="761760"/>
            <a:ext cx="6477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KNOWN AS "THE BARD OF AV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PRIDE AND PREJUDI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NAGER OF NURSES DURING THE CRIMEAN WAR FOUNDED THE FIRST SECULAR NURSING SCHOOL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3T16:02:54Z</dcterms:created>
  <dc:creator>Jennifer Budzinski</dc:creator>
  <dc:description/>
  <dc:language>en-US</dc:language>
  <cp:lastModifiedBy>Erich Friedman</cp:lastModifiedBy>
  <dcterms:modified xsi:type="dcterms:W3CDTF">2020-08-28T20:58:38Z</dcterms:modified>
  <cp:revision>414</cp:revision>
  <dc:subject/>
  <dc:title>Slide 1</dc:title>
</cp:coreProperties>
</file>