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07F5-106E-4F93-944C-58D845A8A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5D8F-2F96-4ECD-A7A9-4586A6922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03D1-4471-435E-A752-890E6B422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68BA-3D1E-4CCB-9CE1-32528976F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3A2A-F569-4480-A041-1B0E40855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D75D-CA53-4234-AC1B-00F1C7B21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8377-7502-47F3-887C-9FA563B48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7ACE-D95A-455C-91B9-5D1E91BD0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F8EC-9854-4147-8B6B-A06D220FF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1E5E-F090-4685-A072-29165A64E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E882-6584-4FF4-A4E4-CE26224FA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8F78-CCE8-4DBE-BFA2-0FE090280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4881-0C59-41E5-9F07-36A23A42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F115-655F-4300-A490-527FE699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7373-C48B-4831-9A89-BA8A4FE5C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6615-F531-4B83-AE35-8DAC3153F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8E94-8A6F-4299-B4A1-14F80019D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8570-99F2-43FC-9831-BA069F095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9ABA-97E3-4BE1-B432-4C39DE281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F06B-1BE1-485C-A16E-9023DEDB8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BCAE-0DD6-4D24-80CB-5C388BDAB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B862-3C18-4D6B-831F-E7211488F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57A0-AA3C-4FC4-9A10-EABFC387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81120" y="990360"/>
            <a:ext cx="5981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1940-1945 AND 1951-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BLISHED "ON THE ORIGIN OF SPEC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W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IMPROVED THE NEWCOMEN STEAM ENGINE PROVING FUNDAMENTAL TO THE INDUSTRIAL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F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KER WAS KNOWN AS "THE ANGEL OF PRISONS" FOR HER EFFORTS AT PRISON RE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WEALTH OF NATIONS", THE FIRST MODERN WORK OF ECONOM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LIVER TW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SHAKESPE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BARD OF AV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AU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RIDE AND PREJUD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BLISHED "ON THE ORIGIN OF SPEC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  NIGHTING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AGER OF NURSES DURING THE CRIMEAN WAR FOUNDED THE FIRST SECULAR NURSING SCHOO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1940-1945 AND 1951-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ARED  ON  BRITISH  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IMPROVED THE NEWCOMEN STEAM ENGINE, PROVING FUNDAMENTAL TO THE INDUSTRIAL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KER WAS KNOWN AS "THE ANGEL OF PRISONS" FOR HER EFFORTS AT PRISON RE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WEALTH OF NATIONS", THE FIRST MODERN WORK OF ECONOM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LIVER TW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BARD OF AV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RIDE AND PREJUD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AGER OF NURSES DURING THE CRIMEAN WAR FOUNDED THE FIRST SECULAR NURSING SCHOOL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6:02:54Z</dcterms:created>
  <dc:creator>Jennifer Budzinski</dc:creator>
  <dc:description/>
  <dc:language>en-US</dc:language>
  <cp:lastModifiedBy>Erich Friedman</cp:lastModifiedBy>
  <dcterms:modified xsi:type="dcterms:W3CDTF">2020-08-28T20:58:38Z</dcterms:modified>
  <cp:revision>414</cp:revision>
  <dc:subject/>
  <dc:title>Slide 1</dc:title>
</cp:coreProperties>
</file>