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D0D4-F8F5-40C7-A974-164E2641A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CDDA-4DC0-4E3F-8A2F-22BEB077D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431C-BB93-4308-95E7-5B578DCAA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91E4-DAA8-4C40-967D-77978108E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9B5C-280A-4F3D-B70E-DDBE36A43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E911-F864-4586-94A7-819AE485E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B06A-4DFA-4958-95AF-CF8D3E0EA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CC8B-49CA-4197-B4B8-A968AC059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7A24-5326-45B6-B5F1-5AD3A16FB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CA40-DD19-4FE3-A794-6901B26D3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ECA4-9A62-4EB4-A9F0-BD5474451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4F8F-36F4-45C3-8F3B-19D689BDD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491E-BE73-4BD4-865B-12BB34D88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387F-CFF6-475C-835B-C93CC52E5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215A-B080-4224-9C1D-D5DCE6810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B424-523A-4B23-B8EA-6945C63A5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880D-7E65-4DFB-BF02-9AAE86C84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4AD5-AB6C-462A-8329-0B7363BB6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E6C3-7C22-4281-B381-FACD1E1AA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68F6-A2A7-4900-BF5B-708FC7E96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55E1-3C38-4924-93F2-AA834206D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C387-08DC-4D96-AD75-E7C2A2B69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12ED-699A-4347-BF05-1C272771E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ERSON COMMUNICATED WITH THESE SYMBO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12151216_f520.jpg"/>
          <p:cNvPicPr/>
          <p:nvPr/>
        </p:nvPicPr>
        <p:blipFill>
          <a:blip r:embed="rId1"/>
          <a:stretch/>
        </p:blipFill>
        <p:spPr>
          <a:xfrm>
            <a:off x="457200" y="3276720"/>
            <a:ext cx="822960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RFACE IS TENNIS PLAYED ON AT WIMBLE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DOES THE ZODIAC SIGN OF CANCER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  (BLITZ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428840" y="762120"/>
            <a:ext cx="6286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CNN'S LEAD POLITICAL ANC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ED PODS FROM THE MEXICAN SHRUB SEBASTIANIA PAVONIANA ARE FAMOUS FOR PERFORMING WHAT UNUSUAL A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UNTS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952560" y="776160"/>
            <a:ext cx="7238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CHARACTER DOES CHRIS HEMSWORTH PLAY IN A FAIRY-TALE MOVIE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WI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33520" y="76500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WAS PLAYED BY SCARLETT JOHANSSON IN THE 2018 FILM "AVENGERS: INFINITY W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AREA, COMMONLY USED FOR REAL ESTATE IN INDIA, IS EQUAL TO 2400 SQUARE F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RFACE IS TENNIS PLAYED ON AT WIMBLE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US SYSTEM IN ORLANDO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ERSON COMMUNICATED WITH THESE SYMB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12151216_f520.jpg"/>
          <p:cNvPicPr/>
          <p:nvPr/>
        </p:nvPicPr>
        <p:blipFill>
          <a:blip r:embed="rId1"/>
          <a:stretch/>
        </p:blipFill>
        <p:spPr>
          <a:xfrm>
            <a:off x="457200" y="3124080"/>
            <a:ext cx="8229600" cy="13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-792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P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DOES THE ZODIAC SIGN OF CANCER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33440" y="762120"/>
            <a:ext cx="64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CNN'S LEAD POLITICAL ANC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ED PODS FROM THE MEXICAN SHRUB SEBASTIANIA PAVONIANA ARE FAMOUS FOR PERFORMING WHAT UNUSUAL A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CHARACTER DOES CHRIS HEMSWORTH PLAY IN A FAIRY-TALE MOVIE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WAS PLAYED BY SCARLETT JOHANSSON IN THE 2018 FILM "AVENGERS: INFINITY W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AREA, COMMONLY USED FOR REAL ESTATE IN INDIA, IS EQUAL TO 2400 SQUARE F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US SYSTEM IN ORLANDO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4:04:46Z</dcterms:created>
  <dc:creator>Jennifer Budzinski</dc:creator>
  <dc:description/>
  <dc:language>en-US</dc:language>
  <cp:lastModifiedBy>Erich Friedman</cp:lastModifiedBy>
  <dcterms:modified xsi:type="dcterms:W3CDTF">2020-08-28T20:59:29Z</dcterms:modified>
  <cp:revision>423</cp:revision>
  <dc:subject/>
  <dc:title>Slide 1</dc:title>
</cp:coreProperties>
</file>