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0A95-4290-4578-BF07-484949D4D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787C-61F2-4866-90F5-8DCF4235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BD73-FE10-44AA-85FC-19226ED8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C2E-8614-4C8D-9D0D-E4832E9B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8767-38C2-4846-AC45-C9B7A5CF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7B4-BF18-4EA7-8E82-2BE458BE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DB6D-0FB9-475E-AED9-A593892B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BBF-DD2F-4C56-8F94-61896ECC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DFF1-2136-444A-8E2D-C8568C3A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560-0E56-418E-B524-3A5E1D0A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D8F7-BCE7-434F-9517-F97806BD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A9D7-73A7-496A-A6E5-69336C5B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114-380F-4620-B6DD-F46671A9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6D9-2C5C-4171-B410-309C4C8B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D7F0-59B2-4675-9D22-DB73E88B2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C171-C1D6-4CEB-B892-15FE89C08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1383-F3A4-4D7B-8B96-4565C78B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2B8-6E6E-4D84-82A2-BCA8834C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0953-707A-45E8-856D-3D6B1B19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543-2CEF-443D-ADA2-8DA7A56C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021-AC77-4253-A8D2-3EEC134C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248-F431-4565-893A-8BA1D4B0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869-8A58-474A-8E60-4E4356318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RSON COMMUNICATED WITH THESE SYMB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2151216_f520.jpg"/>
          <p:cNvPicPr/>
          <p:nvPr/>
        </p:nvPicPr>
        <p:blipFill>
          <a:blip r:embed="rId1"/>
          <a:stretch/>
        </p:blipFill>
        <p:spPr>
          <a:xfrm>
            <a:off x="457200" y="327672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FACE IS TENNIS PLAYED ON AT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DOES THE ZODIAC SIGN OF CANCER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(BLIT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428840" y="762120"/>
            <a:ext cx="6286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CNN'S LEAD POLITICAL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ED PODS FROM THE MEXICAN SHRUB SEBASTIANIA PAVONIANA ARE FAMOUS FOR PERFORMING WHAT UNUSUAL 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52560" y="77616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CHARACTER DOES CHRIS HEMSWORTH PLAY IN A FAIRY-TALE MOVIE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500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AS PLAYED BY SCARLETT JOHANSSON IN THE 2018 FILM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AREA, COMMONLY USED FOR REAL ESTATE IN INDIA, IS EQUAL TO 2400 SQUARE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FACE IS TENNIS PLAYED ON AT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RSON COMMUNICATED WITH THESE SYMB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12151216_f520.jpg"/>
          <p:cNvPicPr/>
          <p:nvPr/>
        </p:nvPicPr>
        <p:blipFill>
          <a:blip r:embed="rId1"/>
          <a:stretch/>
        </p:blipFill>
        <p:spPr>
          <a:xfrm>
            <a:off x="457200" y="312408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-792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DOES THE ZODIAC SIGN OF CANCER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CNN'S LEAD POLITICAL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ED PODS FROM THE MEXICAN SHRUB SEBASTIANIA PAVONIANA ARE FAMOUS FOR PERFORMING WHAT UNUSUAL A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CHARACTER DOES CHRIS HEMSWORTH PLAY IN A FAIRY-TALE MOVIE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AS PLAYED BY SCARLETT JOHANSSON IN THE 2018 FILM "AVENGERS: INFINITY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AREA, COMMONLY USED FOR REAL ESTATE IN INDIA, IS EQUAL TO 2400 SQUARE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4:04:46Z</dcterms:created>
  <dc:creator>Jennifer Budzinski</dc:creator>
  <dc:description/>
  <dc:language>en-US</dc:language>
  <cp:lastModifiedBy>Erich Friedman</cp:lastModifiedBy>
  <dcterms:modified xsi:type="dcterms:W3CDTF">2020-08-28T20:59:29Z</dcterms:modified>
  <cp:revision>423</cp:revision>
  <dc:subject/>
  <dc:title>Slide 1</dc:title>
</cp:coreProperties>
</file>