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37F3-F104-4436-9512-D65739578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0354C-EBD3-47B1-8256-3AEF7E110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08B64-9FFE-482E-AD73-52464531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7C9-C06E-4235-BBE6-0B3296788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4523-AF3C-492B-969C-B62518782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84F4-E39B-405B-A0FD-F57665B3E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8E3A-3338-47D1-91FD-A132F1480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751-3E34-42EE-8167-C5B16CD48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05C3-6B0C-40FC-9695-335345C95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381B-BDCB-47B4-A607-F3AEDCC34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A0D3-065A-43D2-AC1A-8CC51C9C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15E-3EF1-43EB-BB4E-D53821254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6C91-0007-4257-8DE0-EC99CD757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E0BE-1599-430F-855B-97F53777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EB8E-453A-4ED0-A8C7-117E8A77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AEEA-97D3-42F4-87ED-4109E802B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A800-4256-4D8A-8280-455A2A694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4A96-EDA1-4516-A6E9-D860AEF0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6F93-219F-41B1-96DD-30CA3CEA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1E1A-8227-45AC-8F99-263899F8E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4934-4DA4-4B86-AFBE-D3580E6EB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62DB-D344-4D86-8460-7572F64F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18C4-ECF2-4E99-88DB-2DF8F76B5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151216_f520.jpg"/>
          <p:cNvPicPr/>
          <p:nvPr/>
        </p:nvPicPr>
        <p:blipFill>
          <a:blip r:embed="rId1"/>
          <a:stretch/>
        </p:blipFill>
        <p:spPr>
          <a:xfrm>
            <a:off x="457200" y="327672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  (BLITZ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428840" y="762120"/>
            <a:ext cx="6286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M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HUNTS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952560" y="77616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WI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5000"/>
            <a:ext cx="80769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RFACE IS TENNIS PLAYED ON AT WIMBLED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ERSON COMMUNICATED WITH THESE SYMB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12151216_f520.jpg"/>
          <p:cNvPicPr/>
          <p:nvPr/>
        </p:nvPicPr>
        <p:blipFill>
          <a:blip r:embed="rId1"/>
          <a:stretch/>
        </p:blipFill>
        <p:spPr>
          <a:xfrm>
            <a:off x="457200" y="3124080"/>
            <a:ext cx="8229600" cy="13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-7920" y="48769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SP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EATURE DOES THE ZODIAC SIGN OF CANCER REPRES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CNN'S LEAD POLITICAL ANC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ED PODS FROM THE MEXICAN SHRUB SEBASTIANIA PAVONIANA ARE FAMOUS FOR PERFORMING WHAT UNUSUAL A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CHARACTER DOES CHRIS HEMSWORTH PLAY IN A FAIRY-TALE MOVIE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AS PLAYED BY SCARLETT JOHANSSON IN THE 2018 FILM "AVENGERS: INFINITY W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T OF AREA, COMMONLY USED FOR REAL ESTATE IN INDIA, IS EQUAL TO 2400 SQUARE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US SYSTEM IN ORLANDO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4:04:46Z</dcterms:created>
  <dc:creator>Jennifer Budzinski</dc:creator>
  <dc:description/>
  <dc:language>en-US</dc:language>
  <cp:lastModifiedBy>Erich Friedman</cp:lastModifiedBy>
  <dcterms:modified xsi:type="dcterms:W3CDTF">2020-08-28T20:59:29Z</dcterms:modified>
  <cp:revision>423</cp:revision>
  <dc:subject/>
  <dc:title>Slide 1</dc:title>
</cp:coreProperties>
</file>