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A93D-775B-425D-B573-BBE615C07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3FA2-91DA-4554-A76C-ED812AB68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8B16-2682-4DEC-9896-7FF4B6E53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FBA1-600E-436B-9FCF-A2B38E784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CFB5-9D06-4A32-ACE8-FDEC9CA4A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2159-CD41-4103-A6F0-19F391654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A2F1-60A7-4744-B26F-8F6C55861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A3B3-3B66-4F55-9321-A39C048EE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524F-5A27-446C-A824-EB5DE334C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D951-0A0F-4BDD-B90A-802E4D9DE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C75B-0C83-4620-8C5F-D1B3C7398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84F0-6905-4EA6-901C-EB7329D0F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9EA4-F8D8-4266-809E-29A796631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2EAF-9E5F-49C4-A303-D83CD8D72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6ACD-5B47-4BE2-BD0F-694059E8A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8E5D-0B3B-4551-B2C8-B7B7A8FE2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A64E-285D-4ACF-B84E-A884F122F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ECE1-8666-4ACA-A331-803B5FEFE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3D70-EEE1-4793-A20B-F28D4C827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FF93-1F74-4718-B48C-888DC5EA4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0384-0426-44BF-8848-CA0226E02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52DA-1A2E-4D5C-8A3A-FF93CA7A4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A1AC-C6A0-4E72-9562-4357C422E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ROPER TERM FOR A JEWISH HOUSE OF WORSHIP, MEANING "HOUSE OF ASSEMBLY" IN GREE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NJ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ES OF FEUDAL JAPAN WERE ALSO KNOWN AS SHINOBI, MEANING "TO SNEA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HLE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ST BANK CITY IS HOME TO THE CHURCH OF THE NATI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COMPANY HAS BEEN REPRESENTED SINCE 1894 BY A PUFFY WHITE MASCOT NAMED "BIBENDU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R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TEAM LOST 2,495 STRAIGHT GAMES TO THE HARLEM GLOBETRO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LY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HOME OF THE AMERICAN FILM INDUS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AX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ILKY WAY AND ANDROMEDA ARE EXAMPL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.S.  FL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LD GLORY" IS A NICKNAME FOR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ES OF FEUDAL JAPAN WERE ALSO KNOWN AS SHINOBI, MEANING "TO SNEA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LM  REVI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GER EBERT PRODUCED WHAT FOR THE CHICAGO SUN-TIMES UNTIL HIS DEATH IN 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NAGO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ROPER TERM FOR A JEWISH HOUSE OF WORSHIP, MEANING "HOUSE OF ASSEMBLY" IN GRE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876920"/>
            <a:ext cx="670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HAVE  ST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ST BANK CITY IS HOME TO THE CHURCH OF THE NATIV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COMPANY HAS BEEN REPRESENTED SINCE 1894 BY A PUFFY WHITE MASCOT NAMED "BIBENDU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TEAM LOST 2,495 STRAIGHT GAMES TO THE HARLEM GLOBETRO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HOME OF THE AMERICAN FILM INDUS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ILKY WAY AND ANDROMEDA ARE EXAMPLE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LD GLORY" IS A NICKNAME FOR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GER EBERT PRODUCED WHAT FOR THE CHICAGO SUN-TIMES UNTIL HIS DEATH IN 201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6T11:43:57Z</dcterms:created>
  <dc:creator>Jennifer Budzinski</dc:creator>
  <dc:description/>
  <dc:language>en-US</dc:language>
  <cp:lastModifiedBy>Erich Friedman</cp:lastModifiedBy>
  <dcterms:modified xsi:type="dcterms:W3CDTF">2020-08-28T21:00:22Z</dcterms:modified>
  <cp:revision>423</cp:revision>
  <dc:subject/>
  <dc:title>Slide 1</dc:title>
</cp:coreProperties>
</file>