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BD27D-8134-4ED1-B534-AE7B04CAB6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D972A-5162-46D6-89B6-5CBFB8EACC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A882A-AF3E-4C24-A038-E2B1A2A95A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811A2-F5C4-49C8-AFEC-CF4EDFD7A1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CA772-0C3A-4D8C-9875-5107EFF4B4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ACF6E-8D03-4688-87E7-9FBA950216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568FF-D306-4363-9AD9-A042155D93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B3162-FEEA-42C3-B300-69D0AECD0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55F6F-F1DB-41AA-8A66-232817CCD4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71A9B-E189-41DA-B264-725C0F327F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09044-4791-46AF-8EF9-28D5CDA76A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41B23-5462-4F56-A8EA-A66FB4574A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B45A9-E199-4DAB-81D5-FF247FE087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F0DD4-5712-47AC-9097-3349AA3B00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26748-5B74-4A67-A10B-117ADDD2B8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C5AC5-A13A-453D-845B-98C34838C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94354-2D5A-4CED-9DB9-F2B9B44F6F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87782-7C11-40C0-970A-2EDCC300E7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9BCC5-179D-4025-9C98-702F3CBB7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9EB11-DA97-4459-8C34-D7C1699E6E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CC235-D47F-4029-97B1-EFE4A702A0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B2FA0-6FA5-448E-BCA7-EE903A056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98BCC-08A2-4AA2-9B81-FE9521BC5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PROPER TERM FOR A JEWISH HOUSE OF WORSHIP, MEANING "HOUSE OF ASSEMBLY" IN GREE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INJ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066680" y="762120"/>
            <a:ext cx="70106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IES OF FEUDAL JAPAN WERE ALSO KNOWN AS SHINOBI, MEANING "TO SNEA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THLEH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066680" y="762120"/>
            <a:ext cx="70106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EST BANK CITY IS HOME TO THE CHURCH OF THE NATIV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CHEL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14400" y="762120"/>
            <a:ext cx="73152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ENCH COMPANY HAS BEEN REPRESENTED SINCE 1894 BY A PUFFY WHITE MASCOT NAMED "BIBENDUM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NER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181160" y="762120"/>
            <a:ext cx="6781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SKETBALL TEAM LOST 2,495 STRAIGHT GAMES TO THE HARLEM GLOBETROTT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LLYW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143000" y="762120"/>
            <a:ext cx="6858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IS THE HOME OF THE AMERICAN FILM INDUST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ALAX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14400" y="762120"/>
            <a:ext cx="73152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ILKY WAY AND ANDROMEDA ARE EXAMPLES OF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.S.  FLA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181160" y="762120"/>
            <a:ext cx="67816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OLD GLORY" IS A NICKNAME FOR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IES OF FEUDAL JAPAN WERE ALSO KNOWN AS SHINOBI, MEANING "TO SNEAK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LM  REVIE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OGER EBERT PRODUCED WHAT FOR THE CHICAGO SUN-TIMES UNTIL HIS DEATH IN 2013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YNAGOG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380880" y="762120"/>
            <a:ext cx="8382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PROPER TERM FOR A JEWISH HOUSE OF WORSHIP, MEANING "HOUSE OF ASSEMBLY" IN GREE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219320" y="4876920"/>
            <a:ext cx="67053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ALL  HAVE  ST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143000" y="76176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EST BANK CITY IS HOME TO THE CHURCH OF THE NATIVI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14400" y="762120"/>
            <a:ext cx="7315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ENCH COMPANY HAS BEEN REPRESENTED SINCE 1894 BY A PUFFY WHITE MASCOT NAMED "BIBENDUM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181160" y="762120"/>
            <a:ext cx="6781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SKETBALL TEAM LOST 2,495 STRAIGHT GAMES TO THE HARLEM GLOBETROTT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IS THE HOME OF THE AMERICAN FILM INDUST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ILKY WAY AND ANDROMEDA ARE EXAMPLES OF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OLD GLORY" IS A NICKNAME FOR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OGER EBERT PRODUCED WHAT FOR THE CHICAGO SUN-TIMES UNTIL HIS DEATH IN 2013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6T11:43:57Z</dcterms:created>
  <dc:creator>Jennifer Budzinski</dc:creator>
  <dc:description/>
  <dc:language>en-US</dc:language>
  <cp:lastModifiedBy>Erich Friedman</cp:lastModifiedBy>
  <dcterms:modified xsi:type="dcterms:W3CDTF">2020-08-28T21:00:22Z</dcterms:modified>
  <cp:revision>423</cp:revision>
  <dc:subject/>
  <dc:title>Slide 1</dc:title>
</cp:coreProperties>
</file>