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541B-E85C-4FE5-8DDF-EBBBD3BDD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BA04-0E52-453E-8DF2-F20A5EBC0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CBF7-A2A5-4934-B4C6-5001000E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72F3-0BF6-4B6A-B14C-B0BAAF5FD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FE6E-5C6D-4637-A1ED-61B8A94DA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542-F208-42D3-B795-88A196436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5C5E-CC2E-487A-968D-B2BC546F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3F81-D3F1-45C3-AB86-D5DA12CB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F81F-0CBF-42B6-982D-67AAF67E1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3CAC-7F12-4CD1-9EF2-453B85F8E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6A50-FB76-4EAE-A1DF-6EBBA6992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7691-7D4C-49D9-A5DF-3CF256469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A225-1274-4819-83D3-C9432EFCD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4321-D50F-442D-9989-F4BA8AEE3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07BA-3C32-4F23-9AD4-13154EDD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7A42-0310-45DB-BBFA-5F8D079E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EAD2-5227-4326-B00A-137AE56B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D946-C4D0-404F-8991-4EE91F5E0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4F3A-80A6-45DF-A442-8508F51F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1909-FF38-46DE-9A1B-C6E141BDD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657A-D1C5-413E-8AF2-D30F96577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DB79-F2D0-47BD-9A18-7E871041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CD9F-383D-4642-8BFB-709AFBABD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PER TERM FOR A JEWISH HOUSE OF WORSHIP, MEANING "HOUSE OF ASSEMBLY" IN GR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NJ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ES OF FEUDAL JAPAN WERE ALSO KNOWN AS SHINOBI, MEANING "TO SNEA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HLE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 BANK CITY IS HOME TO THE CHURCH OF THE NA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OMPANY HAS BEEN REPRESENTED SINCE 1894 BY A PUFFY WHITE MASCOT NAMED "BIBEND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TEAM LOST 2,495 STRAIGHT GAMES TO THE HARLEM GLOBETRO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X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LKY WAY AND ANDROMEDA ARE EXAMPL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FL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LD GLORY" IS A NICKNAME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ES OF FEUDAL JAPAN WERE ALSO KNOWN AS SHINOBI, MEANING "TO SNEA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M  RE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EBERT PRODUCED WHAT FOR THE CHICAGO SUN-TIMES UNTIL HIS DEATH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NAG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PER TERM FOR A JEWISH HOUSE OF WORSHIP, MEANING "HOUSE OF ASSEMBLY" IN GR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HAVE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 BANK CITY IS HOME TO THE CHURCH OF THE NA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OMPANY HAS BEEN REPRESENTED SINCE 1894 BY A PUFFY WHITE MASCOT NAMED "BIBEND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TEAM LOST 2,495 STRAIGHT GAMES TO THE HARLEM GLOBETRO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LKY WAY AND ANDROMEDA ARE EXAMPL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LD GLORY" IS A NICKNAME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EBERT PRODUCED WHAT FOR THE CHICAGO SUN-TIMES UNTIL HIS DEATH IN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1:43:57Z</dcterms:created>
  <dc:creator>Jennifer Budzinski</dc:creator>
  <dc:description/>
  <dc:language>en-US</dc:language>
  <cp:lastModifiedBy>Erich Friedman</cp:lastModifiedBy>
  <dcterms:modified xsi:type="dcterms:W3CDTF">2020-08-28T21:00:22Z</dcterms:modified>
  <cp:revision>423</cp:revision>
  <dc:subject/>
  <dc:title>Slide 1</dc:title>
</cp:coreProperties>
</file>