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4217-B0F0-46B8-9DC5-3AE7ED29B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0C66-597E-44DD-9B47-3824E56FF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4057-28E5-4582-950E-240CA3743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64CE-01D2-4EA4-A912-B20DDC505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72C9-F118-439E-A7F1-293975963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4E04-06CF-4014-ADAE-D6B919D7F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ED4C-9857-4359-8C00-7EB26986A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4406-B9A8-45D9-B934-CD0AEBE1C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E8B3-6AD4-4B8B-80FA-D0EE17F74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3796-0511-40F1-A201-17598810D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B84B-AC1E-47ED-9B3C-087BA6A30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28A6-B570-4CF3-9FAF-A1A0951E0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0D45-E893-4038-A47D-DB5892333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AB56-1EC3-46C7-ACF6-8A0E94309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5BE5-79BF-4FE9-BF52-F80EB0182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AB76-0399-4B0E-94EA-0EF879312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9877-AFDE-4CD1-8B75-A27AA7A17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B59F-FDFB-4986-9241-C0BE51890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4255-3F46-46C9-A04C-39D72AA07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3716-D268-4B93-ABF4-BBA0B1068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FFD6-FAE9-4239-B9C5-46F1C1B68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6B5D-A67E-4117-BD4B-B2194020E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29E1-1932-4F4C-807C-56C9A1661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IDTH OF A SHIP AT ITS WIDEST POIN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03500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ILLARS OF ISLAM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CT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CHEMICAL COMPOU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4" descr="OctaneFull.jpg"/>
          <p:cNvPicPr/>
          <p:nvPr/>
        </p:nvPicPr>
        <p:blipFill>
          <a:blip r:embed="rId1"/>
          <a:stretch/>
        </p:blipFill>
        <p:spPr>
          <a:xfrm>
            <a:off x="1562040" y="2530440"/>
            <a:ext cx="6019920" cy="22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81160" y="762120"/>
            <a:ext cx="6781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ANIMAL WAS MR. 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N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REN'S GAME BEGINS WHEN TWO PEOPLE UNINTENTIONALLY SAY THE SAME THING       AT THE SAM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VAN HALEN'S BEST-SELLING SINGLE, AND A POINTER SISTER'S HIT SONG IN 198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523880" y="762120"/>
            <a:ext cx="60962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IS MIDNIGHT IN CHINA, WHAT TIME IS IT IN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BUS FILM STARRED KEANU REEVES AND SANDRA BULLO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ILLARS OF ISLAM ARE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TAXONOMIC RANK, WHAT COMES BETWEEN PHYLUM AND 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IDTH OF A SHIP AT ITS WIDEST POIN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609480" y="487692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HIGH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CHEMICAL COMPOU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OctaneFull.jpg"/>
          <p:cNvPicPr/>
          <p:nvPr/>
        </p:nvPicPr>
        <p:blipFill>
          <a:blip r:embed="rId1"/>
          <a:stretch/>
        </p:blipFill>
        <p:spPr>
          <a:xfrm>
            <a:off x="1562040" y="2666880"/>
            <a:ext cx="6019920" cy="22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ANIMAL WAS MR. 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REN'S GAME BEGINS WHEN TWO PEOPLE UNINTENTIONALLY SAY THE SAME THING       AT THE SAME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VAN HALEN'S BEST-SELLING SINGLE, AND A POINTER SISTER'S HIT SONG IN 198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523880" y="761760"/>
            <a:ext cx="6096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IS MIDNIGHT IN CHINA, WHAT TIME IS IT IN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BUS FILM STARRED KEANU REEVES AND SANDRA BULLO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TAXONOMIC RANK, WHAT COMES BETWEEN PHYLUM AND O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3:10:47Z</dcterms:created>
  <dc:creator>Jennifer Budzinski</dc:creator>
  <dc:description/>
  <dc:language>en-US</dc:language>
  <cp:lastModifiedBy>Erich Friedman</cp:lastModifiedBy>
  <dcterms:modified xsi:type="dcterms:W3CDTF">2020-08-28T21:01:17Z</dcterms:modified>
  <cp:revision>413</cp:revision>
  <dc:subject/>
  <dc:title>Slide 1</dc:title>
</cp:coreProperties>
</file>