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58A5-E9E1-409D-81CA-D5B8C2013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A6A2-E01E-40A4-B11A-1A0E4F2AB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0916-D199-4074-AB7D-E7DD76180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1AFF-E437-4AE4-B519-6A4C5B443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6870-762C-474F-86FF-E8C98105E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8037-2CAF-47B5-B77C-876BC0ABA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C59D-0DF8-4FF8-818F-F024A77FA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9EA2-AE62-46D6-BFA5-EDD63CE38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BB48-DE31-4278-9C84-8B73192F5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176D-9BAE-4CE7-BF03-8B4AB2F46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20FB-7209-4A33-A71D-798D00995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7A73-A97E-4D29-B7AC-836A77D12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AEDB-5FC1-4A23-8FB7-2A49FA0A7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B517-460F-4A38-BD90-051711E44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1A68-D7F6-410F-970C-DEF3AC7B6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3F01-3EB7-4DFE-82B5-C39C685B7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81D9-C366-4C0C-AB05-50DD32712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68A4-1AEB-4962-A4F8-642338818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63DD-365F-45BB-AFBE-B67DE429C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2A84-25FF-433E-AFC6-43082AEF4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24F6-E736-4976-B4F8-F677D0B79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CC64-E980-4E0F-B853-E56540F08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6755-B742-408D-BC24-D606E19AC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IDTH OF A SHIP AT ITS WIDEST POI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03500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ILLARS OF ISLAM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T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HEMICAL COMP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OctaneFull.jpg"/>
          <p:cNvPicPr/>
          <p:nvPr/>
        </p:nvPicPr>
        <p:blipFill>
          <a:blip r:embed="rId1"/>
          <a:stretch/>
        </p:blipFill>
        <p:spPr>
          <a:xfrm>
            <a:off x="1562040" y="2530440"/>
            <a:ext cx="6019920" cy="22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NIMAL WAS MR. 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GAME BEGINS WHEN TWO PEOPLE UNINTENTIONALLY SAY THE SAME THING       AT THE SAM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VAN HALEN'S BEST-SELLING SINGLE, AND A POINTER SISTER'S HIT SONG IN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23880" y="762120"/>
            <a:ext cx="60962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MIDNIGHT IN CHINA, WHAT TIME IS IT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BUS FILM STARRED KEANU REEVES AND SANDRA BULL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ILLARS OF ISLAM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TAXONOMIC RANK, WHAT COMES BETWEEN PHYLUM AND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IDTH OF A SHIP AT ITS WIDEST POI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HIGH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HEMICAL COMP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OctaneFull.jpg"/>
          <p:cNvPicPr/>
          <p:nvPr/>
        </p:nvPicPr>
        <p:blipFill>
          <a:blip r:embed="rId1"/>
          <a:stretch/>
        </p:blipFill>
        <p:spPr>
          <a:xfrm>
            <a:off x="1562040" y="2666880"/>
            <a:ext cx="6019920" cy="22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NIMAL WAS MR. 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GAME BEGINS WHEN TWO PEOPLE UNINTENTIONALLY SAY THE SAME THING       AT THE SAM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VAN HALEN'S BEST-SELLING SINGLE, AND A POINTER SISTER'S HIT SONG IN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3880" y="761760"/>
            <a:ext cx="6096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MIDNIGHT IN CHINA, WHAT TIME IS IT IN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BUS FILM STARRED KEANU REEVES AND SANDRA BULLO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TAXONOMIC RANK, WHAT COMES BETWEEN PHYLUM AND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3:10:47Z</dcterms:created>
  <dc:creator>Jennifer Budzinski</dc:creator>
  <dc:description/>
  <dc:language>en-US</dc:language>
  <cp:lastModifiedBy>Erich Friedman</cp:lastModifiedBy>
  <dcterms:modified xsi:type="dcterms:W3CDTF">2020-08-28T21:01:17Z</dcterms:modified>
  <cp:revision>413</cp:revision>
  <dc:subject/>
  <dc:title>Slide 1</dc:title>
</cp:coreProperties>
</file>