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E32-D72F-4C6B-B238-93C6F04E8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3649-D883-4151-B520-687D13A2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D6A2-F865-4E5F-A3DD-D989C381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6B73-02DB-4B26-B462-86E9EBCE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A1C-8E8E-4CEE-BCFC-140D8970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CEDC-EE01-41CD-8C5A-8113E723F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8C6-29CE-471C-8204-5376C9D5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E722-A8C9-47E5-9D1E-DF135871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154-08ED-47A4-9A5C-8070BC81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722-6444-474B-B269-439EA2FA0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E8F-F721-470D-83AE-2E4B5642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9986-792B-4DCC-A924-83C22056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D76F-9668-4EA8-8228-06E315BA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3CF-D2DA-48BC-B911-10B0C94C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5EB6-B211-41DE-90CA-12007CAC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74D9-26E0-4206-867F-EC4E38B6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A523-23A5-4D88-BB71-D0F45BAC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3D3-6454-4B56-98E6-E93D316B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CBF-EE1D-4009-9799-30217A5FB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56A-08ED-4F87-95C2-C436E9C7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5E61-18DD-4B2D-81D4-9C1927B8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A2EE-B1EB-43E2-AC82-A6B25955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BB71-8CAD-4011-B95F-64EC871B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3500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OctaneFull.jpg"/>
          <p:cNvPicPr/>
          <p:nvPr/>
        </p:nvPicPr>
        <p:blipFill>
          <a:blip r:embed="rId1"/>
          <a:stretch/>
        </p:blipFill>
        <p:spPr>
          <a:xfrm>
            <a:off x="1562040" y="253044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IG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OctaneFull.jpg"/>
          <p:cNvPicPr/>
          <p:nvPr/>
        </p:nvPicPr>
        <p:blipFill>
          <a:blip r:embed="rId1"/>
          <a:stretch/>
        </p:blipFill>
        <p:spPr>
          <a:xfrm>
            <a:off x="1562040" y="266688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3:10:47Z</dcterms:created>
  <dc:creator>Jennifer Budzinski</dc:creator>
  <dc:description/>
  <dc:language>en-US</dc:language>
  <cp:lastModifiedBy>Erich Friedman</cp:lastModifiedBy>
  <dcterms:modified xsi:type="dcterms:W3CDTF">2020-08-28T21:01:17Z</dcterms:modified>
  <cp:revision>413</cp:revision>
  <dc:subject/>
  <dc:title>Slide 1</dc:title>
</cp:coreProperties>
</file>