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6D4B-D0E7-4DB5-9100-E6606CB71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B3AD-0DE2-4DC1-A3D1-E3699889D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CFB2-7238-418A-A0BB-60661CD25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F547-B0E0-480E-B236-B6FF0E0D6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A306-6CE0-4CB8-A75B-1AAC1DA76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AA3C-7399-40AD-99AB-13365E07E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6F40-82EC-4FBB-88CB-61994B90A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D8C1-F69E-4291-ABB2-DA34C93AA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65A0-6737-4824-AAFD-4AD9DBCCD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4985-D381-4086-A1D4-3A0180990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C834-E838-49E1-99EA-1371D3C37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2C7A-3464-475C-BAF8-A3F1A396E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B9FB-3F6D-4F77-8D0D-683BF6F99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D252-E6CF-4F3F-B79A-E5EB9F06C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96CB-21AB-4E62-A80F-BFBF079ED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CF9F-8BEF-4030-8511-0BA45E301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3079-15A7-45CE-8AF8-266773D02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2BD8-4876-4C36-A28D-A36C6821D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31CC-9F8A-4788-B249-E83793EC7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DF18-E1CA-40C0-ADD5-9C4C212FC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2E1D-D1FA-4C27-9BF3-BE4137F63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634D-5588-41C6-BECE-03392AFFC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552E-2CEF-4703-BF20-CD7F775FD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ITY IN LEBANON, AFTER THE CAPITAL BEIRU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OP-SELLING BRAND OF COUGH DRO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195 COUNTRIES, WHAT 4 LETTERS ARE THE MOST COMMON ENDING OF THEIR N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CUMENT PROVES OWNERSHIP OF A CAR, BOAT, OR H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FACING FORWARD IN A BOAT, IS STARBOARD LEFT OR R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ED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JANIS JOPLIN, WHAT "IS JUST ANOTHER WORD FOR NOTHING LEFT TO LO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BRAND OF DISHWASHING LIQUID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TEZU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ST EMPEROR OF THE AZTE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OP-SELLING BRAND OF COUGH DRO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FILM ABOUT AN ONLINE "TRUTH OR DARE" GAME STARRED EMMA ROBERTS AND DAVE FRAN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IPO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ITY IN LEBANON, AFTER THE CAPITAL BEIR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76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DS  IN  THE  MARINE'S  HYM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195 COUNTRIES, WHAT 4 LETTERS ARE THE MOST COMMON ENDING OF THEIR NA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CUMENT PROVES OWNERSHIP OF A CAR, BOAT, OR H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FACING FORWARD IN A BOAT, IS STARBOARD LEFT OR R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JANIS JOPLIN, WHAT "IS JUST ANOTHER WORD FOR NOTHING LEFT TO LO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BRAND OF DISHWASHING LIQUID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ST EMPEROR OF THE AZTE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FILM ABOUT AN ONLINE "TRUTH OR DARE" GAME STARRED EMMA ROBERTS AND DAVE FRANC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13:39:03Z</dcterms:created>
  <dc:creator>Jennifer Budzinski</dc:creator>
  <dc:description/>
  <dc:language>en-US</dc:language>
  <cp:lastModifiedBy>Erich Friedman</cp:lastModifiedBy>
  <dcterms:modified xsi:type="dcterms:W3CDTF">2020-08-28T21:01:54Z</dcterms:modified>
  <cp:revision>420</cp:revision>
  <dc:subject/>
  <dc:title>Slide 1</dc:title>
</cp:coreProperties>
</file>