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3F6B-E634-448C-BBF0-9C6953416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1CF-7305-4E33-B421-41586C750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20A8-F015-41CB-BDD7-82CCB8876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63BD-8964-4DB1-AC44-9EA3127F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BE69-DEED-42DD-859C-8ACB4738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03E-1213-419B-B792-7BC5EDD1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02ED-837F-4240-8BEB-8140A3A9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365-BF4A-4759-BAA7-7F63ECA3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6B9F-8E48-403D-A6FA-AC305E79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8985-6AE0-4E1A-8D74-13EB3158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01B2-04C3-4296-8C51-FC6BBE08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39B-1D3E-4E76-8554-F538950B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59E2-D82B-4208-9E8A-2E7FB761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2DE5-25CB-41B7-B626-44D923C5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BB26-4D56-4935-8269-6679A69E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BC5C-80B7-4075-9A23-781EC221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A06B-99A5-461B-B2CE-892CCB6D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8F2-10D1-4704-B825-86056629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9D03-9D84-4E40-B33E-21943A85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3D0-1D3B-4997-9545-42672B5F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808-C8C2-4735-A9D2-181C6EA5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87F6-FFD6-45E6-9906-9BC9A546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2EF0-5EC7-4F32-9320-8E106D72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LEBANON, AFTER THE CAPITAL BEIR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BRAND OF COUGH DR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195 COUNTRIES, WHAT 4 LETTERS ARE THE MOST COMMON ENDING OF THEIR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CUMENT PROVES OWNERSHIP OF A CAR, BOAT, OR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ACING FORWARD IN A BOAT, IS STARBOARD LEFT OR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JANIS JOPLIN, WHAT "IS JUST ANOTHER WORD FOR NOTHING LEFT TO L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EMPEROR OF THE AZTE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BRAND OF COUGH DR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ONLINE "TRUTH OR DARE" GAME STARRED EMMA ROBERTS AND DAVE FRAN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PO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LEBANON, AFTER THE CAPITAL BEIR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MARINE'S  HY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195 COUNTRIES, WHAT 4 LETTERS ARE THE MOST COMMON ENDING OF THEIR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CUMENT PROVES OWNERSHIP OF A CAR, BOAT, OR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ACING FORWARD IN A BOAT, IS STARBOARD LEFT OR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JANIS JOPLIN, WHAT "IS JUST ANOTHER WORD FOR NOTHING LEFT TO L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EMPEROR OF THE AZTE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ONLINE "TRUTH OR DARE" GAME STARRED EMMA ROBERTS AND DAVE FRAN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39:03Z</dcterms:created>
  <dc:creator>Jennifer Budzinski</dc:creator>
  <dc:description/>
  <dc:language>en-US</dc:language>
  <cp:lastModifiedBy>Erich Friedman</cp:lastModifiedBy>
  <dcterms:modified xsi:type="dcterms:W3CDTF">2020-08-28T21:01:54Z</dcterms:modified>
  <cp:revision>420</cp:revision>
  <dc:subject/>
  <dc:title>Slide 1</dc:title>
</cp:coreProperties>
</file>