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B56-5A02-4286-B7CA-0FE92CA1D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50B3-F234-48D0-ABAE-E9F284CBB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2DDD-38A1-40CD-8D9B-D9DF4CB83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D22A-DEDC-46A6-B5F2-9104EE3EC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173A-5CC3-4586-BBD4-130351DF4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655F-5067-429A-9BE9-4142176D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B107-54D2-41DD-BE11-B768A6FED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EA1-1E07-42A4-A1AF-B9A525748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6B2D-E325-47AC-94A1-42A6C186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CCBA-294A-4A47-8AA5-852D209CC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576-A402-4799-A5F6-E10D9411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E643-7F34-4331-A798-7F927CF9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E4F-A963-41EB-929B-442B688D0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40C4-F7DD-4D94-9FA2-AF7FB5E33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25EF-5930-4E66-BEA7-902435129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4C95-A555-4A45-81E5-47E6599E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03E-DC82-4529-809C-9162AA15B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9E13-7D6A-47F1-AFD1-5937AA58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4BD3-1099-4D6B-A0C0-ADCA1141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0E94-DB19-4A1C-BDE7-D091CD23C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7D39-6322-435C-A772-B9AC23076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310-48FD-4F43-AD3B-3879046B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6D79-07DC-4C48-B385-B38721DE7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LEBANON, AFTER THE CAPITAL BEIR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BRAND OF COUGH DR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195 COUNTRIES, WHAT 4 LETTERS ARE THE MOST COMMON ENDING OF THEIR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CUMENT PROVES OWNERSHIP OF A CAR, BOAT, OR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ACING FORWARD IN A BOAT, IS STARBOARD LEFT OR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JANIS JOPLIN, WHAT "IS JUST ANOTHER WORD FOR NOTHING LEFT TO L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EMPEROR OF THE AZTE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BRAND OF COUGH DR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ONLINE "TRUTH OR DARE" GAME STARRED EMMA ROBERTS AND DAVE FRAN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PO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LEBANON, AFTER THE CAPITAL BEIR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MARINE'S  HY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195 COUNTRIES, WHAT 4 LETTERS ARE THE MOST COMMON ENDING OF THEIR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CUMENT PROVES OWNERSHIP OF A CAR, BOAT, OR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ACING FORWARD IN A BOAT, IS STARBOARD LEFT OR 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JANIS JOPLIN, WHAT "IS JUST ANOTHER WORD FOR NOTHING LEFT TO L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EMPEROR OF THE AZTE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ONLINE "TRUTH OR DARE" GAME STARRED EMMA ROBERTS AND DAVE FRAN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39:03Z</dcterms:created>
  <dc:creator>Jennifer Budzinski</dc:creator>
  <dc:description/>
  <dc:language>en-US</dc:language>
  <cp:lastModifiedBy>Erich Friedman</cp:lastModifiedBy>
  <dcterms:modified xsi:type="dcterms:W3CDTF">2020-08-28T21:01:54Z</dcterms:modified>
  <cp:revision>420</cp:revision>
  <dc:subject/>
  <dc:title>Slide 1</dc:title>
</cp:coreProperties>
</file>