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B0E0-C11E-4479-93E5-D438F8F0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32DE-322F-4C80-AC01-36775DCC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4D5-895D-4991-8CB1-2759F9CF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6244-4C66-4C1F-B113-42B21DDA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3C5B-3296-46C0-A06F-15780B51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D9F-6F62-4446-AE15-EC6D2A29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D3D-5EE2-405B-8F74-C56D7566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66FF-3475-4EB7-88B9-CCD81818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687-72E6-4422-B078-48079D07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DAA-85F5-4217-9C79-57AF5257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392-0837-4DE3-9710-E0152FB8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081-06AA-4510-953F-581F5C80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6AF-5AFF-4D37-8B99-129F8BB7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21A0-793A-488F-98E9-4A71FF19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C8CF-F37E-4B80-87C8-09457B33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2DB-5314-45D1-B649-5F9F1D81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A040-9AA3-46B2-87F8-6F3F5617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34C7-7EA0-407F-89DC-C9AC9EDB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525-1AD7-4C56-8AAD-E8E36B77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959-DE9A-4B7B-8EED-AE91A80D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34A-DB6D-4639-A77E-35AB9016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C23C-001B-4824-852B-E23485CA7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F7D-FCCC-4D4F-825B-EED58049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71400" y="762120"/>
            <a:ext cx="780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320" y="990720"/>
            <a:ext cx="5381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OPHER)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0680" y="762120"/>
            <a:ext cx="87012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09840" y="762120"/>
            <a:ext cx="612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(EYE  MOV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30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1066680"/>
            <a:ext cx="5380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76360" y="762120"/>
            <a:ext cx="61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8T21:57:31Z</dcterms:modified>
  <cp:revision>436</cp:revision>
  <dc:subject/>
  <dc:title>Slide 1</dc:title>
</cp:coreProperties>
</file>