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9B93-4AFD-4C08-899A-0789BE3DC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4D78-4488-4D65-8B90-7AADB3D19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58EF4-CA47-4B58-8FD4-79895DCF7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A828-5E0E-402C-B86E-3218ED73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E489-0DE3-4B01-BAC2-08A086796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19C9-6515-4ADA-AD75-B54996C2A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ED67-FADF-4089-A19C-4CB51999C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C25D-4BA0-4C87-9A21-36DD89A1C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DAE4-AF40-4487-A17E-186A27307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696A-C6FA-4918-A056-49C69F502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92003-C081-4A54-BC7F-2CF32EB75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104DE-DAA1-4532-95E1-7E1593E9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FC5E-D03C-47AA-9D3C-C14D64FCB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84AB-9C91-4020-AA10-CC3BA7B8A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EA3E-63B3-438B-91DC-9465AC726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6886-C163-4767-807B-C5ACC0B68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8FCD-BED5-474D-836C-44517D67F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9FA5-3B0B-48D7-9EBB-B9601D2B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9D5B8-B738-4FF9-8DEC-413A60757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A6793-E8F8-48E2-83EE-C87458564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D4A2-2446-4AC0-80EB-93C323566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AAAB-F9B8-4FB1-89C9-15211D16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5903-AECA-46FB-BB45-591BE6FDE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 (THANKS MARGI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716040" y="762120"/>
            <a:ext cx="7711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OCCER MATCH NOT PART OF A WIDER COMPETITION BUT ONLY FOR EXHIBITION IS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71360" y="762120"/>
            <a:ext cx="8801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AIN IS MOST COMMON IN JOB-RELATED DISABILITY INJU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U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671400" y="762120"/>
            <a:ext cx="7801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S MERYL STREEP AS A NUN AND PHILIP SEYMOUR HOFFMAN AS A PRI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76320" y="990720"/>
            <a:ext cx="538164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EARS THIS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76440" y="762120"/>
            <a:ext cx="77911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TO THE BIG THREE TV NETWORKS WAS THE MOST WATCHED TV STATION 2007-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CHRISTOPHER)  CR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220680" y="762120"/>
            <a:ext cx="87012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SINGER TO WIN GRAMMYS IN ALL 4 MAJOR CATEGORIES IN ONE YEAR, TWO OF THEM FOR THE SONG "SAIL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14300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509840" y="762120"/>
            <a:ext cx="61243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TISSERIE, MEAT IS ROASTED ON A ROD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200160" y="762120"/>
            <a:ext cx="8743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PAIN IS MOST COMMON IN JOB-RELATED DISABILITY INJURI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APID  (EYE  MOVE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57320" y="762120"/>
            <a:ext cx="7029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IN "REM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IEND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11080" y="762120"/>
            <a:ext cx="7521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SOCCER MATCH NOT PART OF A WIDER COMPETITION BUT ONLY FOR EXHIBITION IS CALLED A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723960" y="4876920"/>
            <a:ext cx="7696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FIRE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300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08 FILM STARS MERYL STREEP AS A NUN AND PHILIP SEYMOUR HOFFMAN AS A PRI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52280" y="1066680"/>
            <a:ext cx="5380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PERHERO WEARS THIS LOGO ON HIS C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5715000" y="5335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00200" y="762120"/>
            <a:ext cx="7743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IN THE NAME OF 3 OF THE TOP 4 TENNIS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95160" y="762120"/>
            <a:ext cx="7753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LTERNATIVE TO THE BIG THREE TV NETWORKS WAS THE MOST WATCHED TV STATION 2007-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76040" y="761760"/>
            <a:ext cx="8791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ONLY SINGER TO WIN GRAMMYS IN ALL 4 MAJOR CATEGORIES IN ONE YEAR, TWO OF THEM FOR THE SONG "SAIL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476360" y="762120"/>
            <a:ext cx="6191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ROTISSERIE, MEAT IS ROASTED ON A ROD CALLED A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61920" y="762120"/>
            <a:ext cx="7220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R" IN "REM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0T18:45:38Z</dcterms:created>
  <dc:creator>Jennifer Budzinski</dc:creator>
  <dc:description/>
  <dc:language>en-US</dc:language>
  <cp:lastModifiedBy>Erich Friedman</cp:lastModifiedBy>
  <dcterms:modified xsi:type="dcterms:W3CDTF">2020-08-28T21:57:31Z</dcterms:modified>
  <cp:revision>436</cp:revision>
  <dc:subject/>
  <dc:title>Slide 1</dc:title>
</cp:coreProperties>
</file>