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513DC-174B-41D8-A3A3-869549B16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7FE3A-FD58-4FF8-B958-83D034070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D897-62DF-45A1-9DE7-CA6492A58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D9345-EB6C-444A-897C-9EDF31A2D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41CEE-FF15-42D4-8944-C26744D52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A6E06-0A8D-4AB5-AF9C-CE132D25B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1BD3A-77B4-474B-B447-9D7D62DB5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54B3A-ABAC-440C-849E-600B96071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773F8-0F23-4514-945B-F21733EAE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005A3-EB63-49FD-A7DB-9DE26533D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2FF7-4280-48EF-82B8-EA0669A2F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43423-E622-4180-97A1-AD1161395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7A299-CBE9-47C5-AD18-00E0DF5D2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C09BA-4222-4257-9D3D-EFA71B3F5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B2B94-A6AD-4AF2-A481-9A444F058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623EC-51F2-4FBC-AE41-F9F9F20A5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00002-5B09-4B89-AA7F-4C2E36CC7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74E84-41F5-493B-AD04-C3679FA37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A7979-61A7-4E09-A522-F540EA5DE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0BB30-6121-4820-B564-C6A6C6DAD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57B10-355A-42A7-A516-3288C674D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5817B-F46C-4869-BABA-5674DA894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0FFA2-F034-40B4-9954-199250CC1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0666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 (THANKS MARGI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716040" y="762120"/>
            <a:ext cx="7711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SOCCER MATCH NOT PART OF A WIDER COMPETITION BUT ONLY FOR EXHIBITION IS CALLED A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171360" y="762120"/>
            <a:ext cx="8801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PAIN IS MOST COMMON IN JOB-RELATED DISABILITY INJU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UB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671400" y="762120"/>
            <a:ext cx="7801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8 FILM STARS MERYL STREEP AS A NUN AND PHILIP SEYMOUR HOFFMAN AS A PRIE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76320" y="990720"/>
            <a:ext cx="53816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PERHERO WEARS THIS LOGO ON HIS CHE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3" descr=""/>
          <p:cNvPicPr/>
          <p:nvPr/>
        </p:nvPicPr>
        <p:blipFill>
          <a:blip r:embed="rId1"/>
          <a:stretch/>
        </p:blipFill>
        <p:spPr>
          <a:xfrm>
            <a:off x="5715000" y="53352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P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762120"/>
            <a:ext cx="7619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APPEARS IN THE NAME OF 3 OF THE TOP 4 TENNIS TOURNAME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76440" y="762120"/>
            <a:ext cx="7791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TERNATIVE TO THE BIG THREE TV NETWORKS WAS THE MOST WATCHED TV STATION 2007-200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CHRISTOPHER)  CR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220680" y="762120"/>
            <a:ext cx="8701200" cy="37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ONLY SINGER TO WIN GRAMMYS IN ALL 4 MAJOR CATEGORIES IN ONE YEAR, TWO OF THEM FOR THE SONG "SAIL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509840" y="762120"/>
            <a:ext cx="6124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ROTISSERIE, MEAT IS ROASTED ON A ROD CALLED A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200160" y="762120"/>
            <a:ext cx="8743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PAIN IS MOST COMMON IN JOB-RELATED DISABILITY INJUR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PID  (EYE  MOVEME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057320" y="762120"/>
            <a:ext cx="70293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R" IN "REM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IEND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811080" y="762120"/>
            <a:ext cx="7521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SOCCER MATCH NOT PART OF A WIDER COMPETITION BUT ONLY FOR EXHIBITION IS CALLED A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723960" y="4876920"/>
            <a:ext cx="7696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FIR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300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8 FILM STARS MERYL STREEP AS A NUN AND PHILIP SEYMOUR HOFFMAN AS A PRIE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52280" y="1066680"/>
            <a:ext cx="5380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PERHERO WEARS THIS LOGO ON HIS CHE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1"/>
          <a:stretch/>
        </p:blipFill>
        <p:spPr>
          <a:xfrm>
            <a:off x="5715000" y="53352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00200" y="762120"/>
            <a:ext cx="7743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APPEARS IN THE NAME OF 3 OF THE TOP 4 TENNIS TOURNAMEN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95160" y="762120"/>
            <a:ext cx="7753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TERNATIVE TO THE BIG THREE TV NETWORKS WAS THE MOST WATCHED TV STATION 2007-200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76040" y="761760"/>
            <a:ext cx="8791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ONLY SINGER TO WIN GRAMMYS IN ALL 4 MAJOR CATEGORIES IN ONE YEAR, TWO OF THEM FOR THE SONG "SAIL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476360" y="762120"/>
            <a:ext cx="6191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ROTISSERIE, MEAT IS ROASTED ON A ROD CALLED A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61920" y="762120"/>
            <a:ext cx="7220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R" IN "REM"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0T18:45:38Z</dcterms:created>
  <dc:creator>Jennifer Budzinski</dc:creator>
  <dc:description/>
  <dc:language>en-US</dc:language>
  <cp:lastModifiedBy>Erich Friedman</cp:lastModifiedBy>
  <dcterms:modified xsi:type="dcterms:W3CDTF">2020-08-28T21:57:31Z</dcterms:modified>
  <cp:revision>436</cp:revision>
  <dc:subject/>
  <dc:title>Slide 1</dc:title>
</cp:coreProperties>
</file>