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E8CE-5423-4D9D-8CD9-36F454C8A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2CF1-FECC-4FAE-B28C-EE84C147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6ED5-4DE9-4C18-81AD-510D06F1C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BB4D-2BF3-4678-9173-F4740B3A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BC4F-81B2-4AC6-B06C-AAE09FB1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9934-7CDB-436E-A0E0-04B4CBBF8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B514-AFFC-4898-8853-912B100F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E0CA-7108-422F-8F72-5EC44A5A5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D244-D10D-49A6-B9EE-741CE78B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1DCE-FDBE-4CE4-BF9E-51D6073E3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A3EF-64DA-49FF-8F07-7AE3391B1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AEFA-8415-4F12-9F8C-F726C999E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D794-9D05-4BDA-89CE-1C5C464D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A59F-84AB-4947-BEFD-9FFB31A4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DB26-FCC4-4851-B487-A8693DF84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8A29-7EF8-4D9E-B044-2600449A8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A251-862E-4A04-9EB6-351C3740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8E08-BCB2-456D-BA47-57EF6EAA7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3379-6F0D-466B-9218-A31AF3B0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7FDF-C211-4F7B-A70E-9605EE537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B14F-472E-45D5-8725-5FBA8B1CC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A6CD-B936-41B2-A0C3-A53C8496A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3A76-FFBB-431B-BE9D-AB2743750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PAUL MCCARTNEY ALBUM WAS    HIS FIRST IN        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Paul_McCartney_-_New.jpg"/>
          <p:cNvPicPr/>
          <p:nvPr/>
        </p:nvPicPr>
        <p:blipFill>
          <a:blip r:embed="rId1"/>
          <a:stretch/>
        </p:blipFill>
        <p:spPr>
          <a:xfrm>
            <a:off x="4800600" y="914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IS DIVIDED INTO 20, AND NEW YORK CITY INTO 5, OF WHAT TYPE OF ADMINISTRATIVE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3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INTED A RECIPE FOR WHAT DESSERT, USING ONLY BITTERSWEET CHOCOLATE AND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HIT SONG BY THE BY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ERR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58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 GUEVARA WROTE AN INFLUENTIAL 1961 BOOK ON WHAT TYPE OF WARF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CONTAINED THE SONG "AQUARI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AMETER OF AN ENGINE CYLINDER IN WHICH A PISTON TRAVELS IS CALLED IT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MAGAZINE'S "PERSON OF THE YEAR" IN 2006 TO RECOGNIZE ANONYMOUS CONTRIBUTIONS TO WIKIPEDIA AND YOUT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IS DIVIDED INTO 20, AND NEW YORK CITY INTO 5, OF WHAT TYPE OF ADMINISTRATIVE UN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990720" y="480060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0520" y="838080"/>
            <a:ext cx="4419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ANNIE LENNOX ALBUM CONTAINED 3 #1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nnie_Lennox_-_Bare_Album_Cover.jpg"/>
          <p:cNvPicPr/>
          <p:nvPr/>
        </p:nvPicPr>
        <p:blipFill>
          <a:blip r:embed="rId1"/>
          <a:stretch/>
        </p:blipFill>
        <p:spPr>
          <a:xfrm>
            <a:off x="4648320" y="914400"/>
            <a:ext cx="4012920" cy="401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533520" y="491184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152280" y="949320"/>
            <a:ext cx="4572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PAUL MCCARTNEY ALBUM WAS    HIS FIRST IN        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Paul_McCartney_-_New.jpg"/>
          <p:cNvPicPr/>
          <p:nvPr/>
        </p:nvPicPr>
        <p:blipFill>
          <a:blip r:embed="rId1"/>
          <a:stretch/>
        </p:blipFill>
        <p:spPr>
          <a:xfrm>
            <a:off x="4800600" y="914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04920" y="3809880"/>
            <a:ext cx="8610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ONYMS  OF  ANIMALS     (BURRO,  MOOSE,  TERN,  GORILLA,  HARE,  BOAR,  EWE,  BEAR,  GNU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3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INTED A RECIPE FOR WHAT DESSERT, USING ONLY BITTERSWEET CHOCOLATE AND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HIT SONG BY THE BY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 GUEVARA WROTE AN INFLUENTIAL 1961 BOOK ON WHAT TYPE OF WARF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CONTAINED THE SONG "AQUARI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AMETER OF AN ENGINE CYLINDER IN WHICH A PISTON TRAVELS IS CALLED IT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MAGAZINE'S "PERSON OF THE YEAR" IN 2006 TO RECOGNIZE ANONYMOUS CONTRIBUTIONS TO WIKIPEDIA AND YOUT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4419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ANNIE LENNOX ALBUM CONTAINED 3 #1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Annie_Lennox_-_Bare_Album_Cover.jpg"/>
          <p:cNvPicPr/>
          <p:nvPr/>
        </p:nvPicPr>
        <p:blipFill>
          <a:blip r:embed="rId1"/>
          <a:stretch/>
        </p:blipFill>
        <p:spPr>
          <a:xfrm>
            <a:off x="4648320" y="914400"/>
            <a:ext cx="4012920" cy="401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1:18:22Z</dcterms:created>
  <dc:creator>Jennifer Budzinski</dc:creator>
  <dc:description/>
  <dc:language>en-US</dc:language>
  <cp:lastModifiedBy>Erich Friedman</cp:lastModifiedBy>
  <dcterms:modified xsi:type="dcterms:W3CDTF">2020-08-28T21:59:23Z</dcterms:modified>
  <cp:revision>444</cp:revision>
  <dc:subject/>
  <dc:title>Slide 1</dc:title>
</cp:coreProperties>
</file>