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AA4D-2BE5-4249-BCB5-E37DE50D1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32DD-8170-423A-9C2E-20428DA05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5A47-4EEE-4145-B9D0-2223553CF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DACE-3FF5-453F-AD27-02C6B7A9E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8570-8E42-4D26-ACF4-97585B6A8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3CF8-EF4F-40CA-B4A6-993448FEE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1C66-484A-4EA5-99DC-EB8F8FC30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3421-D272-4AB3-9436-300D69DC2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8F42-B2D1-49E4-9C2F-71C296803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2AC9-C5B5-4EDA-BD8B-07D413994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041F-AD2F-4FFB-8B5E-A9673F358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5D50-1FEB-40CB-BF41-EBDD8D318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2512-322F-4866-84B0-013D5F9A3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3DDA-C62C-4306-9687-D88DA61E2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A16A-2B23-491B-AAC6-C17C42562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6424-F527-4447-897A-2FFA73323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DBC2-B984-4F97-9E65-43AB97F1E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8AEA-843E-41D9-940C-581440A40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3DA3-BD7A-41DD-B111-B5DFD3A43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2133-E479-4B98-A09C-AE0FFE70D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FF39-CA58-4D03-BC6B-6EC698128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1823-A2DE-4CEE-ACBE-0127425FC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7750-085B-4B1C-87F3-230571619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152280" y="990360"/>
            <a:ext cx="4572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3 PAUL MCCARTNEY ALBUM WAS    HIS FIRST IN        6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2" descr="Paul_McCartney_-_New.jpg"/>
          <p:cNvPicPr/>
          <p:nvPr/>
        </p:nvPicPr>
        <p:blipFill>
          <a:blip r:embed="rId1"/>
          <a:stretch/>
        </p:blipFill>
        <p:spPr>
          <a:xfrm>
            <a:off x="4800600" y="9144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533520" y="4876920"/>
            <a:ext cx="8076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ROU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ASKA IS DIVIDED INTO 20, AND NEW YORK CITY INTO 5, OF WHAT TYPE OF ADMINISTRATIVE UN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US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2013,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 NEW YORK TIM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INTED A RECIPE FOR WHAT DESSERT, USING ONLY BITTERSWEET CHOCOLATE AND W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REPEATED 3 TIMES IN THE TITLE OF A HIT SONG BY THE BY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ERRI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5888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E GUEVARA WROTE AN INFLUENTIAL 1961 BOOK ON WHAT TYPE OF WARF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CONTAINED THE SONG "AQUARIU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5360" y="762120"/>
            <a:ext cx="8153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IAMETER OF AN ENGINE CYLINDER IN WHICH A PISTON TRAVELS IS CALLED ITS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38120" y="762120"/>
            <a:ext cx="8267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IME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MAGAZINE'S "PERSON OF THE YEAR" IN 2006 TO RECOGNIZE ANONYMOUS CONTRIBUTIONS TO WIKIPEDIA AND YOUTUB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ASKA IS DIVIDED INTO 20, AND NEW YORK CITY INTO 5, OF WHAT TYPE OF ADMINISTRATIVE UN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990720" y="4800600"/>
            <a:ext cx="2819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20520" y="838080"/>
            <a:ext cx="44197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3 ANNIE LENNOX ALBUM CONTAINED 3 #1 SO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Annie_Lennox_-_Bare_Album_Cover.jpg"/>
          <p:cNvPicPr/>
          <p:nvPr/>
        </p:nvPicPr>
        <p:blipFill>
          <a:blip r:embed="rId1"/>
          <a:stretch/>
        </p:blipFill>
        <p:spPr>
          <a:xfrm>
            <a:off x="4648320" y="914400"/>
            <a:ext cx="4012920" cy="401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3"/>
          <p:cNvSpPr/>
          <p:nvPr/>
        </p:nvSpPr>
        <p:spPr>
          <a:xfrm>
            <a:off x="533520" y="491184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2"/>
          <p:cNvSpPr/>
          <p:nvPr/>
        </p:nvSpPr>
        <p:spPr>
          <a:xfrm>
            <a:off x="152280" y="949320"/>
            <a:ext cx="45720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3 PAUL MCCARTNEY ALBUM WAS    HIS FIRST IN        6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Paul_McCartney_-_New.jpg"/>
          <p:cNvPicPr/>
          <p:nvPr/>
        </p:nvPicPr>
        <p:blipFill>
          <a:blip r:embed="rId1"/>
          <a:stretch/>
        </p:blipFill>
        <p:spPr>
          <a:xfrm>
            <a:off x="4800600" y="9144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304920" y="3809880"/>
            <a:ext cx="8610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MONYMS  OF  ANIMALS     (BURRO,  MOOSE,  TERN,  GORILLA,  HARE,  BOAR,  EWE,  BEAR,  GNU)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2013,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 NEW YORK TIM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INTED A RECIPE FOR WHAT DESSERT, USING ONLY BITTERSWEET CHOCOLATE AND WA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REPEATED 3 TIMES IN THE TITLE OF A HIT SONG BY THE BY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E GUEVARA WROTE AN INFLUENTIAL 1961 BOOK ON WHAT TYPE OF WARFA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CONTAINED THE SONG "AQUARIU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IAMETER OF AN ENGINE CYLINDER IN WHICH A PISTON TRAVELS IS CALLED ITS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IME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MAGAZINE'S "PERSON OF THE YEAR" IN 2006 TO RECOGNIZE ANONYMOUS CONTRIBUTIONS TO WIKIPEDIA AND YOUTUB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066680"/>
            <a:ext cx="4419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3 ANNIE LENNOX ALBUM CONTAINED 3 #1 SO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2" descr="Annie_Lennox_-_Bare_Album_Cover.jpg"/>
          <p:cNvPicPr/>
          <p:nvPr/>
        </p:nvPicPr>
        <p:blipFill>
          <a:blip r:embed="rId1"/>
          <a:stretch/>
        </p:blipFill>
        <p:spPr>
          <a:xfrm>
            <a:off x="4648320" y="914400"/>
            <a:ext cx="4012920" cy="4013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5T11:18:22Z</dcterms:created>
  <dc:creator>Jennifer Budzinski</dc:creator>
  <dc:description/>
  <dc:language>en-US</dc:language>
  <cp:lastModifiedBy>Erich Friedman</cp:lastModifiedBy>
  <dcterms:modified xsi:type="dcterms:W3CDTF">2020-08-28T21:59:23Z</dcterms:modified>
  <cp:revision>444</cp:revision>
  <dc:subject/>
  <dc:title>Slide 1</dc:title>
</cp:coreProperties>
</file>