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3B4B-1848-4877-A39F-5E756590B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D207-9F41-4EB3-B082-3A577B4D0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F8F6-2C12-4001-8436-D704382BA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4CBC-47A7-4341-8464-739D08801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20FA-F50C-483E-BC22-6C94B7203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E063-9260-4655-BD4D-949F459B2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7B37-7E70-45A2-AD48-AFCC13AED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349C-09A5-4564-BC37-ACEF71DC3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EDBC-CDF7-486D-B5E2-349EF7084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604A-3628-4C09-A251-F351B29DF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992A-798C-4A50-93E7-8AE2F4522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3D39-B7D2-426C-AFB0-826CA89AD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C6A4-AA1A-417D-92DA-C83368CE8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7586-1DCF-4841-B84B-2466E7C39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6B85-C51B-4308-9C86-F92571518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7609-733C-44C3-88A8-4E60F05E3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6C8D-EEFB-477B-BE85-E691388F9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726D-C0DE-47F0-AF01-E49F35B52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604B-CD03-4384-8E05-3F4B02BE2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5720-0939-42E9-B58B-D48F58AA1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30E8-E21E-4F33-AEDD-27DE60E64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7525-3686-4584-9896-3ABC5DE40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A161A-E20D-47C8-BA23-91800B8EE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45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PAUL MCCARTNEY ALBUM WAS    HIS FIRST IN        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Paul_McCartney_-_New.jpg"/>
          <p:cNvPicPr/>
          <p:nvPr/>
        </p:nvPicPr>
        <p:blipFill>
          <a:blip r:embed="rId1"/>
          <a:stretch/>
        </p:blipFill>
        <p:spPr>
          <a:xfrm>
            <a:off x="4800600" y="914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SKA IS DIVIDED INTO 20, AND NEW YORK CITY INTO 5, OF WHAT TYPE OF ADMINISTRATIVE UN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3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INTED A RECIPE FOR WHAT DESSERT, USING ONLY BITTERSWEET CHOCOLATE AND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HIT SONG BY THE BY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ERR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588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 GUEVARA WROTE AN INFLUENTIAL 1961 BOOK ON WHAT TYPE OF WARF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CONTAINED THE SONG "AQUARI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AMETER OF AN ENGINE CYLINDER IN WHICH A PISTON TRAVELS IS CALLED IT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MAGAZINE'S "PERSON OF THE YEAR" IN 2006 TO RECOGNIZE ANONYMOUS CONTRIBUTIONS TO WIKIPEDIA AND YOUTU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SKA IS DIVIDED INTO 20, AND NEW YORK CITY INTO 5, OF WHAT TYPE OF ADMINISTRATIVE UN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990720" y="4800600"/>
            <a:ext cx="2819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0520" y="838080"/>
            <a:ext cx="4419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ANNIE LENNOX ALBUM CONTAINED 3 #1 SO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Annie_Lennox_-_Bare_Album_Cover.jpg"/>
          <p:cNvPicPr/>
          <p:nvPr/>
        </p:nvPicPr>
        <p:blipFill>
          <a:blip r:embed="rId1"/>
          <a:stretch/>
        </p:blipFill>
        <p:spPr>
          <a:xfrm>
            <a:off x="4648320" y="914400"/>
            <a:ext cx="4012920" cy="401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533520" y="491184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152280" y="949320"/>
            <a:ext cx="45720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PAUL MCCARTNEY ALBUM WAS    HIS FIRST IN        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Paul_McCartney_-_New.jpg"/>
          <p:cNvPicPr/>
          <p:nvPr/>
        </p:nvPicPr>
        <p:blipFill>
          <a:blip r:embed="rId1"/>
          <a:stretch/>
        </p:blipFill>
        <p:spPr>
          <a:xfrm>
            <a:off x="4800600" y="914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304920" y="3809880"/>
            <a:ext cx="8610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ONYMS  OF  ANIMALS     (BURRO,  MOOSE,  TERN,  GORILLA,  HARE,  BOAR,  EWE,  BEAR,  GNU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3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INTED A RECIPE FOR WHAT DESSERT, USING ONLY BITTERSWEET CHOCOLATE AND W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HIT SONG BY THE BY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 GUEVARA WROTE AN INFLUENTIAL 1961 BOOK ON WHAT TYPE OF WARF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CONTAINED THE SONG "AQUARI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AMETER OF AN ENGINE CYLINDER IN WHICH A PISTON TRAVELS IS CALLED IT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MAGAZINE'S "PERSON OF THE YEAR" IN 2006 TO RECOGNIZE ANONYMOUS CONTRIBUTIONS TO WIKIPEDIA AND YOUTU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4419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ANNIE LENNOX ALBUM CONTAINED 3 #1 SO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Annie_Lennox_-_Bare_Album_Cover.jpg"/>
          <p:cNvPicPr/>
          <p:nvPr/>
        </p:nvPicPr>
        <p:blipFill>
          <a:blip r:embed="rId1"/>
          <a:stretch/>
        </p:blipFill>
        <p:spPr>
          <a:xfrm>
            <a:off x="4648320" y="914400"/>
            <a:ext cx="4012920" cy="401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1:18:22Z</dcterms:created>
  <dc:creator>Jennifer Budzinski</dc:creator>
  <dc:description/>
  <dc:language>en-US</dc:language>
  <cp:lastModifiedBy>Erich Friedman</cp:lastModifiedBy>
  <dcterms:modified xsi:type="dcterms:W3CDTF">2020-08-28T21:59:23Z</dcterms:modified>
  <cp:revision>444</cp:revision>
  <dc:subject/>
  <dc:title>Slide 1</dc:title>
</cp:coreProperties>
</file>